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ansonGaieEspag.WAV" ContentType="audio/x-wav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AB7-E468-47EF-99DB-98786764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7B0-275D-4C94-8573-6D54D6F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8B6-A65D-4F69-87A7-17ADF6C4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8DC-444F-4516-8DA2-F26F525E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00F-A335-4CE3-B578-B810811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585-138E-4613-9A38-1C094B04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E36-B01B-4206-A3C4-00DC500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ABA-B6BC-4046-B7FF-DF69B8D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163-E1BE-4E6E-8B6F-68905EA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3A5-ABD9-47D8-958E-3B0F8DF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77B-1C1E-4B32-99D7-D174819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DD7-F585-4781-B5B1-88F871F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536E-CA34-495C-9882-207A1209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ansonGaieEspa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cthru?rEEhjTCZ0MUL2sUh-F8kt1yAQa3pGid90o1U8Pp0f06jBidZPiv4wOzRb1pZDpXnETQZf26rCacDX2tmCnfOHbsUQniU855wx8ZOtNxLQvhyTkubJWeKbMf6wmOKSuZf34IUsUkCGK0NKftlw3mctf4H0JhepZTP_ZBNr-tenxBD26SFWT_vZF7lHmRjjzdVPaGNsg2L7v2FvKFuKPhDzA==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24280"/>
            <a:ext cx="5076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Hoy es </a:t>
            </a:r>
            <a:fld id="{704238DE-663F-4A50-A9AC-87903277391B}" type="datetime2">
              <a:rPr b="1" lang="es-ES_tradnl" sz="2000" spc="-1" strike="noStrike">
                <a:solidFill>
                  <a:srgbClr val="993300"/>
                </a:solidFill>
                <a:latin typeface="Script MT Bold"/>
              </a:rPr>
              <a:t>viernes, 31 de julio de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Ahora mismo son las </a:t>
            </a:r>
            <a:fld id="{26235D5B-9B73-4E51-A2F1-D49402BDF92E}" type="datetime10"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16:40</a:t>
            </a:fld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Relájate, acomodate y disfrutal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3590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68640"/>
            <a:ext cx="45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8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4019400"/>
            <a:ext cx="2376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Casi no ven l</a:t>
            </a:r>
            <a:r>
              <a:rPr b="1" lang="es-VE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a cama</a:t>
            </a: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 y apenas se acuerdan de como era el </a:t>
            </a:r>
            <a:r>
              <a:rPr b="1" lang="es-ES" sz="26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718080"/>
            <a:ext cx="334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Script MT Bold"/>
              </a:rPr>
              <a:t>Te toca enviarselo a alguien que quieras hacer rei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2700360" cy="335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6338880"/>
            <a:ext cx="230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Wide Latin"/>
              </a:rPr>
              <a:t>FI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8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5373720"/>
            <a:ext cx="568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Entre mujeres de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 u="sng">
                <a:solidFill>
                  <a:srgbClr val="ffff33"/>
                </a:solidFill>
                <a:uFillTx/>
                <a:latin typeface="Times New Roman"/>
              </a:rPr>
              <a:t>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00ff"/>
                </a:solidFill>
                <a:uFillTx/>
                <a:latin typeface="Times New Roman"/>
              </a:rPr>
              <a:t>1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00ff66"/>
                </a:solidFill>
                <a:uFillTx/>
                <a:latin typeface="Times New Roman"/>
              </a:rPr>
              <a:t>2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00ffff"/>
                </a:solidFill>
                <a:uFillTx/>
                <a:latin typeface="Times New Roman"/>
              </a:rPr>
              <a:t>3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9933"/>
                </a:solidFill>
                <a:uFillTx/>
                <a:latin typeface="Times New Roman"/>
              </a:rPr>
              <a:t>4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ccff"/>
                </a:solidFill>
                <a:uFillTx/>
                <a:latin typeface="Times New Roman"/>
              </a:rPr>
              <a:t>5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ffcc"/>
                </a:solidFill>
                <a:uFillTx/>
                <a:latin typeface="Times New Roman"/>
              </a:rPr>
              <a:t>6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y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 u="sng">
                <a:solidFill>
                  <a:srgbClr val="9966ff"/>
                </a:solidFill>
                <a:uFillTx/>
                <a:latin typeface="Times New Roman"/>
              </a:rPr>
              <a:t>8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429000"/>
            <a:ext cx="558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800000"/>
                </a:solidFill>
                <a:latin typeface="Times New Roman"/>
              </a:rPr>
              <a:t>¿Cuál es la diferencia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1080" y="692280"/>
            <a:ext cx="89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341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2920" y="422100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La llevas a la c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 </a:t>
            </a: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le cuentas un </a:t>
            </a:r>
            <a:r>
              <a:rPr b="1" lang="es-ES" sz="36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14136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s-ES" sz="46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46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18</a:t>
            </a:r>
            <a:r>
              <a:rPr b="1" lang="es-ES" sz="46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r>
              <a:rPr b="1" lang="es-ES" sz="4600" spc="-1" strike="noStrike">
                <a:solidFill>
                  <a:srgbClr val="ff00ff"/>
                </a:solidFill>
                <a:latin typeface="Comic Sans MS"/>
                <a:ea typeface="Tahom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1082880" cy="38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81080" y="522936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Le cuentas un </a:t>
            </a:r>
            <a:r>
              <a:rPr b="1" lang="es-ES" sz="4400" spc="-1" strike="noStrike">
                <a:solidFill>
                  <a:srgbClr val="cc0099"/>
                </a:solidFill>
                <a:latin typeface="Arial Black"/>
                <a:ea typeface="Tahoma"/>
              </a:rPr>
              <a:t>CUENTO</a:t>
            </a: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 y te la llevas a la </a:t>
            </a:r>
            <a:r>
              <a:rPr b="0" lang="es-ES" sz="4400" spc="-1" strike="noStrike">
                <a:solidFill>
                  <a:srgbClr val="ff0000"/>
                </a:solidFill>
                <a:latin typeface="Comic Sans MS"/>
                <a:ea typeface="Tahoma"/>
              </a:rPr>
              <a:t>cama</a:t>
            </a: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monica_modeling_vogue_md_wht.gif (12383 bytes)"/>
          <p:cNvPicPr/>
          <p:nvPr/>
        </p:nvPicPr>
        <p:blipFill>
          <a:blip r:embed="rId2"/>
          <a:stretch/>
        </p:blipFill>
        <p:spPr>
          <a:xfrm>
            <a:off x="3780000" y="2997360"/>
            <a:ext cx="1584000" cy="38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997360"/>
            <a:ext cx="4356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  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2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60640"/>
            <a:ext cx="40672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Comic Sans MS"/>
                <a:ea typeface="Tahoma"/>
              </a:rPr>
              <a:t>La llevas a la cama sin tener que contarle</a:t>
            </a:r>
            <a:r>
              <a:rPr b="0" lang="es-ES" sz="4000" spc="-1" strike="noStrike">
                <a:solidFill>
                  <a:srgbClr val="00ff66"/>
                </a:solidFill>
                <a:latin typeface="Comic Sans MS"/>
                <a:ea typeface="Tahoma"/>
              </a:rPr>
              <a:t> </a:t>
            </a:r>
            <a:r>
              <a:rPr b="0" lang="es-E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ningún</a:t>
            </a:r>
            <a:r>
              <a:rPr b="0" lang="es-ES" sz="4000" spc="-1" strike="noStrike">
                <a:solidFill>
                  <a:srgbClr val="00ff66"/>
                </a:solidFill>
                <a:latin typeface="Comic Sans MS"/>
                <a:ea typeface="Tahoma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 Black"/>
                <a:ea typeface="Tahoma"/>
              </a:rPr>
              <a:t>CUENTO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r>
              <a:rPr b="0" lang="es-ES" sz="40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448000" cy="292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3429000"/>
            <a:ext cx="482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3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58136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Ella te cuenta un </a:t>
            </a:r>
            <a:r>
              <a:rPr b="1" lang="es-ES" sz="3200" spc="-1" strike="noStrike">
                <a:solidFill>
                  <a:srgbClr val="cc0066"/>
                </a:solidFill>
                <a:latin typeface="Arial Black"/>
                <a:ea typeface="Tahoma"/>
              </a:rPr>
              <a:t>CUENTO</a:t>
            </a:r>
            <a:r>
              <a:rPr b="0" lang="es-ES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 y te lleva a l</a:t>
            </a:r>
            <a:r>
              <a:rPr b="0" lang="es-VE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a .. C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41128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1300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4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4869000"/>
            <a:ext cx="28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Le cuentas un </a:t>
            </a:r>
            <a:r>
              <a:rPr b="1" lang="es-ES" sz="2800" spc="-1" strike="noStrike">
                <a:solidFill>
                  <a:srgbClr val="6600cc"/>
                </a:solidFill>
                <a:latin typeface="Arial Black"/>
                <a:ea typeface="Tahoma"/>
              </a:rPr>
              <a:t>CUENTO</a:t>
            </a: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 para evitar ir a l</a:t>
            </a:r>
            <a:r>
              <a:rPr b="1" lang="es-VE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a... Cama</a:t>
            </a: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995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5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60640"/>
            <a:ext cx="2133720" cy="29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4076640"/>
            <a:ext cx="3673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Comic Sans MS"/>
                <a:ea typeface="Tahoma"/>
              </a:rPr>
              <a:t>Ella te dice: "pero tu, en la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Tahoma"/>
              </a:rPr>
              <a:t>cama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, </a:t>
            </a:r>
            <a:r>
              <a:rPr b="0" lang="es-ES" sz="3600" spc="-1" strike="noStrike">
                <a:solidFill>
                  <a:srgbClr val="ff9966"/>
                </a:solidFill>
                <a:latin typeface="Comic Sans MS"/>
                <a:ea typeface="Tahoma"/>
              </a:rPr>
              <a:t>eres puro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r>
              <a:rPr b="1" lang="es-ES" sz="3600" spc="-1" strike="noStrike">
                <a:solidFill>
                  <a:srgbClr val="ff0099"/>
                </a:solidFill>
                <a:latin typeface="Arial Black"/>
                <a:ea typeface="Tahoma"/>
              </a:rPr>
              <a:t>CUENTO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."</a:t>
            </a:r>
            <a:r>
              <a:rPr b="0" lang="es-ES" sz="32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45007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6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833640"/>
            <a:ext cx="2000160" cy="302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24000" y="486900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Eres tu quien no quiere saber nada ni de </a:t>
            </a:r>
            <a:r>
              <a:rPr b="1" lang="es-ES" sz="30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. . . ni de </a:t>
            </a:r>
            <a:r>
              <a:rPr b="1" lang="es-ES" sz="4000" spc="-1" strike="noStrike">
                <a:solidFill>
                  <a:srgbClr val="800000"/>
                </a:solidFill>
                <a:latin typeface="Comic Sans MS"/>
                <a:ea typeface="Tahoma"/>
              </a:rPr>
              <a:t>camas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07:14Z</dcterms:created>
  <dc:creator/>
  <dc:description/>
  <dc:language>en-US</dc:language>
  <cp:lastModifiedBy>Fasola</cp:lastModifiedBy>
  <dcterms:modified xsi:type="dcterms:W3CDTF">2009-01-07T02:06:42Z</dcterms:modified>
  <cp:revision>34</cp:revision>
  <dc:subject/>
  <dc:title>Diapositiva 1</dc:title>
</cp:coreProperties>
</file>