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Amor%20especial-%20piano%20SUAVE%2093%20kb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B8A3-4BE9-422E-A654-BB76438D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6306-058E-42B1-A2AE-A59C2C65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4838-C205-4FA4-A9E9-7E407FF1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010D-7E78-4DBD-A986-40457DE8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8789-AC42-4343-B6EB-3987706B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0F01-707F-4A3D-87FD-D0A6981B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1B11-9A3A-4181-AC55-15A2199A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60BA-8EAB-43C1-B8D7-985B31C6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D481-8E07-41FD-9A4A-20B96597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3078-2339-4E1B-868D-405C44C3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7C16-5315-426D-8A04-E73AB1F4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3EF2-2E5B-4ECC-B558-C259E09C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E9E0-1E03-4D72-B08A-A282BD969C0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mor%20especial-%20piano%20SUAVE%2093%20kb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78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50920" y="189000"/>
            <a:ext cx="257328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Monotype Corsiva"/>
              </a:rPr>
              <a:t>C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76360" y="1557360"/>
            <a:ext cx="345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Monotype Corsiva"/>
              </a:rPr>
              <a:t>riart´s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43280" y="2565360"/>
            <a:ext cx="1923840" cy="7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Monotype Corsiva"/>
              </a:rPr>
              <a:t>Net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45" name=""/>
          <p:cNvSpPr/>
          <p:nvPr/>
        </p:nvSpPr>
        <p:spPr>
          <a:xfrm>
            <a:off x="213120" y="5661000"/>
            <a:ext cx="370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Edição e Produ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Euclimaec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1826280" y="3448080"/>
            <a:ext cx="59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riartsnet@hotmail.co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2163240" y="3976560"/>
            <a:ext cx="507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33"/>
                </a:solidFill>
                <a:latin typeface="Bookman Old Style"/>
              </a:rPr>
              <a:t>Apresenta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360" y="1980720"/>
            <a:ext cx="5334120" cy="312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Ya grité y salté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De tanta felicidad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Ya viví de am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e hice juramentos etern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Pero fallé muchas ve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19280" y="762120"/>
            <a:ext cx="5905440" cy="4113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54100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Ya lloré oyendo música y viendo foto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5181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Ya llamé sólo para escuchar una voz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Ya me apasione por una sonris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5456160"/>
            <a:ext cx="9144000" cy="109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Ya pensé que me moriría de tanta triste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5318280"/>
            <a:ext cx="9144000" cy="94716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Tuve miedo de perder a alguien especial (y acabé perdiéndolo) !Mas sobreviví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533412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Y todavía vivo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No paso por la vida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Y usted también no debería pasar.  VIVA!!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274320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Es bueno ir a la lucha con determinación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abrazar la vida con pasión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perder con clase y vencer con osadí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porque el mundo pertenece a quien se atreve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LA VIDA ES MUCH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para ser insignificante"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Chapl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"/>
          <p:cNvSpPr/>
          <p:nvPr/>
        </p:nvSpPr>
        <p:spPr>
          <a:xfrm>
            <a:off x="826920" y="1773360"/>
            <a:ext cx="7632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Comic Sans MS"/>
              </a:rPr>
              <a:t>Este contenido no debe quedarse en usted, páselo a la mayor cantidad de personas que conozca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783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  <a:ea typeface="Arial"/>
              </a:rPr>
              <a:t>VIDA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6324480"/>
            <a:ext cx="64008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Texto de Charles Chapl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4800240"/>
            <a:ext cx="9144000" cy="167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Ya perdoné errores casi imperdonables. Intenté sustituir personas insustituib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Olvidar personas inolvidabl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7760"/>
            <a:ext cx="9144000" cy="5668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4581360"/>
            <a:ext cx="9144000" cy="227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Ya hice cosas por impuls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Ya me decepcioné de person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Que pensé que nunca me decepcionarí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ero también yo decepcioné a alguien.  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5867280"/>
            <a:ext cx="9144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Ya abracé para proteger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6624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5734080"/>
            <a:ext cx="8229600" cy="11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omic Sans MS"/>
              </a:rPr>
              <a:t>Ya reí cuando no podía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0" y="198360"/>
            <a:ext cx="6477120" cy="94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Ya hice amigos eternos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4876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Ya amé y fuí amado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Pero también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Ya fuí rechazado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5761080"/>
            <a:ext cx="8229600" cy="94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Ya fuí amado y no supe ama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19:10:54Z</dcterms:created>
  <dc:creator>Duque</dc:creator>
  <dc:description/>
  <dc:language>en-US</dc:language>
  <cp:lastModifiedBy>*</cp:lastModifiedBy>
  <dcterms:modified xsi:type="dcterms:W3CDTF">2008-04-29T16:28:28Z</dcterms:modified>
  <cp:revision>35</cp:revision>
  <dc:subject/>
  <dc:title>Não crio juizo na VIDA!</dc:title>
</cp:coreProperties>
</file>