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Amor%20especial-%20piano%20SUAVE%2093%20kb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B0CF-C5C9-4D9C-83BB-C6813B307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E225-D8D4-4CA9-BFBE-682A8E67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B9F8-35F2-4476-AE74-F493467F4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6C7F-51EB-40E7-9107-0FAC436E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4789-975E-4A9A-B4B8-B2462B06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4B57-6C36-48C1-907C-9E5372B0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256E-ED9B-4A1C-AED4-4919450F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76F4-E1AC-41C7-B687-38C1E241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AAFF-AFE2-42C6-B4F3-FFC1E38A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898B-8042-4918-B90C-554FCD5B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0A52-01AB-45EC-B6F0-0AC24686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7921-72CB-4DCF-A64D-DDA8A576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A0D7-5A0F-41D4-AE9C-4361F97AD00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mor%20especial-%20piano%20SUAVE%2093%20kb.wav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783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50920" y="189000"/>
            <a:ext cx="257328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Monotype Corsiva"/>
              </a:rPr>
              <a:t>C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76360" y="1557360"/>
            <a:ext cx="345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Monotype Corsiva"/>
              </a:rPr>
              <a:t>riart´s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43280" y="2565360"/>
            <a:ext cx="1923840" cy="77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Monotype Corsiva"/>
              </a:rPr>
              <a:t>Net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45" name=""/>
          <p:cNvSpPr/>
          <p:nvPr/>
        </p:nvSpPr>
        <p:spPr>
          <a:xfrm>
            <a:off x="213120" y="5661000"/>
            <a:ext cx="370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Edição e Produ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Euclimaeci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1826280" y="3448080"/>
            <a:ext cx="591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riartsnet@hotmail.co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"/>
          <p:cNvSpPr/>
          <p:nvPr/>
        </p:nvSpPr>
        <p:spPr>
          <a:xfrm>
            <a:off x="2163240" y="3976560"/>
            <a:ext cx="507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33"/>
                </a:solidFill>
                <a:latin typeface="Bookman Old Style"/>
              </a:rPr>
              <a:t>Apresenta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-360" y="1980720"/>
            <a:ext cx="5334120" cy="312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Ya grité y salté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De tanta felicidad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Ya viví de am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e hice juramentos etern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Pero fallé muchas ve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19280" y="762120"/>
            <a:ext cx="5905440" cy="4113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54100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Ya lloré oyendo música y viendo foto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5181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Ya llamé sólo para escuchar una voz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Ya me apasione por una sonris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5456160"/>
            <a:ext cx="9144000" cy="109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Ya pensé que me moriría de tanta triste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5318280"/>
            <a:ext cx="9144000" cy="94716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Tuve miedo de perder a alguien especial (y acabé perdiéndolo) !Mas sobreviví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80880" y="533412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Y todavía vivo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No paso por la vida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Y usted también no debería pasar.  VIVA!!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2743200"/>
            <a:ext cx="9144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Es bueno ir a la lucha con determinación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abrazar la vida con pasión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perder con clase y vencer con osadí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porque el mundo pertenece a quien se atreve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LA VIDA ES MUCH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para ser insignificante"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Chapl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"/>
          <p:cNvSpPr/>
          <p:nvPr/>
        </p:nvSpPr>
        <p:spPr>
          <a:xfrm>
            <a:off x="826920" y="1773360"/>
            <a:ext cx="7632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Comic Sans MS"/>
              </a:rPr>
              <a:t>Este contenido no debe quedarse en usted, páselo a la mayor cantidad de personas que conozca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783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  <a:ea typeface="Arial"/>
              </a:rPr>
              <a:t>VIDA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6324480"/>
            <a:ext cx="64008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Texto de Charles Chapl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4800240"/>
            <a:ext cx="9144000" cy="167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Ya perdoné errores casi imperdonables. Intenté sustituir personas insustituib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Olvidar personas inolvidable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77760"/>
            <a:ext cx="9144000" cy="5668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4581360"/>
            <a:ext cx="9144000" cy="227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Ya hice cosas por impuls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Ya me decepcioné de person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Que pensé que nunca me decepcionarí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ero también yo decepcioné a alguien.  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5867280"/>
            <a:ext cx="9144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Ya abracé para proteger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6624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5734080"/>
            <a:ext cx="8229600" cy="115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Comic Sans MS"/>
              </a:rPr>
              <a:t>Ya reí cuando no podía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6000" y="198360"/>
            <a:ext cx="6477120" cy="94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Ya hice amigos eternos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4876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Ya amé y fuí amado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Pero también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Ya fuí rechazado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5761080"/>
            <a:ext cx="8229600" cy="94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Ya fuí amado y no supe amar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19:10:54Z</dcterms:created>
  <dc:creator>Duque</dc:creator>
  <dc:description/>
  <dc:language>en-US</dc:language>
  <cp:lastModifiedBy>*</cp:lastModifiedBy>
  <dcterms:modified xsi:type="dcterms:W3CDTF">2008-04-29T16:28:28Z</dcterms:modified>
  <cp:revision>35</cp:revision>
  <dc:subject/>
  <dc:title>Não crio juizo na VIDA!</dc:title>
</cp:coreProperties>
</file>