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6C02-8985-4E38-961B-5B8BF9A1E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0FCF-5D8D-45E5-BAD2-EDD508491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DF7B-4EE2-4667-B7A7-7B3A70EAC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0FD8-2F7C-4151-A561-3B4CAED0D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EC22-7E6C-4520-AF7D-589F201A8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D55B-1F6C-41E0-9AD6-ED545BD68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5223-5D88-4BFC-9B28-E6D4F439A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E839-218E-48B5-833C-3AD675BA8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BEDA-51AE-4F8F-AE08-74EDFD9C5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0511-2B84-46B4-9C9F-3B679435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1817-205C-4DD7-AFFE-2F303A97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F717-93D9-47EF-84DD-3978B59A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B4503-FEB6-45BF-9F85-9A041B39F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9640" y="1341360"/>
            <a:ext cx="806472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est del </a:t>
            </a:r>
            <a:endParaRPr b="0" lang="en-US" sz="1800" spc="1" strike="noStrike">
              <a:ln w="2556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mbarazo</a:t>
            </a:r>
            <a:endParaRPr b="0" lang="en-US" sz="1800" spc="1" strike="noStrike">
              <a:ln w="2556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50920" y="2708280"/>
            <a:ext cx="85327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i estás a favor de la vida, reenvíalo porque a veces los propagandistas de la muerte pueden confundir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No permitamos que nos engañen como lo han venido haciend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560232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uchos inocentes dependen de nosotro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7440" y="333360"/>
            <a:ext cx="8675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ste E-mail lo comparto contigo porque todos tenemos derecho a estar aquí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3600"/>
                            </p:stCondLst>
                            <p:childTnLst>
                              <p:par>
                                <p:cTn id="289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9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340"/>
                            </p:stCondLst>
                            <p:childTnLst>
                              <p:par>
                                <p:cTn id="292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1400"/>
                            </p:stCondLst>
                            <p:childTnLst>
                              <p:par>
                                <p:cTn id="298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4360" y="1268280"/>
            <a:ext cx="78721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¿Qué recomendarías o pensarías que se debe hacer ante los siguientes cinco casos de embarazo?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9640" y="549360"/>
            <a:ext cx="8170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 padre es asmático, la madre es tuberculosa. Tienen cuatro hijos. El primero es ciego, el segundo es sordo, el tercero está muerto y el cuarto tiene tuberculosis. La madre está embarazada de nuev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¿Recomendarías el aborto en esta situación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2852640"/>
            <a:ext cx="813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hombre blanco viola a una niña negra de 13 años y esta se embaraza. Si fueras el padre de esta jov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¿Le recomendarías el aborto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22320" y="5049720"/>
            <a:ext cx="72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4684680"/>
            <a:ext cx="813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señora está embarazada; ya tiene muchos hijos, dos de ellos han muerto, su esposo está en la guerra y a ella le queda poco tiempo de vi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¿Le recomendarías el aborto a esta señora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11280" y="333360"/>
            <a:ext cx="813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ministro y su esposa quienes enfrentan problemas económicos muy fuertes, ya tienen 14 hijos, son realmente pobres. Considerando su extrema indigenc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¿Recomendarías que la esposa abortara su decimoquinto hijo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2889360"/>
            <a:ext cx="80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joven está embarazada; no está casada y su prometido no es el papá del niño que está esperan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¿Le recomendarías que abortar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4724280"/>
            <a:ext cx="8496000" cy="19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nclusion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 contestaste que (SI) en alguna de las situaciones anteriores, lee lo siguient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900"/>
                            </p:stCondLst>
                            <p:childTnLst>
                              <p:par>
                                <p:cTn id="6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356000" y="620640"/>
            <a:ext cx="4370400" cy="4753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9640" y="557388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ubieras matado 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615960"/>
            <a:ext cx="360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n el primer cas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l padre  asmático, la madre  tuberculosa, tuvieron cuatro hijos: el primero ciego, el segundo sordo, el tercero había muer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y el cuarto tenía tuberculos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a madre estaba embarazada de nuevo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03640" y="5516640"/>
            <a:ext cx="31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3300"/>
                </a:solidFill>
                <a:latin typeface="Arial"/>
              </a:rPr>
              <a:t>Beethoven.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3971880" y="333360"/>
            <a:ext cx="4703760" cy="5184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50920" y="4010040"/>
            <a:ext cx="3313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ubieras asesinado a una de las cantantes negras más famos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719280"/>
            <a:ext cx="302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n el segundo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Un hombre blanco viola a una niña negra de 13 años y esta se embaraz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11640" y="573408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3300"/>
                </a:solidFill>
                <a:latin typeface="Arial"/>
              </a:rPr>
              <a:t>Ethel Wal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181400" y="351000"/>
            <a:ext cx="4422960" cy="4968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95280" y="4292640"/>
            <a:ext cx="3527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 hubiera tocado asesinar a un ser muy humano, a un pastor de almas, 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49360"/>
            <a:ext cx="331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n el tercer caso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Una señora está embarazada; ya tiene muchos hijos, dos de ellos han muerto, su esposo está en la guerra y a ella le queda poco tiempo de vida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95640" y="5535720"/>
            <a:ext cx="49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Juan Pablo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400640" y="351000"/>
            <a:ext cx="4132080" cy="4968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24000" y="3933720"/>
            <a:ext cx="3743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ubieras aniquilado a uno de los más grandes predicadores del siglo pasa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404640"/>
            <a:ext cx="39607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n el cuarto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Un ministro y su esposa con problemas económicos muy fuertes, ya tienen 14 hijos, son realmente pobres.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5516640"/>
            <a:ext cx="38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3300"/>
                </a:solidFill>
                <a:latin typeface="Arial"/>
              </a:rPr>
              <a:t>Juan Wesl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957480" y="243000"/>
            <a:ext cx="4502160" cy="5454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68360" y="5008680"/>
            <a:ext cx="324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ubieras asesinado nada menos que 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33360"/>
            <a:ext cx="331128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n el quinto caso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Una joven está embarazada; no está casada y su prometido no es el papá del niño que está esperando.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140360" y="5877000"/>
            <a:ext cx="43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JESUCRIS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6T06:05:02Z</dcterms:created>
  <dc:creator>eduardo</dc:creator>
  <dc:description/>
  <dc:language>en-US</dc:language>
  <cp:lastModifiedBy>Eduardo</cp:lastModifiedBy>
  <dcterms:modified xsi:type="dcterms:W3CDTF">2006-06-11T08:06:03Z</dcterms:modified>
  <cp:revision>9</cp:revision>
  <dc:subject/>
  <dc:title>Diapositiva 1</dc:title>
</cp:coreProperties>
</file>