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1816-C1A0-4D69-BFED-E0E54A8F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B856-8C80-4BF4-83D1-BAB2D871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4858-6001-40E0-AC40-8634D97E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8BED-F961-43E5-A6DB-483AC1CA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BAA3-1CE4-41D0-8EEB-E0246D2D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94CB-A262-4EBB-9FEE-F5E33431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D8EB-253A-4426-871B-3EE57BD7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898A-DEAE-4BFB-8D2C-2F10F610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5EDD-6B5C-4B33-AFF5-EF1D1BFC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6B4B-AB2D-43FF-8EC1-3FBD7F47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B5A-EB45-4C30-B130-2058C6EA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683F-C758-4A72-9AA9-A309B750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C965-F33B-4968-9709-53136BF5B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1341360"/>
            <a:ext cx="8064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est del 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mbarazo</a:t>
            </a:r>
            <a:endParaRPr b="0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2708280"/>
            <a:ext cx="8532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i estás a favor de la vida, reenvíalo porque a veces los propagandistas de la muerte pueden confundir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o permitamos que nos engañen como lo han venido haciend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56023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uchos inocentes dependen de nosotro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7440" y="333360"/>
            <a:ext cx="867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ste E-mail lo comparto contigo porque todos tenemos derecho a estar aquí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600"/>
                            </p:stCondLst>
                            <p:childTnLst>
                              <p:par>
                                <p:cTn id="28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34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140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1268280"/>
            <a:ext cx="7872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¿Qué recomendarías o pensarías que se debe hacer ante los siguientes cinco casos de embarazo?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549360"/>
            <a:ext cx="817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padre es asmático, la madre es tuberculosa. Tienen cuatro hijos. El primero es ciego, el segundo es sordo, el tercero está muerto y el cuarto tiene tuberculosis. La madre está embarazada de nuev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¿Recomendarías el aborto en esta situación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285264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hombre blanco viola a una niña negra de 13 años y esta se embaraza. Si fueras el padre de esta jo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¿Le recomendarías el aborto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22320" y="504972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468468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señora está embarazada; ya tiene muchos hijos, dos de ellos han muerto, su esposo está en la guerra y a ella le queda poco tiempo de v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¿Le recomendarías el aborto a esta señora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33336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ministro y su esposa quienes enfrentan problemas económicos muy fuertes, ya tienen 14 hijos, son realmente pobres. Considerando su extrema indige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¿Recomendarías que la esposa abortara su decimoquinto hijo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288936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joven está embarazada; no está casada y su prometido no es el papá del niño que está espera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¿Le recomendarías que aborta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724280"/>
            <a:ext cx="849600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clusio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 contestaste que (SI) en alguna de las situaciones anteriores, lee lo siguient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900"/>
                            </p:stCondLst>
                            <p:childTnLst>
                              <p:par>
                                <p:cTn id="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356000" y="620640"/>
            <a:ext cx="4370400" cy="4753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9640" y="55738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bieras matado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615960"/>
            <a:ext cx="360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 el primer ca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l padre  asmático, la madre  tuberculosa, tuvieron cuatro hijos: el primero ciego, el segundo sordo, el tercero había muer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 el cuarto tenía tuberculo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a madre estaba embarazada de nuevo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03640" y="551664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Arial"/>
              </a:rPr>
              <a:t>Beethoven.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971880" y="333360"/>
            <a:ext cx="4703760" cy="518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4010040"/>
            <a:ext cx="331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bieras asesinado a una de las cantantes negras más famos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71928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 el segund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n hombre blanco viola a una niña negra de 13 años y esta se embara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11640" y="57340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Arial"/>
              </a:rPr>
              <a:t>Ethel Wal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81400" y="351000"/>
            <a:ext cx="4422960" cy="4968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5280" y="4292640"/>
            <a:ext cx="352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 hubiera tocado asesinar a un ser muy humano, a un pastor de almas,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49360"/>
            <a:ext cx="331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 el tercer cas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na señora está embarazada; ya tiene muchos hijos, dos de ellos han muerto, su esposo está en la guerra y a ella le queda poco tiempo de vid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5535720"/>
            <a:ext cx="49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Juan Pablo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400640" y="351000"/>
            <a:ext cx="4132080" cy="4968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3933720"/>
            <a:ext cx="374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bieras aniquilado a uno de los más grandes predicadores del siglo pas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404640"/>
            <a:ext cx="3960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 el cuarto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n ministro y su esposa con problemas económicos muy fuertes, ya tienen 14 hijos, son realmente pobres.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5516640"/>
            <a:ext cx="38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Arial"/>
              </a:rPr>
              <a:t>Juan Wes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957480" y="243000"/>
            <a:ext cx="4502160" cy="5454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8360" y="5008680"/>
            <a:ext cx="324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bieras asesinado nada menos que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33360"/>
            <a:ext cx="33112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 el quinto cas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na joven está embarazada; no está casada y su prometido no es el papá del niño que está esperando.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5877000"/>
            <a:ext cx="43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JESUCRI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06:05:02Z</dcterms:created>
  <dc:creator>eduardo</dc:creator>
  <dc:description/>
  <dc:language>en-US</dc:language>
  <cp:lastModifiedBy>Eduardo</cp:lastModifiedBy>
  <dcterms:modified xsi:type="dcterms:W3CDTF">2006-06-11T08:06:03Z</dcterms:modified>
  <cp:revision>9</cp:revision>
  <dc:subject/>
  <dc:title>Diapositiva 1</dc:title>
</cp:coreProperties>
</file>