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4231-5F86-428F-9389-6C61C3E3D0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603-9CCC-4F7F-919A-F187A1ACD9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0D0-D129-4AD9-BC53-357EAD8C8B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551C-47B0-406A-9E41-07AC58A75C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78A-4659-42B3-A675-A89784383F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0ED0-427B-4C3E-8AD9-243F1D06A2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F3C-6B52-41D3-BD2F-2EA7FE969F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F38-F08B-44F8-9354-FC932FA826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96F-4B73-486C-A710-DFD9C5B293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CF54-9051-45F2-A696-B58F49907E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8791-465A-4911-9AFD-4B1B781F13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06E-D700-4A2C-A024-96881F8307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32D-835C-4A82-A8B9-03A2F5ED62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B722-8CDC-4495-B816-71001AD09D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B88-5E71-4CA9-89DF-1E0D9AC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41D-BC7D-4C6E-800A-F88948F9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005-B43A-4132-916C-E382C9A3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A47-F43F-4E2B-AC26-BF574171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18C-FE97-4455-A293-13EBE81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FCF-2902-4AD1-8D65-2135338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424-3B60-4F3A-B121-D8DE413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AA7-2F1C-45B2-8702-8EBCCC69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12A-D2E8-4819-97DA-F558D8C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E4D-7EAC-4228-B792-BD1C14A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358-71CB-4401-8AD3-8255667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B1E-407B-4DEC-B33E-F575062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9EB-325D-4C0E-8BCF-B48197A49C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1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DigifaceWide"/>
              </a:rPr>
              <a:t>Para homens com muito pouco tempo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cc"/>
                </a:solidFill>
                <a:latin typeface="DigifaceWide"/>
              </a:rPr>
              <a:t>(Für Männer die wenig Zeit hab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588000" y="63230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DigifaceWide"/>
              </a:rPr>
              <a:t>Clic para continu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NikkiJeanRopaIntimaBlanca&amp;NegraBlancaRojoSaco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NikkiJeanRopaIntimaBlanca&amp;NegraBlancaRojoSac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NikkiJeanRopaIntimaBlanca&amp;NegraBlancaRojoSac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ikkiJeanRopaIntimaBlanca&amp;NegraBlancaRojoSaco12"/>
          <p:cNvPicPr/>
          <p:nvPr/>
        </p:nvPicPr>
        <p:blipFill>
          <a:blip r:embed="rId1"/>
          <a:stretch/>
        </p:blipFill>
        <p:spPr>
          <a:xfrm>
            <a:off x="219564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NikkiJeanRopaIntimaBlanca&amp;NegraBlancaRojoSac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NikkiJeanRopaIntimaBlanca&amp;NegraBlancaRojoSac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NikkiJeanRopaIntimaBlanca&amp;NegraBlancaRojoSac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NikkiJeanRopaIntimaBlanca&amp;NegraBlancaRojoSaco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NikkiJeanRopaIntimaBlanca&amp;NegraBlancaRojoSac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ikkiJeanRopaIntimaBlanca&amp;NegraBlancaRojoSaco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NikkiJeanRopaIntimaBlanca&amp;NegraBlancaRojoSaco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NikkiJeanRopaIntimaBlanca&amp;NegraBlancaRojoSaco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NikkiJeanRopaIntimaBlanca&amp;NegraBlancaRojoSaco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NikkiJeanRopaIntimaBlanca&amp;NegraBlancaRojoSaco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NikkiJeanRopaIntimaBlanca&amp;NegraBlancaRojoSaco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NikkiJeanRopaIntimaBlanca&amp;NegraBlancaRojoSaco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NikkiJeanRopaIntimaBlanca&amp;NegraBlancaRojoSaco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9:05:36Z</dcterms:created>
  <dc:creator/>
  <dc:description/>
  <dc:language>en-US</dc:language>
  <cp:lastModifiedBy>Tordino, Carlos (NE-MCC/3); +49-5361-9-34495</cp:lastModifiedBy>
  <dcterms:modified xsi:type="dcterms:W3CDTF">2009-08-28T07:47:55Z</dcterms:modified>
  <cp:revision>13</cp:revision>
  <dc:subject/>
  <dc:title>www.laboutiquedelpowerpoint.com</dc:title>
</cp:coreProperties>
</file>