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1BEC-A781-4814-9B27-9B4851EE2C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12D5-2AC8-4B4E-A146-F7746C106F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3557-013E-4737-BCDC-A46C94DE86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5D1D-384E-4783-BCD9-55E6F46EE13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E6C3-027A-467A-A875-399839E0A0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D24C-C7E9-4FD2-A079-34A5B0B9A5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3CFC-F621-4E5E-8425-451EC456A1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FF0B-3C47-4FF8-BDF6-3A1662A649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B3BC-C5BC-4A1D-850C-01003892DA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6284-8231-44D2-AE9A-37B1509B457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405C-B64F-4D6B-A478-A7C763347B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9092-E587-44FC-9678-3E6A08780B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93B0-63C6-4114-AB5D-54BC7258F7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5C5E-BA26-449D-98CC-F54C0717E2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07F-805E-46A7-8C8E-FED1CC30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9E3-4AE8-48F7-BD97-DE83B18E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D5E-1815-43B0-A6A8-91312D0F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7F5-238D-4EC4-B9F9-4CD33211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3D4-E5EF-4A49-B869-E9CAD8CF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971-1CD6-4E3E-A865-DD2088C1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BF0-B61C-41DB-85DE-5440CDE4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38D-C3A2-430F-AA12-F6412846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EA0-E833-48E4-954F-BFF90E8A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91F-2608-467C-9ADF-7BBA5043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625-4A98-4210-9A16-64EDC70A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B2A-9174-4D9A-819E-1BD7217A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020C-3C21-4BD4-8F86-F76E545B48A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1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DigifaceWide"/>
              </a:rPr>
              <a:t>Para homens com muito pouco tempo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3333cc"/>
                </a:solidFill>
                <a:latin typeface="DigifaceWide"/>
              </a:rPr>
              <a:t>(Für Männer die wenig Zeit hab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588000" y="632304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cc"/>
                </a:solidFill>
                <a:latin typeface="DigifaceWide"/>
              </a:rPr>
              <a:t>Clic para continu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NikkiJeanRopaIntimaBlanca&amp;NegraBlancaRojoSaco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NikkiJeanRopaIntimaBlanca&amp;NegraBlancaRojoSaco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NikkiJeanRopaIntimaBlanca&amp;NegraBlancaRojoSaco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ikkiJeanRopaIntimaBlanca&amp;NegraBlancaRojoSaco12"/>
          <p:cNvPicPr/>
          <p:nvPr/>
        </p:nvPicPr>
        <p:blipFill>
          <a:blip r:embed="rId1"/>
          <a:stretch/>
        </p:blipFill>
        <p:spPr>
          <a:xfrm>
            <a:off x="2195640" y="0"/>
            <a:ext cx="4816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NikkiJeanRopaIntimaBlanca&amp;NegraBlancaRojoSaco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NikkiJeanRopaIntimaBlanca&amp;NegraBlancaRojoSac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NikkiJeanRopaIntimaBlanca&amp;NegraBlancaRojoSaco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NikkiJeanRopaIntimaBlanca&amp;NegraBlancaRojoSaco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NikkiJeanRopaIntimaBlanca&amp;NegraBlancaRojoSaco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NikkiJeanRopaIntimaBlanca&amp;NegraBlancaRojoSaco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NikkiJeanRopaIntimaBlanca&amp;NegraBlancaRojoSaco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NikkiJeanRopaIntimaBlanca&amp;NegraBlancaRojoSaco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NikkiJeanRopaIntimaBlanca&amp;NegraBlancaRojoSaco04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NikkiJeanRopaIntimaBlanca&amp;NegraBlancaRojoSaco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NikkiJeanRopaIntimaBlanca&amp;NegraBlancaRojoSaco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NikkiJeanRopaIntimaBlanca&amp;NegraBlancaRojoSaco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NikkiJeanRopaIntimaBlanca&amp;NegraBlancaRojoSaco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09:05:36Z</dcterms:created>
  <dc:creator/>
  <dc:description/>
  <dc:language>en-US</dc:language>
  <cp:lastModifiedBy>Tordino, Carlos (NE-MCC/3); +49-5361-9-34495</cp:lastModifiedBy>
  <dcterms:modified xsi:type="dcterms:W3CDTF">2009-08-28T07:47:55Z</dcterms:modified>
  <cp:revision>13</cp:revision>
  <dc:subject/>
  <dc:title>www.laboutiquedelpowerpoint.com</dc:title>
</cp:coreProperties>
</file>