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73C-5D66-4CB9-9533-C37121A77A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474-F6A9-4BBA-9F4D-6BDA0D3634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93D6-2CFE-4E57-A12C-A5F1140BAC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8ED-2C6E-4BD2-B348-3EB68AFBB6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7DF-0EAD-46DD-A2F5-23BFAA3C77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4FF-F1FF-4138-87DF-1DA36D1CD4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D5D-E385-44F2-86A9-985AD04ECD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707C-9E5F-41C3-9274-2C06C89FC0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4F29-0B82-4B47-9479-57520C44A8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AEA-610F-48F9-B51C-F4E554C8FB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C3A-6C61-46B9-B15E-E22CA84111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90A2-1ED9-4D37-9C6D-FCE2A36430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55B-9CE6-4ED4-A7D5-2E248146BD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0" y="-8534520"/>
            <a:ext cx="1440" cy="184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D10-41C8-43CD-BBAB-39F524D700F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196-FEE0-4F28-8A66-988E847E0F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DC6-B671-429C-B21D-66622EF0D2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1E36-83CF-4D2B-9391-1C4EF9928B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2741-62EB-4402-B27A-E70440C8AE3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C516-766D-4DE2-A8D8-0CA45353E21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B4B2-7133-415E-BD47-919F73D33A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765-5874-436C-854E-1A656C43B2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477-2E99-477D-90E1-AC33076348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561-E3E7-48B4-B4D1-54D5DA9479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1398-F0AE-4DE1-BFEB-C4881F8B8E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9FA-A21F-4CFE-A0FA-1FB9749FD1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-12303000" y="-8534520"/>
            <a:ext cx="24607800" cy="18457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626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1B4-BAD0-46F6-9FC0-F85A956D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EE7-162D-4119-B900-E097043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629-0779-47A2-A649-82BC186F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FAC-4DA4-4A61-95A7-80631DB3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495-9CD5-43DE-B5CC-3D3CFF9D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1BC-CFD2-4764-9810-EF0E09C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1E4-E08E-4417-B6A9-ECB88F68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A67-3B0F-4357-A0AD-A7FE8F2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C55-56FB-435F-96DD-55A8268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939-AE7E-48A2-9BE3-096C8EAB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748-FC9C-448C-B782-95AE1B1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22C-8C41-4C48-AC41-9515495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A4E-9140-4865-8084-2C7EEACF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9999"/>
                </a:solidFill>
                <a:latin typeface="Ruach LET"/>
              </a:rPr>
              <a:t>Unglaub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ignes-blanches-route_bloblo"/>
          <p:cNvPicPr/>
          <p:nvPr/>
        </p:nvPicPr>
        <p:blipFill>
          <a:blip r:embed="rId1"/>
          <a:stretch/>
        </p:blipFill>
        <p:spPr>
          <a:xfrm>
            <a:off x="1136520" y="1143000"/>
            <a:ext cx="6869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aquebot-sous-pont_bloblo"/>
          <p:cNvPicPr/>
          <p:nvPr/>
        </p:nvPicPr>
        <p:blipFill>
          <a:blip r:embed="rId1"/>
          <a:stretch/>
        </p:blipFill>
        <p:spPr>
          <a:xfrm>
            <a:off x="1147680" y="1233360"/>
            <a:ext cx="68468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c-portable-fille_bloblo"/>
          <p:cNvPicPr/>
          <p:nvPr/>
        </p:nvPicPr>
        <p:blipFill>
          <a:blip r:embed="rId1"/>
          <a:stretch/>
        </p:blipFill>
        <p:spPr>
          <a:xfrm>
            <a:off x="1114560" y="833400"/>
            <a:ext cx="69148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einture-enfants-salon_mcmuz"/>
          <p:cNvPicPr/>
          <p:nvPr/>
        </p:nvPicPr>
        <p:blipFill>
          <a:blip r:embed="rId1"/>
          <a:stretch/>
        </p:blipFill>
        <p:spPr>
          <a:xfrm>
            <a:off x="1108080" y="828720"/>
            <a:ext cx="6926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ermis-conduire-fatima_bloblo"/>
          <p:cNvPicPr/>
          <p:nvPr/>
        </p:nvPicPr>
        <p:blipFill>
          <a:blip r:embed="rId1"/>
          <a:stretch/>
        </p:blipFill>
        <p:spPr>
          <a:xfrm>
            <a:off x="1523880" y="1976400"/>
            <a:ext cx="6096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hoto-classe_el-lobo"/>
          <p:cNvPicPr/>
          <p:nvPr/>
        </p:nvPicPr>
        <p:blipFill>
          <a:blip r:embed="rId1"/>
          <a:stretch/>
        </p:blipFill>
        <p:spPr>
          <a:xfrm>
            <a:off x="1125360" y="936720"/>
            <a:ext cx="68932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hotographe-pro_bloblo"/>
          <p:cNvPicPr/>
          <p:nvPr/>
        </p:nvPicPr>
        <p:blipFill>
          <a:blip r:embed="rId1"/>
          <a:stretch/>
        </p:blipFill>
        <p:spPr>
          <a:xfrm>
            <a:off x="2514600" y="190440"/>
            <a:ext cx="44895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ercing-glotte_bloblo"/>
          <p:cNvPicPr/>
          <p:nvPr/>
        </p:nvPicPr>
        <p:blipFill>
          <a:blip r:embed="rId1"/>
          <a:stretch/>
        </p:blipFill>
        <p:spPr>
          <a:xfrm>
            <a:off x="1593720" y="1417680"/>
            <a:ext cx="5954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laque-egout-squelette_bloblo"/>
          <p:cNvPicPr/>
          <p:nvPr/>
        </p:nvPicPr>
        <p:blipFill>
          <a:blip r:embed="rId1"/>
          <a:stretch/>
        </p:blipFill>
        <p:spPr>
          <a:xfrm>
            <a:off x="1843200" y="395280"/>
            <a:ext cx="5457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olice-auto-tamponneuse_bloblo"/>
          <p:cNvPicPr/>
          <p:nvPr/>
        </p:nvPicPr>
        <p:blipFill>
          <a:blip r:embed="rId1"/>
          <a:stretch/>
        </p:blipFill>
        <p:spPr>
          <a:xfrm>
            <a:off x="1171440" y="879480"/>
            <a:ext cx="6801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arriere-peugeot-206"/>
          <p:cNvPicPr/>
          <p:nvPr/>
        </p:nvPicPr>
        <p:blipFill>
          <a:blip r:embed="rId1"/>
          <a:stretch/>
        </p:blipFill>
        <p:spPr>
          <a:xfrm>
            <a:off x="1376280" y="1033560"/>
            <a:ext cx="63896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renard-voleur-brochette_bloblo"/>
          <p:cNvPicPr/>
          <p:nvPr/>
        </p:nvPicPr>
        <p:blipFill>
          <a:blip r:embed="rId1"/>
          <a:stretch/>
        </p:blipFill>
        <p:spPr>
          <a:xfrm>
            <a:off x="1125360" y="1085760"/>
            <a:ext cx="6893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epas-chat"/>
          <p:cNvPicPr/>
          <p:nvPr/>
        </p:nvPicPr>
        <p:blipFill>
          <a:blip r:embed="rId1"/>
          <a:stretch/>
        </p:blipFill>
        <p:spPr>
          <a:xfrm>
            <a:off x="2000160" y="1257480"/>
            <a:ext cx="5143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repas-servi_bloblo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impsons-sable_bloblo"/>
          <p:cNvPicPr/>
          <p:nvPr/>
        </p:nvPicPr>
        <p:blipFill>
          <a:blip r:embed="rId1"/>
          <a:stretch/>
        </p:blipFill>
        <p:spPr>
          <a:xfrm>
            <a:off x="1154160" y="1154160"/>
            <a:ext cx="68356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outif-mains_paname"/>
          <p:cNvPicPr/>
          <p:nvPr/>
        </p:nvPicPr>
        <p:blipFill>
          <a:blip r:embed="rId1"/>
          <a:stretch/>
        </p:blipFill>
        <p:spPr>
          <a:xfrm>
            <a:off x="1119240" y="479520"/>
            <a:ext cx="6904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atouage-cicatrice-epaule_bloblo"/>
          <p:cNvPicPr/>
          <p:nvPr/>
        </p:nvPicPr>
        <p:blipFill>
          <a:blip r:embed="rId1"/>
          <a:stretch/>
        </p:blipFill>
        <p:spPr>
          <a:xfrm>
            <a:off x="1147680" y="1022400"/>
            <a:ext cx="6846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transport-peugeot-chameaux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60720" y="2232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ouquet-chaton_cata"/>
          <p:cNvPicPr/>
          <p:nvPr/>
        </p:nvPicPr>
        <p:blipFill>
          <a:blip r:embed="rId1"/>
          <a:stretch/>
        </p:blipFill>
        <p:spPr>
          <a:xfrm>
            <a:off x="1136520" y="851040"/>
            <a:ext cx="686916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340000" y="360360"/>
            <a:ext cx="450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4920" y="87480"/>
            <a:ext cx="911052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hoix-du-roi_bloblo"/>
          <p:cNvPicPr/>
          <p:nvPr/>
        </p:nvPicPr>
        <p:blipFill>
          <a:blip r:embed="rId1"/>
          <a:stretch/>
        </p:blipFill>
        <p:spPr>
          <a:xfrm>
            <a:off x="914400" y="874800"/>
            <a:ext cx="73152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440000" y="798480"/>
            <a:ext cx="63500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19280" y="539640"/>
            <a:ext cx="6119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160" y="4680"/>
            <a:ext cx="9156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30072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7120" y="717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014560" y="539640"/>
            <a:ext cx="518652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6_sport_42490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360360"/>
            <a:ext cx="954072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171880" y="3002040"/>
            <a:ext cx="48006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guisement-girafe-chien_zelie"/>
          <p:cNvPicPr/>
          <p:nvPr/>
        </p:nvPicPr>
        <p:blipFill>
          <a:blip r:embed="rId1"/>
          <a:stretch/>
        </p:blipFill>
        <p:spPr>
          <a:xfrm>
            <a:off x="1847880" y="452520"/>
            <a:ext cx="54482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effet-optique-peinture-rue_bloblo"/>
          <p:cNvPicPr/>
          <p:nvPr/>
        </p:nvPicPr>
        <p:blipFill>
          <a:blip r:embed="rId1"/>
          <a:stretch/>
        </p:blipFill>
        <p:spPr>
          <a:xfrm>
            <a:off x="1828800" y="0"/>
            <a:ext cx="5419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owling_in_anderen_laendern"/>
          <p:cNvPicPr/>
          <p:nvPr/>
        </p:nvPicPr>
        <p:blipFill>
          <a:blip r:embed="rId1"/>
          <a:stretch/>
        </p:blipFill>
        <p:spPr>
          <a:xfrm>
            <a:off x="684360" y="404640"/>
            <a:ext cx="7991280" cy="60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llusion-peinture-visage_bloblo"/>
          <p:cNvPicPr/>
          <p:nvPr/>
        </p:nvPicPr>
        <p:blipFill>
          <a:blip r:embed="rId1"/>
          <a:stretch/>
        </p:blipFill>
        <p:spPr>
          <a:xfrm>
            <a:off x="1136520" y="1154160"/>
            <a:ext cx="6869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9:48:47Z</dcterms:created>
  <dc:creator>Usuario</dc:creator>
  <dc:description/>
  <dc:language>en-US</dc:language>
  <cp:lastModifiedBy>graefew</cp:lastModifiedBy>
  <dcterms:modified xsi:type="dcterms:W3CDTF">2009-06-24T08:25:18Z</dcterms:modified>
  <cp:revision>6</cp:revision>
  <dc:subject/>
  <dc:title>PERSONAJES DEL INTENNÉ</dc:title>
</cp:coreProperties>
</file>