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_rels/notesSlide39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.jpeg" ContentType="image/jpeg"/>
  <Override PartName="/ppt/media/image4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49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8072F-7C4E-4627-8D3D-98C26DCF4DA8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2F822-FEDF-435A-BF26-F648B4840B5D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2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62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B6577-5CE8-4FF3-992A-F7521E217B95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2"/>
          <p:cNvSpPr/>
          <p:nvPr/>
        </p:nvSpPr>
        <p:spPr>
          <a:xfrm>
            <a:off x="0" y="-8534520"/>
            <a:ext cx="1440" cy="18457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62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146B6-03E7-4852-9FD8-9FC520BD36D5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2"/>
          <p:cNvSpPr/>
          <p:nvPr/>
        </p:nvSpPr>
        <p:spPr>
          <a:xfrm>
            <a:off x="0" y="-8534520"/>
            <a:ext cx="1440" cy="18457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62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A9692-B844-471A-88DB-A3C49444DB14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62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A0784-D56F-483F-BB9E-4073C948758A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62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920B2-A163-4350-A4B6-58610A0778D7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62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46F3B-8DDE-4952-8C27-16401AF926F4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62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F96FF-B111-4414-8959-4FD9D1C8EED0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62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D4FBB-940A-49B8-9381-0C057BA7EC68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62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6C750-42F4-4761-A97A-E9007BF72217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62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1DE51-726A-4F2A-A321-0627C2184009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62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CCC25-57E3-4C69-83F8-9726F6750350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"/>
          <p:cNvSpPr/>
          <p:nvPr/>
        </p:nvSpPr>
        <p:spPr>
          <a:xfrm>
            <a:off x="0" y="-8534520"/>
            <a:ext cx="1440" cy="18457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62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A8FD2-1A38-434B-B7CE-1A108C2BAD58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2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62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65698-E9C0-4E8E-A9E1-38A35421CB18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-12303000" y="-8534520"/>
            <a:ext cx="24607800" cy="1845792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6264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F759E-23F4-430B-ABCC-15236F3230EA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-12303000" y="-8534520"/>
            <a:ext cx="24607800" cy="1845792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6264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3388B-008D-408F-95CD-14C2F1D53483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-12303000" y="-8534520"/>
            <a:ext cx="24607800" cy="1845792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6264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A5987-B523-477F-8278-691DF5DEDA35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-12303000" y="-8534520"/>
            <a:ext cx="24607800" cy="1845792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6264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003E9-C4F4-4962-BC16-B079B6D7303A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-12303000" y="-8534520"/>
            <a:ext cx="24607800" cy="1845792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6264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86C1D-E1BE-447B-915D-04381491FE91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-12303000" y="-8534520"/>
            <a:ext cx="24607800" cy="1845792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6264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EF12A-7D97-4893-8BDF-0EE5D37E1AC6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-12303000" y="-8534520"/>
            <a:ext cx="24607800" cy="1845792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6264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7AAAB-C4C8-4235-8BAA-A720A369C486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-12303000" y="-8534520"/>
            <a:ext cx="24607800" cy="1845792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6264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205FC-0EC5-4F9C-BFCA-51904532B4D5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-12303000" y="-8534520"/>
            <a:ext cx="24607800" cy="1845792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6264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31D3A-C116-4DCD-B1AC-4396B7BFB4EB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-12303000" y="-8534520"/>
            <a:ext cx="24607800" cy="184579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6264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0C627-8581-40B0-AB90-8077E5652A86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-12303000" y="-8534520"/>
            <a:ext cx="24607800" cy="1845792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6264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F2E3-0A61-40A4-9020-CFDFE6A5D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29BF-5F7B-4542-B28F-7907BBDE9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9ADF-541B-4EAD-9CB4-F149FB454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D0F2-8AA7-4675-9667-F4C97BB14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E442-5E7C-4DBF-8240-54BCED889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4CF8-923F-4313-B71D-91E4D4C39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D553-04B0-44A8-860B-8EBB031FC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B905-C09B-4019-A640-DDD149399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FDF9-4333-491C-B2E5-E2BBE0D6E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A7FB-383A-41E9-B04F-6DD4252FB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4AF3-F2C7-49F7-8837-46210D6A1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7BCD-4AC2-4240-96F9-7029EF7F5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82533-1C6F-4377-8184-0EB34EEA75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87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9999"/>
                </a:solidFill>
                <a:latin typeface="Ruach LET"/>
              </a:rPr>
              <a:t>Unglaubli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lignes-blanches-route_bloblo"/>
          <p:cNvPicPr/>
          <p:nvPr/>
        </p:nvPicPr>
        <p:blipFill>
          <a:blip r:embed="rId1"/>
          <a:stretch/>
        </p:blipFill>
        <p:spPr>
          <a:xfrm>
            <a:off x="1136520" y="1143000"/>
            <a:ext cx="68691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paquebot-sous-pont_bloblo"/>
          <p:cNvPicPr/>
          <p:nvPr/>
        </p:nvPicPr>
        <p:blipFill>
          <a:blip r:embed="rId1"/>
          <a:stretch/>
        </p:blipFill>
        <p:spPr>
          <a:xfrm>
            <a:off x="1147680" y="1233360"/>
            <a:ext cx="684684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pc-portable-fille_bloblo"/>
          <p:cNvPicPr/>
          <p:nvPr/>
        </p:nvPicPr>
        <p:blipFill>
          <a:blip r:embed="rId1"/>
          <a:stretch/>
        </p:blipFill>
        <p:spPr>
          <a:xfrm>
            <a:off x="1114560" y="833400"/>
            <a:ext cx="6914880" cy="518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peinture-enfants-salon_mcmuz"/>
          <p:cNvPicPr/>
          <p:nvPr/>
        </p:nvPicPr>
        <p:blipFill>
          <a:blip r:embed="rId1"/>
          <a:stretch/>
        </p:blipFill>
        <p:spPr>
          <a:xfrm>
            <a:off x="1108080" y="828720"/>
            <a:ext cx="692640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permis-conduire-fatima_bloblo"/>
          <p:cNvPicPr/>
          <p:nvPr/>
        </p:nvPicPr>
        <p:blipFill>
          <a:blip r:embed="rId1"/>
          <a:stretch/>
        </p:blipFill>
        <p:spPr>
          <a:xfrm>
            <a:off x="1523880" y="1976400"/>
            <a:ext cx="6096240" cy="29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photo-classe_el-lobo"/>
          <p:cNvPicPr/>
          <p:nvPr/>
        </p:nvPicPr>
        <p:blipFill>
          <a:blip r:embed="rId1"/>
          <a:stretch/>
        </p:blipFill>
        <p:spPr>
          <a:xfrm>
            <a:off x="1125360" y="936720"/>
            <a:ext cx="6893280" cy="49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photographe-pro_bloblo"/>
          <p:cNvPicPr/>
          <p:nvPr/>
        </p:nvPicPr>
        <p:blipFill>
          <a:blip r:embed="rId1"/>
          <a:stretch/>
        </p:blipFill>
        <p:spPr>
          <a:xfrm>
            <a:off x="2514600" y="190440"/>
            <a:ext cx="4489560" cy="651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piercing-glotte_bloblo"/>
          <p:cNvPicPr/>
          <p:nvPr/>
        </p:nvPicPr>
        <p:blipFill>
          <a:blip r:embed="rId1"/>
          <a:stretch/>
        </p:blipFill>
        <p:spPr>
          <a:xfrm>
            <a:off x="1593720" y="1417680"/>
            <a:ext cx="5954760" cy="40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plaque-egout-squelette_bloblo"/>
          <p:cNvPicPr/>
          <p:nvPr/>
        </p:nvPicPr>
        <p:blipFill>
          <a:blip r:embed="rId1"/>
          <a:stretch/>
        </p:blipFill>
        <p:spPr>
          <a:xfrm>
            <a:off x="1843200" y="395280"/>
            <a:ext cx="5457600" cy="60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police-auto-tamponneuse_bloblo"/>
          <p:cNvPicPr/>
          <p:nvPr/>
        </p:nvPicPr>
        <p:blipFill>
          <a:blip r:embed="rId1"/>
          <a:stretch/>
        </p:blipFill>
        <p:spPr>
          <a:xfrm>
            <a:off x="1171440" y="879480"/>
            <a:ext cx="6801120" cy="509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5" descr="arriere-peugeot-206"/>
          <p:cNvPicPr/>
          <p:nvPr/>
        </p:nvPicPr>
        <p:blipFill>
          <a:blip r:embed="rId1"/>
          <a:stretch/>
        </p:blipFill>
        <p:spPr>
          <a:xfrm>
            <a:off x="1376280" y="1033560"/>
            <a:ext cx="6389640" cy="47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renard-voleur-brochette_bloblo"/>
          <p:cNvPicPr/>
          <p:nvPr/>
        </p:nvPicPr>
        <p:blipFill>
          <a:blip r:embed="rId1"/>
          <a:stretch/>
        </p:blipFill>
        <p:spPr>
          <a:xfrm>
            <a:off x="1125360" y="1085760"/>
            <a:ext cx="6893280" cy="46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repas-chat"/>
          <p:cNvPicPr/>
          <p:nvPr/>
        </p:nvPicPr>
        <p:blipFill>
          <a:blip r:embed="rId1"/>
          <a:stretch/>
        </p:blipFill>
        <p:spPr>
          <a:xfrm>
            <a:off x="2000160" y="1257480"/>
            <a:ext cx="51436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repas-servi_bloblo"/>
          <p:cNvPicPr/>
          <p:nvPr/>
        </p:nvPicPr>
        <p:blipFill>
          <a:blip r:embed="rId1"/>
          <a:stretch/>
        </p:blipFill>
        <p:spPr>
          <a:xfrm>
            <a:off x="1136520" y="851040"/>
            <a:ext cx="6869160" cy="51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simpsons-sable_bloblo"/>
          <p:cNvPicPr/>
          <p:nvPr/>
        </p:nvPicPr>
        <p:blipFill>
          <a:blip r:embed="rId1"/>
          <a:stretch/>
        </p:blipFill>
        <p:spPr>
          <a:xfrm>
            <a:off x="1154160" y="1154160"/>
            <a:ext cx="6835680" cy="45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soutif-mains_paname"/>
          <p:cNvPicPr/>
          <p:nvPr/>
        </p:nvPicPr>
        <p:blipFill>
          <a:blip r:embed="rId1"/>
          <a:stretch/>
        </p:blipFill>
        <p:spPr>
          <a:xfrm>
            <a:off x="1119240" y="479520"/>
            <a:ext cx="6904080" cy="58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tatouage-cicatrice-epaule_bloblo"/>
          <p:cNvPicPr/>
          <p:nvPr/>
        </p:nvPicPr>
        <p:blipFill>
          <a:blip r:embed="rId1"/>
          <a:stretch/>
        </p:blipFill>
        <p:spPr>
          <a:xfrm>
            <a:off x="1147680" y="1022400"/>
            <a:ext cx="6846840" cy="48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transport-peugeot-chameaux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2160720" y="22320"/>
            <a:ext cx="51433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0" y="55440"/>
            <a:ext cx="9144000" cy="680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bouquet-chaton_cata"/>
          <p:cNvPicPr/>
          <p:nvPr/>
        </p:nvPicPr>
        <p:blipFill>
          <a:blip r:embed="rId1"/>
          <a:stretch/>
        </p:blipFill>
        <p:spPr>
          <a:xfrm>
            <a:off x="1136520" y="851040"/>
            <a:ext cx="6869160" cy="51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0" y="36360"/>
            <a:ext cx="9144000" cy="682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2340000" y="360360"/>
            <a:ext cx="4500360" cy="611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1440000" y="360360"/>
            <a:ext cx="6300720" cy="611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34920" y="87480"/>
            <a:ext cx="9110520" cy="677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0" y="360360"/>
            <a:ext cx="9144000" cy="609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0" y="23760"/>
            <a:ext cx="9144000" cy="683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1908000" y="0"/>
            <a:ext cx="56516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choix-du-roi_bloblo"/>
          <p:cNvPicPr/>
          <p:nvPr/>
        </p:nvPicPr>
        <p:blipFill>
          <a:blip r:embed="rId1"/>
          <a:stretch/>
        </p:blipFill>
        <p:spPr>
          <a:xfrm>
            <a:off x="914400" y="874800"/>
            <a:ext cx="7315200" cy="51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1440000" y="798480"/>
            <a:ext cx="6350040" cy="532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1619280" y="539640"/>
            <a:ext cx="6119640" cy="576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-11160" y="4680"/>
            <a:ext cx="9156600" cy="685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0" y="23760"/>
            <a:ext cx="9144000" cy="683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38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0" y="382680"/>
            <a:ext cx="9144000" cy="647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1440000" y="360360"/>
            <a:ext cx="6300720" cy="649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0" y="360360"/>
            <a:ext cx="9144000" cy="649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1797120" y="717480"/>
            <a:ext cx="5943600" cy="59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2014560" y="539640"/>
            <a:ext cx="5186520" cy="631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36_sport_42490"/>
          <p:cNvPicPr/>
          <p:nvPr/>
        </p:nvPicPr>
        <p:blipFill>
          <a:blip r:embed="rId1"/>
          <a:stretch/>
        </p:blipFill>
        <p:spPr>
          <a:xfrm>
            <a:off x="826920" y="692280"/>
            <a:ext cx="7561440" cy="58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0" y="360360"/>
            <a:ext cx="9540720" cy="720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2"/>
          <p:cNvSpPr txBox="1"/>
          <p:nvPr/>
        </p:nvSpPr>
        <p:spPr>
          <a:xfrm>
            <a:off x="2171880" y="3002040"/>
            <a:ext cx="4800600" cy="8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nde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deguisement-girafe-chien_zelie"/>
          <p:cNvPicPr/>
          <p:nvPr/>
        </p:nvPicPr>
        <p:blipFill>
          <a:blip r:embed="rId1"/>
          <a:stretch/>
        </p:blipFill>
        <p:spPr>
          <a:xfrm>
            <a:off x="1847880" y="452520"/>
            <a:ext cx="5448240" cy="59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6" descr="effet-optique-peinture-rue_bloblo"/>
          <p:cNvPicPr/>
          <p:nvPr/>
        </p:nvPicPr>
        <p:blipFill>
          <a:blip r:embed="rId1"/>
          <a:stretch/>
        </p:blipFill>
        <p:spPr>
          <a:xfrm>
            <a:off x="1828800" y="0"/>
            <a:ext cx="5419800" cy="70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bowling_in_anderen_laendern"/>
          <p:cNvPicPr/>
          <p:nvPr/>
        </p:nvPicPr>
        <p:blipFill>
          <a:blip r:embed="rId1"/>
          <a:stretch/>
        </p:blipFill>
        <p:spPr>
          <a:xfrm>
            <a:off x="684360" y="404640"/>
            <a:ext cx="7991280" cy="601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illusion-peinture-visage_bloblo"/>
          <p:cNvPicPr/>
          <p:nvPr/>
        </p:nvPicPr>
        <p:blipFill>
          <a:blip r:embed="rId1"/>
          <a:stretch/>
        </p:blipFill>
        <p:spPr>
          <a:xfrm>
            <a:off x="1136520" y="1154160"/>
            <a:ext cx="6869160" cy="45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3T09:48:47Z</dcterms:created>
  <dc:creator>Usuario</dc:creator>
  <dc:description/>
  <dc:language>en-US</dc:language>
  <cp:lastModifiedBy>graefew</cp:lastModifiedBy>
  <dcterms:modified xsi:type="dcterms:W3CDTF">2009-06-24T08:25:18Z</dcterms:modified>
  <cp:revision>6</cp:revision>
  <dc:subject/>
  <dc:title>PERSONAJES DEL INTENNÉ</dc:title>
</cp:coreProperties>
</file>