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25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19.jpeg" ContentType="image/jpeg"/>
  <Override PartName="/ppt/media/image67.jpeg" ContentType="image/jpeg"/>
  <Override PartName="/ppt/media/image6.jpeg" ContentType="image/jpeg"/>
  <Override PartName="/ppt/media/image6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6.jpeg" ContentType="image/jpeg"/>
  <Override PartName="/ppt/media/image50.jpeg" ContentType="image/jpeg"/>
  <Override PartName="/ppt/media/Mantovani-Swedisch-rhapsody.wav" ContentType="audio/x-wav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260-0F32-4479-90E5-F9843BB4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550-7B47-456A-8BB0-1D5B394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86E-CF93-4354-BF9A-15238A6E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A36-6793-4750-8554-534689AE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75D-6F5A-44BE-8873-09CE3EF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D22-C8BF-499E-A1BB-978B335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213-0C25-4A60-9D0A-A7E07C2C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E69-6771-4C45-B3F0-910F650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65C-1865-4B23-8896-A9D0FC22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98D-047A-4B49-9850-C7DC707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CC7-A390-4C22-8AAD-817CF26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C23-BEAE-4C39-AADE-B2A858DC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47E8-CBB7-4AF9-8573-C0F7C5D08F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ntovani-Swedisch-rhapsody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Aviones </a:t>
            </a:r>
            <a:br>
              <a:rPr sz="5400"/>
            </a:b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Antiguo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 advTm="6000">
    <p:random/>
    <p:sndAc>
      <p:stSnd>
        <p:snd r:embed="rId1" name="Mantovani-Swedisch-rhapso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725400"/>
            <a:ext cx="7200720" cy="540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201080" cy="5403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1440" cy="5126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749160"/>
            <a:ext cx="7921440" cy="5357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514440"/>
            <a:ext cx="8353440" cy="5829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01560"/>
            <a:ext cx="8207280" cy="565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784080"/>
            <a:ext cx="8353440" cy="539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690480"/>
            <a:ext cx="7619760" cy="5477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857160"/>
            <a:ext cx="761976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750960"/>
            <a:ext cx="7921440" cy="5352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677880"/>
            <a:ext cx="7993080" cy="5452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14400" y="955800"/>
            <a:ext cx="7315200" cy="4946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703440"/>
            <a:ext cx="8353440" cy="5451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884160"/>
            <a:ext cx="8136000" cy="5045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843120"/>
            <a:ext cx="7619760" cy="5171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428760"/>
            <a:ext cx="7619760" cy="6000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744480"/>
            <a:ext cx="7632720" cy="5372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11280" y="746280"/>
            <a:ext cx="7921440" cy="5365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696960"/>
            <a:ext cx="8064720" cy="5464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1280" y="647640"/>
            <a:ext cx="8064360" cy="546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695160"/>
            <a:ext cx="7848360" cy="5416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608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847800"/>
            <a:ext cx="7619760" cy="5162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62120" y="809640"/>
            <a:ext cx="7619760" cy="5238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828720"/>
            <a:ext cx="7619760" cy="520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618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440" y="228600"/>
            <a:ext cx="9031320" cy="6400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11280" y="744480"/>
            <a:ext cx="7921440" cy="5367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 paraíso del PowerPoint 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911160"/>
            <a:ext cx="8207280" cy="5086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164360" y="580536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www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laboutiquedelpowerpoint.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                                                    </a:t>
            </a:r>
            <a:r>
              <a:rPr b="0" lang="en-US" sz="12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com</a:t>
            </a:r>
            <a:endParaRPr b="0" lang="en-US" sz="1200" spc="1" strike="noStrike">
              <a:ln w="936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6:46:20Z</dcterms:created>
  <dc:creator/>
  <dc:description/>
  <dc:language>en-US</dc:language>
  <cp:lastModifiedBy>ANITA DINAMITA</cp:lastModifiedBy>
  <dcterms:modified xsi:type="dcterms:W3CDTF">2008-06-26T11:15:29Z</dcterms:modified>
  <cp:revision>23</cp:revision>
  <dc:subject/>
  <dc:title>www.laboutiquedelpowerpoint.com</dc:title>
</cp:coreProperties>
</file>