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25.jpeg" ContentType="image/jpeg"/>
  <Override PartName="/ppt/media/image13.jpeg" ContentType="image/jpeg"/>
  <Override PartName="/ppt/media/image40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0.jpeg" ContentType="image/jpeg"/>
  <Override PartName="/ppt/media/image21.jpeg" ContentType="image/jpeg"/>
  <Override PartName="/ppt/media/image16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19.jpeg" ContentType="image/jpeg"/>
  <Override PartName="/ppt/media/image67.jpeg" ContentType="image/jpeg"/>
  <Override PartName="/ppt/media/image6.jpeg" ContentType="image/jpeg"/>
  <Override PartName="/ppt/media/image63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42.jpeg" ContentType="image/jpeg"/>
  <Override PartName="/ppt/media/image59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26.jpeg" ContentType="image/jpeg"/>
  <Override PartName="/ppt/media/image50.jpeg" ContentType="image/jpeg"/>
  <Override PartName="/ppt/media/Mantovani-Swedisch-rhapsody.wav" ContentType="audio/x-wav"/>
  <Override PartName="/ppt/media/image51.jpeg" ContentType="image/jpeg"/>
  <Override PartName="/ppt/media/image27.jpeg" ContentType="image/jpeg"/>
  <Override PartName="/ppt/media/image10.jpeg" ContentType="image/jpeg"/>
  <Override PartName="/ppt/media/image28.jpeg" ContentType="image/jpeg"/>
  <Override PartName="/ppt/media/image1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B7C1-F1F3-4BE1-AFE5-ED0A6FCFD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56B4-447D-4C07-9EDD-D6AE39ED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3FEF-1BB6-41D5-B698-8AF3018C2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61BE-9717-439D-8446-D7A264C31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603E-E73D-4217-A780-93A5AD0B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AF60-340D-4471-AAF3-72D7B27B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195B-3552-4798-BDE7-0E8367D3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A8E5-A17A-4B3A-A6D1-1193227E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19C9-358B-431A-94C9-1FE56C3A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F7DC-1CB3-4322-8957-D6271B16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3A71-7738-46EB-8740-3C6D5C28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3186-EA54-4069-B8CF-AD46F853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59F9-013B-4E3A-A8A0-96E2C60687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Mantovani-Swedisch-rhapsody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483920"/>
            <a:ext cx="91440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ccff"/>
                </a:solidFill>
                <a:latin typeface="Arial"/>
              </a:rPr>
              <a:t>Aviones </a:t>
            </a:r>
            <a:br>
              <a:rPr sz="5400"/>
            </a:br>
            <a:r>
              <a:rPr b="1" lang="en-US" sz="5400" spc="-1" strike="noStrike">
                <a:solidFill>
                  <a:srgbClr val="66ccff"/>
                </a:solidFill>
                <a:latin typeface="Arial"/>
              </a:rPr>
              <a:t>Antiguos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ransition advTm="6000">
    <p:random/>
    <p:sndAc>
      <p:stSnd>
        <p:snd r:embed="rId1" name="Mantovani-Swedisch-rhapsody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120" y="528480"/>
            <a:ext cx="7619760" cy="58010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62120" y="528480"/>
            <a:ext cx="7619760" cy="5801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2120" y="852480"/>
            <a:ext cx="7619760" cy="51530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71640" y="725400"/>
            <a:ext cx="7200720" cy="54039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042920" y="692280"/>
            <a:ext cx="7201080" cy="5403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14400" y="955800"/>
            <a:ext cx="7315200" cy="4946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561440" cy="5126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11280" y="749160"/>
            <a:ext cx="7921440" cy="5357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95280" y="514440"/>
            <a:ext cx="8353440" cy="5829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19760" cy="57909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601560"/>
            <a:ext cx="8207280" cy="5651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5280" y="784080"/>
            <a:ext cx="8353440" cy="53974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62120" y="843120"/>
            <a:ext cx="7619760" cy="5171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62120" y="690480"/>
            <a:ext cx="7619760" cy="54770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62120" y="728640"/>
            <a:ext cx="7619760" cy="54007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19760" cy="51818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62120" y="857160"/>
            <a:ext cx="7619760" cy="5143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11280" y="744480"/>
            <a:ext cx="7921440" cy="5367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11280" y="744480"/>
            <a:ext cx="7921440" cy="53672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11280" y="744480"/>
            <a:ext cx="7921440" cy="53672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62120" y="905040"/>
            <a:ext cx="7619760" cy="50479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120" y="852480"/>
            <a:ext cx="7619760" cy="51530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11280" y="750960"/>
            <a:ext cx="7921440" cy="53528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62120" y="852480"/>
            <a:ext cx="7619760" cy="51530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14400" y="955800"/>
            <a:ext cx="7315200" cy="49464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62120" y="714240"/>
            <a:ext cx="7619760" cy="54295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11280" y="677880"/>
            <a:ext cx="7993080" cy="54529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828720"/>
            <a:ext cx="7619760" cy="52005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11280" y="744480"/>
            <a:ext cx="7921440" cy="5367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914400" y="955800"/>
            <a:ext cx="7315200" cy="49464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95280" y="703440"/>
            <a:ext cx="8353440" cy="5451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39640" y="884160"/>
            <a:ext cx="8136000" cy="50450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62120" y="843120"/>
            <a:ext cx="7619760" cy="51717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762120" y="847800"/>
            <a:ext cx="7619760" cy="5162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62120" y="843120"/>
            <a:ext cx="7619760" cy="51717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762120" y="843120"/>
            <a:ext cx="7619760" cy="51717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62120" y="428760"/>
            <a:ext cx="7619760" cy="60004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19760" cy="51818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762120" y="852480"/>
            <a:ext cx="7619760" cy="51530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762120" y="847800"/>
            <a:ext cx="7619760" cy="51624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755640" y="744480"/>
            <a:ext cx="7632720" cy="53722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11280" y="744480"/>
            <a:ext cx="7921440" cy="53672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762120" y="847800"/>
            <a:ext cx="7619760" cy="51624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762120" y="847800"/>
            <a:ext cx="7619760" cy="51624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611280" y="746280"/>
            <a:ext cx="7921440" cy="53654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39640" y="696960"/>
            <a:ext cx="8064720" cy="54640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611280" y="647640"/>
            <a:ext cx="8064360" cy="54640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611280" y="744480"/>
            <a:ext cx="7921440" cy="536724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684360" y="695160"/>
            <a:ext cx="7848360" cy="54165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7991640" cy="6081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611280" y="744480"/>
            <a:ext cx="7921440" cy="536724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762120" y="847800"/>
            <a:ext cx="7619760" cy="51624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762120" y="528480"/>
            <a:ext cx="7619760" cy="58010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762120" y="847800"/>
            <a:ext cx="7619760" cy="51624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611280" y="744480"/>
            <a:ext cx="7921440" cy="536724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611280" y="744480"/>
            <a:ext cx="7921440" cy="53672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762120" y="847800"/>
            <a:ext cx="7619760" cy="51624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876240"/>
            <a:ext cx="7619760" cy="51055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762120" y="809640"/>
            <a:ext cx="7619760" cy="52387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762120" y="828720"/>
            <a:ext cx="7619760" cy="52005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136000" cy="6184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55440" y="228600"/>
            <a:ext cx="9031320" cy="64008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611280" y="744480"/>
            <a:ext cx="7921440" cy="53672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l paraíso del PowerPoint e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ransition advTm="6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8360" y="911160"/>
            <a:ext cx="8207280" cy="5086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2120" y="528480"/>
            <a:ext cx="7619760" cy="58010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2T16:46:20Z</dcterms:created>
  <dc:creator/>
  <dc:description/>
  <dc:language>en-US</dc:language>
  <cp:lastModifiedBy>ANITA DINAMITA</cp:lastModifiedBy>
  <dcterms:modified xsi:type="dcterms:W3CDTF">2008-06-26T11:15:29Z</dcterms:modified>
  <cp:revision>23</cp:revision>
  <dc:subject/>
  <dc:title>www.laboutiquedelpowerpoint.com</dc:title>
</cp:coreProperties>
</file>