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musSol%2002w.wav" ContentType="audio/x-wav"/>
  <Override PartName="/ppt/media/image1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CAF-3185-4612-9666-7A0D0A97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6AC-0481-47A4-8FF8-7284285D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E9F-ABAB-4E54-AD4A-BE68084B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18E-3972-4B6E-8657-EC71CDB3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4E2-5694-4728-B941-62FE5E36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795-DD8D-40AB-B0C0-580D2C13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F9F-BEB3-46AE-B914-04FB7636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CEC-8EB6-4687-9DD8-14DC546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687-058D-4E22-865B-B776D06C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B95-A32F-4B91-991C-3D18B1B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47A-411A-45D7-A60B-E87088E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F63-5DFC-4FCD-A072-8D2FD0F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517-1F4D-4A62-A25F-45EE5A550B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Sol%2002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71680" y="4398840"/>
            <a:ext cx="478620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úsica de Sofía Gubaidulina ilustrando el “Cántico al sol” evoca la fecundidad de las sem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53120" y="285120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15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215040" y="-38160"/>
            <a:ext cx="27147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215040" y="6143760"/>
            <a:ext cx="121464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usSol%2002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8760" y="117360"/>
            <a:ext cx="8388360" cy="75006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poco cayó en terreno pedregoso, donde apenas tenía tierra, y, como la tierra no era profunda, brotó en seguida; pero, en cuanto salió el sol, se abrasó y por falta de raíz se secó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2" descr="resized_desert8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1280" y="1262160"/>
            <a:ext cx="8001000" cy="552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500040" y="142920"/>
            <a:ext cx="8429760" cy="1404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"/>
              </a:rPr>
              <a:t>Igualmente caen en situaciones difícil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 flipH="1">
            <a:off x="6428520" y="1017720"/>
            <a:ext cx="26434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nuestro corazón de piedra no las cul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42960" y="642960"/>
            <a:ext cx="7748640" cy="4359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tro poco cayó entre zarzas, que crecieron y lo ahogaro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8" descr="Cardosw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4360" y="781200"/>
            <a:ext cx="8412120" cy="5951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0" y="63360"/>
            <a:ext cx="842976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tras se ponen entre confli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8000" y="847800"/>
            <a:ext cx="23209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dejamos que ahoguen el Re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57120" y="1214280"/>
            <a:ext cx="8497800" cy="3902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 resto cayó en tierra buena y dio grano: unos, ciento; otros, sesenta; otros, treinta. El que tenga oídos que oiga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resized_blat5w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600" y="428760"/>
            <a:ext cx="9080640" cy="6348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0" y="0"/>
            <a:ext cx="714384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Otras, en tierra buena, son puro REGAL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28760" y="5716440"/>
            <a:ext cx="85723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Con frutos desproporcionado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85840" y="214200"/>
            <a:ext cx="8497800" cy="69498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e acercaron los discípulos y le preguntaron: "¿Por qué les hablas en parábolas?" Él les contestó: "A vosotros se os ha concedido conocer los secretos del reino de los cielos y a ellos no. </a:t>
            </a:r>
            <a:r>
              <a:rPr b="1" lang="it-IT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…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5 Imagen" descr="saludo_massa_hallu_2t.jpg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4268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0" y="82440"/>
            <a:ext cx="907272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n el corazón de los satisfechos no cabe el Rein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57200" y="5929200"/>
            <a:ext cx="77155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La riqueza es acaparadora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85840" y="785880"/>
            <a:ext cx="8497800" cy="59432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¡Dichosos vuestros ojos, porque ven, y vuestros oídos, porque oyen! Os aseguro que muchos profetas y justos desearon ver lo que veis vosotros y no lo vieron, y oír lo que oís y no lo oyero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5 Imagen" descr="fami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71280" y="71280"/>
            <a:ext cx="850140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Felices los que se abren a la LU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1280" y="5429160"/>
            <a:ext cx="52866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odos pueden mirar, pero no todos “ve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071720" y="2643120"/>
            <a:ext cx="6929280" cy="375084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021"/>
                </a:solidFill>
                <a:latin typeface="Arial Unicode MS"/>
              </a:rPr>
              <a:t>Jesús no discute con la “generación perversa” que se le opone, sino que le habla en parábolas, que sólo los sencillos entien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42920" y="428760"/>
            <a:ext cx="8893080" cy="1694520"/>
          </a:xfrm>
          <a:prstGeom prst="rect">
            <a:avLst/>
          </a:prstGeom>
          <a:solidFill>
            <a:srgbClr val="1326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La 3a PARTE del evangelio de Mateo c11-13, está centrada en el texto: </a:t>
            </a:r>
            <a:br>
              <a:rPr sz="3500"/>
            </a:b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ca-ES" sz="3500" spc="-1" strike="noStrike">
                <a:solidFill>
                  <a:srgbClr val="ffcc66"/>
                </a:solidFill>
                <a:latin typeface="Arial Unicode MS"/>
              </a:rPr>
              <a:t>“Él no disputa... 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57120" y="355680"/>
            <a:ext cx="849780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sotros oíd lo que significa la parábola del sembrador: Si uno escucha la palabra del reino sin entenderla, viene el Maligno y roba lo sembrado en su corazón. Esto significa lo sembrado al borde del camin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7 Imagen" descr="hombreescucha.jpg"/>
          <p:cNvPicPr/>
          <p:nvPr/>
        </p:nvPicPr>
        <p:blipFill>
          <a:blip r:embed="rId1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0"/>
            <a:ext cx="3429000" cy="39027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Escuchar sin entender ni cumplir, hinch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3995640"/>
            <a:ext cx="3429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l tiempo borra lo que no se practic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4200" y="214200"/>
            <a:ext cx="849816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 terreno pedregoso significa el que la escucha y la acepta en seguida con alegría; pero no tiene raíces, es inconstante, y, en cuanto viene una dificultad o persecución por la palabra, sucumb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resized_arrels8w"/>
          <p:cNvPicPr/>
          <p:nvPr/>
        </p:nvPicPr>
        <p:blipFill>
          <a:blip r:embed="rId1"/>
          <a:stretch/>
        </p:blipFill>
        <p:spPr>
          <a:xfrm>
            <a:off x="1908000" y="143028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468360" y="115920"/>
            <a:ext cx="5389560" cy="15562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Sin raíces no hay convicci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5680" y="1736640"/>
            <a:ext cx="3557520" cy="352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ntonces las dificultades roban la alegrí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60360" y="857160"/>
            <a:ext cx="849780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tre zarzas significa el que escucha la palabra; pero los afanes de la vida y la seducción de las riquezas la ahogan y se queda estéril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resized_EUROt"/>
          <p:cNvPicPr/>
          <p:nvPr/>
        </p:nvPicPr>
        <p:blipFill>
          <a:blip r:embed="rId1"/>
          <a:stretch/>
        </p:blipFill>
        <p:spPr>
          <a:xfrm>
            <a:off x="2556000" y="1844640"/>
            <a:ext cx="6588000" cy="4930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50920" y="115920"/>
            <a:ext cx="7416720" cy="1617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"/>
              </a:rPr>
              <a:t>No hay que confundir el Reino con la riquez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44360" y="1879560"/>
            <a:ext cx="2772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El dinero seduce, el Reino enamor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14200" y="214200"/>
            <a:ext cx="871560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 sembrado en tierra buena significa el que escucha la palabra y la entiende; ése dará fruto y producirá ciento o sesenta o treinta por uno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jardins1tw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79200" y="50760"/>
            <a:ext cx="79930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tierra buena acoge el Re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6073920"/>
            <a:ext cx="8358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fruto es un mundo para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57160" y="714240"/>
            <a:ext cx="7386840" cy="53578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571760" y="1500120"/>
            <a:ext cx="592920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 Jesús, haz que los valores escondidos del Reino que siembres en nuestro interior, den el fruto de un MUND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para TOD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4 Grupo"/>
          <p:cNvGrpSpPr/>
          <p:nvPr/>
        </p:nvGrpSpPr>
        <p:grpSpPr>
          <a:xfrm>
            <a:off x="214200" y="4214880"/>
            <a:ext cx="8286840" cy="1928880"/>
            <a:chOff x="214200" y="4214880"/>
            <a:chExt cx="8286840" cy="1928880"/>
          </a:xfrm>
        </p:grpSpPr>
        <p:sp>
          <p:nvSpPr>
            <p:cNvPr id="122" name="Rectangle 5"/>
            <p:cNvSpPr/>
            <p:nvPr/>
          </p:nvSpPr>
          <p:spPr>
            <a:xfrm>
              <a:off x="214200" y="421488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"/>
            <p:cNvSpPr/>
            <p:nvPr/>
          </p:nvSpPr>
          <p:spPr>
            <a:xfrm>
              <a:off x="428400" y="449280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642600" y="479772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4 Imagen" descr="untitled.jpg"/>
          <p:cNvPicPr/>
          <p:nvPr/>
        </p:nvPicPr>
        <p:blipFill>
          <a:blip r:embed="rId1"/>
          <a:stretch/>
        </p:blipFill>
        <p:spPr>
          <a:xfrm>
            <a:off x="-6261120" y="0"/>
            <a:ext cx="22807800" cy="678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00040" y="0"/>
            <a:ext cx="8215200" cy="2228040"/>
          </a:xfrm>
          <a:prstGeom prst="rect">
            <a:avLst/>
          </a:prstGeom>
          <a:solidFill>
            <a:srgbClr val="1c1c1c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Mirando el lago y las tierras de Galilea, abrámonos a la PALABRA que Dios siembra en nuestro coraz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902 0.00023 L -0.82622 0.00023 E">
                                      <p:cBhvr>
                                        <p:cTn id="38" dur="2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285840" y="214200"/>
            <a:ext cx="856908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3,1-23 Aquel día, salió Jesús de casa y se sentó junto al lago. Y acudió a él tanta gente que tuvo que subirse a una barca; se sentó, y la gente se quedó de pie en la orilla. Les habló mucho rato en parábola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357800" y="6072120"/>
            <a:ext cx="45720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Barca delante del l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5 Imagen" descr="resized_13paobeirwtcw.jpg"/>
          <p:cNvPicPr/>
          <p:nvPr/>
        </p:nvPicPr>
        <p:blipFill>
          <a:blip r:embed="rId1"/>
          <a:stretch/>
        </p:blipFill>
        <p:spPr>
          <a:xfrm>
            <a:off x="2386080" y="0"/>
            <a:ext cx="6757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36360"/>
            <a:ext cx="4643280" cy="18316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Jesús habla con semejanzas sacadas de la vi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57120" y="1928880"/>
            <a:ext cx="28576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los sabios de vida, no de teorí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0" y="4549680"/>
            <a:ext cx="250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Cerámica de la parábola del sembrador y de las semillas  que caen en  distintas tier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6643800" y="-109440"/>
            <a:ext cx="2428920" cy="16185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Unicode MS"/>
              </a:rPr>
              <a:t>El cesto de Dios está lleno de semillas para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214280" y="1714680"/>
            <a:ext cx="6429600" cy="3750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Salió el sembrador a sembrar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pratsverdst"/>
          <p:cNvPicPr/>
          <p:nvPr/>
        </p:nvPicPr>
        <p:blipFill>
          <a:blip r:embed="rId1"/>
          <a:stretch/>
        </p:blipFill>
        <p:spPr>
          <a:xfrm>
            <a:off x="357120" y="1071720"/>
            <a:ext cx="8715600" cy="5653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714760" y="5000760"/>
            <a:ext cx="62863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vangelio es la corriente que las vivif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0" y="71280"/>
            <a:ext cx="7858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siembra las semillas del Reino en el campo de 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42960" y="428760"/>
            <a:ext cx="8215200" cy="64918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sembrar, un poco cayó al borde del camino; vinieron los pájaros y se lo comieron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4" descr="resized_camiflors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285920" y="785880"/>
            <a:ext cx="7786800" cy="607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71280" y="71280"/>
            <a:ext cx="9072720" cy="673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Caen semillas al borde de los camin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1280" y="4848120"/>
            <a:ext cx="37148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n   oportunidades perd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7-03T08:47:31Z</dcterms:modified>
  <cp:revision>580</cp:revision>
  <dc:subject/>
  <dc:title>evangeli</dc:title>
</cp:coreProperties>
</file>