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E1F2-3DE9-4F33-B11E-C240E7C0B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9C5E-495B-4E30-87C0-C81599B51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04B8-47C4-4E7B-A89C-767DF97E9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53CF-3837-4803-B89D-353874004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F5AC-A43E-4B93-A03A-6208810E5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76C0-02D5-4FBB-867D-04D84B88F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9B22-E18C-4394-B46B-48F763EBB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1E13-6111-43C7-98F1-A5CE9AEA8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D1DA-64B1-4450-BAA9-8382CDC4E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A3D0-6836-4CFB-BD33-9F9CBAB6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A63C-7C5F-4B30-B884-F9092431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880A-781E-403A-B00F-1080E91A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3C4CA-6585-4407-9B9D-91BE10F9695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1773360"/>
            <a:ext cx="7634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Recopilación del mejor humor gráfico picante de la red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332000" y="1989000"/>
            <a:ext cx="6265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706320"/>
            <a:ext cx="9144000" cy="54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04920" y="60480"/>
            <a:ext cx="8534160" cy="67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00200" y="0"/>
            <a:ext cx="6080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77920" y="0"/>
            <a:ext cx="498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898640" y="0"/>
            <a:ext cx="534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62120" y="27000"/>
            <a:ext cx="7543800" cy="67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09680" y="0"/>
            <a:ext cx="5065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954000"/>
            <a:ext cx="8686800" cy="52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021040" y="0"/>
            <a:ext cx="5101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-36360"/>
            <a:ext cx="9144000" cy="69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100240" y="0"/>
            <a:ext cx="494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030400" y="0"/>
            <a:ext cx="5083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0T12:02:06Z</dcterms:created>
  <dc:creator>A</dc:creator>
  <dc:description/>
  <dc:language>en-US</dc:language>
  <cp:lastModifiedBy>jjgs60</cp:lastModifiedBy>
  <dcterms:modified xsi:type="dcterms:W3CDTF">2009-03-10T11:00:44Z</dcterms:modified>
  <cp:revision>7</cp:revision>
  <dc:subject/>
  <dc:title>Diapositiva 1</dc:title>
</cp:coreProperties>
</file>