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608-847D-4A47-9825-78A649AF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8A7-C5AD-42AC-BBD7-723A901A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B3F-670E-4410-9D6D-140E3EA0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E83-508D-4DF7-B4D0-AD2A4A1E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71D-3CBA-48DE-B7EB-1E0D3F64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B5C-61B3-4DBB-8926-0F7DC766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9A6-76A6-4F50-99BA-5B692AEA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DC1-EB9D-4072-B405-177DB1BA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702-460E-4091-A945-00455F31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872-2BE9-47C2-9D3C-C2396A5D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9DD-B160-4489-84B4-C5C1BD16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110-C3AA-4591-B6F2-8C0B6159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5A16-5B14-43DC-B4F5-7D28D1971B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773360"/>
            <a:ext cx="76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copilación del mejor humor gráfico picante de la red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32000" y="1989000"/>
            <a:ext cx="626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60480"/>
            <a:ext cx="8534160" cy="67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08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77920" y="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98640" y="0"/>
            <a:ext cx="53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27000"/>
            <a:ext cx="75438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0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954000"/>
            <a:ext cx="868680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21040" y="0"/>
            <a:ext cx="510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9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00240" y="0"/>
            <a:ext cx="49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30400" y="0"/>
            <a:ext cx="508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2:02:06Z</dcterms:created>
  <dc:creator>A</dc:creator>
  <dc:description/>
  <dc:language>en-US</dc:language>
  <cp:lastModifiedBy>jjgs60</cp:lastModifiedBy>
  <dcterms:modified xsi:type="dcterms:W3CDTF">2009-03-10T11:00:44Z</dcterms:modified>
  <cp:revision>7</cp:revision>
  <dc:subject/>
  <dc:title>Diapositiva 1</dc:title>
</cp:coreProperties>
</file>