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AmazingGrace_Mantovani.wav" ContentType="audio/x-wav"/>
  <Override PartName="/ppt/media/image7.jpeg" ContentType="image/jpeg"/>
  <Override PartName="/ppt/media/image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051F-E0EA-476F-9FD4-8F34972AE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FB7E-F97B-4D9E-98BF-3C882C069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D587-3228-495C-AFE4-6CE592461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F0B6-9724-4341-B980-4526A537C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A96B-BF0A-47FF-A3D4-5B156BCF7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E9D3-6DFE-4780-9828-E1DA4B0A2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3933-9189-44AA-88DB-2028298D2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78B2-00DD-49AF-9ED7-2601ECF8E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D7BC-CD93-45DF-B1AE-14DE611B3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6B31-4DB0-44CC-8CDA-B2BF0509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9475-0C1F-4870-9E2A-506FF2E0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8201-A383-4F51-BFD5-6E6C8D25A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D51AD-1149-4FC3-9632-65C7AC58890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mazingGrace_Mantovani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516720" y="623736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 para avanz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692280"/>
            <a:ext cx="7993080" cy="518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Arial"/>
              </a:rPr>
              <a:t>IMPRESIONANTE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Arial"/>
              </a:rPr>
              <a:t>REPRESERNTACIÓN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cc0000"/>
                </a:solidFill>
                <a:latin typeface="Arial"/>
              </a:rPr>
              <a:t>DE LA PASIÓN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Arial"/>
              </a:rPr>
              <a:t>DE CRIST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  <p:sndAc>
      <p:stSnd>
        <p:snd r:embed="rId2" name="AmazingGrace_Mantovani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68360" y="6237360"/>
            <a:ext cx="7559640" cy="459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Jesús cae por segunda 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900000" y="6237360"/>
            <a:ext cx="7128000" cy="459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Jesús consuela a las hijas de Jerusalé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55640" y="6237360"/>
            <a:ext cx="7920000" cy="459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Jesús es despojado de sus vestidu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68360" y="6237360"/>
            <a:ext cx="7559640" cy="459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Jesús cae por tercera 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68360" y="6237360"/>
            <a:ext cx="7559640" cy="459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Jesús es clavado en la cru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0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68360" y="6237360"/>
            <a:ext cx="7559640" cy="459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Jesús muere entre dos ladr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30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900000" y="6237360"/>
            <a:ext cx="7488360" cy="459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Jesús es puesto en los brazos de su mad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30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68360" y="6237360"/>
            <a:ext cx="7559640" cy="459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Jesús es puesto en el sepul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300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68360" y="6237360"/>
            <a:ext cx="7559640" cy="459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Jesús resucitado al tercer 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0" y="404640"/>
            <a:ext cx="9144000" cy="606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ntonces, ¿quién es él?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¡Él es JESÚS!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Él es dign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os ojos que leen este mensaj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temerán al mal; la mano que enví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ste mensaje a todo el mundo  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trabajará en vano.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Y la boca que diga Amén a esta or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nreirá por siempre.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ermanece en Dios y busca su rostro.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¡AMEN!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¡En Dios todo lo encuentro!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3000"/>
                            </p:stCondLst>
                            <p:childTnLst>
                              <p:par>
                                <p:cTn id="234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60280"/>
            <a:ext cx="9144000" cy="679644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a impresionante representación de la pasión de Cristo en tamaño natural.  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 imágenes de la crucifixión de Cristo esculpidos en met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 escultor las hizo por la bondad                                  que llevaba  en su corazón.                                                                    Están ubicadas cerca de Amarillo, Texas en un terreno donado para tal f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¡Hay un mensaje al final de la presentació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755640" y="404640"/>
            <a:ext cx="7488360" cy="7346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l hombre más grande en la historia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Jesú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no tenía siervos                                                              y sin embargo le llamaban Seño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Jesú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no tenía ningún grado de estudio,                                                                   sin embargo le llamaban Maestro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Jesú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no tenía medicamentos,                                                     pero curaba a los enferm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Jesú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no tenía ejército, pero los reyes le respetaban y temían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3000"/>
                            </p:stCondLst>
                            <p:childTnLst>
                              <p:par>
                                <p:cTn id="246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692280"/>
            <a:ext cx="9144000" cy="563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 medicina: Él curó a los enfermos y los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iegos sin administrar una sola dosis de drog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n historia: Él es el PRINCIPIO y el FINAL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n el gobierno: Él dijo que sería llamado maravilloso consejero, príncipe de la paz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n la religión: dijo que nadie v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l Padre sino a través de Él.</a:t>
            </a:r>
            <a:r>
              <a:rPr b="1" lang="en-US" sz="2800" spc="-1" strike="noStrike">
                <a:solidFill>
                  <a:srgbClr val="06ae26"/>
                </a:solidFill>
                <a:latin typeface="Arial"/>
                <a:ea typeface="Arial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3000"/>
                            </p:stCondLst>
                            <p:childTnLst>
                              <p:par>
                                <p:cTn id="258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981000"/>
            <a:ext cx="9144000" cy="5639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Él no ganó batallas militares, y sin embarg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nquistó el mundo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Él no cometió delito alguno y, sin embarg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e crucificaron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ue enterrado en una tumba, y sin embar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Él vive ho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¡Me siento honrado de servir a este Jesús                               que me ama!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000"/>
                            </p:stCondLst>
                            <p:childTnLst>
                              <p:par>
                                <p:cTn id="270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0" y="0"/>
            <a:ext cx="9144000" cy="6919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Si tú crees en Dios Padre y en 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Jesucristo su Hijo.....                                                                    envíalo a todos de tu lista de amig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Si no, simplemente ignóralo.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Pero entonces recuerda que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Jesús dijo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El Padre ama al Hijo y ha puesto en sus manos todas las cosas.                                                                                  El que cree en el Hijo tiene vida eterna;                        el que no quiere creer al Hijo, no verá la vida;                                    la ira de Dios permanece sobre él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Jn 3, 35-3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300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68360" y="6237360"/>
            <a:ext cx="7559640" cy="459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Jesús en la última c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84360" y="6237360"/>
            <a:ext cx="7991280" cy="459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Jesús ante Pil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68360" y="6237360"/>
            <a:ext cx="7559640" cy="459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Jesús es cargado con la cru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187280" y="6237360"/>
            <a:ext cx="68407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Jesús cae por primera 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68360" y="6237360"/>
            <a:ext cx="7559640" cy="459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Jesús se encuentra con su Mad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0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68360" y="6308640"/>
            <a:ext cx="7559640" cy="459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Jesús es ayudado por el Cirin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68360" y="6127920"/>
            <a:ext cx="7559640" cy="459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Jesús es limpiado por la Veró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30T21:41:22Z</dcterms:created>
  <dc:creator>GTI</dc:creator>
  <dc:description/>
  <dc:language>en-US</dc:language>
  <cp:lastModifiedBy>particular</cp:lastModifiedBy>
  <dcterms:modified xsi:type="dcterms:W3CDTF">2010-03-12T21:26:18Z</dcterms:modified>
  <cp:revision>6</cp:revision>
  <dc:subject/>
  <dc:title>Presentación de PowerPoint</dc:title>
</cp:coreProperties>
</file>