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AmazingGrace_Mantovani.wav" ContentType="audio/x-wav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22FE-4EEA-4D62-90D0-792E37B2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1BC3-B706-41E2-8846-3FEA2B9F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543-08D3-451D-B875-533AC650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E9D-C93C-4FDB-B9D6-4EC74FA3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5E1-0716-4254-8AA4-DB3E886D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169D-920B-4525-8794-DE161E70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9F0-857E-4241-B49E-5837BC66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A48D-2997-484E-9D69-2E1B6302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F078-E1B5-4A12-BB76-B76EE0A4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58E-EB9D-4C0B-8B89-6FCF84EA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3CA-181E-474C-A2ED-7D537E43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E3A8-9CAA-49CC-A16A-48E6137D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97D4-D4A4-4069-A2CE-416022371E1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azingGrace_Mantovani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16720" y="6237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 para avan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692280"/>
            <a:ext cx="7993080" cy="518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IMPRESIONANT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REPRESERNTACIÓ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DE LA PASIÓ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DE CRIS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  <p:sndAc>
      <p:stSnd>
        <p:snd r:embed="rId2" name="AmazingGrace_Mantovan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623736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cae por segund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6237360"/>
            <a:ext cx="712800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consuela a las hijas de Jerusalé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6237360"/>
            <a:ext cx="792000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Jesús es despojado de sus vestid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8360" y="623736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cae por tercer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623736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es clavado en la cr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623736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muere entre dos ladr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6237360"/>
            <a:ext cx="748836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es puesto en los brazos de su m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8360" y="623736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es puesto en el sepul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8360" y="623736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resucitado al tercer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404640"/>
            <a:ext cx="9144000" cy="606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tonces, ¿quién es él?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Él es JESÚS!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l es dig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s ojos que leen este mensaj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temerán al mal; la mano que enví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ste mensaje a todo el mundo  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trabajará en van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 la boca que diga Amén a esta o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nreirá por siempre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manece en Dios y busca su rostr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AMEN!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En Dios todo lo encuentro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60280"/>
            <a:ext cx="9144000" cy="67964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a impresionante representación de la pasión de Cristo en tamaño natural.  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 imágenes de la crucifixión de Cristo esculpidos en met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escultor las hizo por la bondad                                  que llevaba  en su corazón.                                                                    Están ubicadas cerca de Amarillo, Texas en un terreno donado para tal 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¡Hay un mensaje al final de la presentació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55640" y="404640"/>
            <a:ext cx="7488360" cy="734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l hombre más grande en la historia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esú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o tenía siervos                                                              y sin embargo le llamaban Señ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esú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o tenía ningún grado de estudio,                                                                   sin embargo le llamaban Maestro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esú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o tenía medicamentos,                                                     pero curaba a los enferm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esú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o tenía ejército, pero los reyes le respetaban y temían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92280"/>
            <a:ext cx="9144000" cy="56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medicina: Él curó a los enfermos y lo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egos sin administrar una sola dosis de d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 historia: Él es el PRINCIPIO y el FINAL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 el gobierno: Él dijo que sería llamado maravilloso consejero, príncipe de la paz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 la religión: dijo que nadie v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 Padre sino a través de Él.</a:t>
            </a:r>
            <a:r>
              <a:rPr b="1" lang="en-US" sz="2800" spc="-1" strike="noStrike">
                <a:solidFill>
                  <a:srgbClr val="06ae26"/>
                </a:solidFill>
                <a:latin typeface="Arial"/>
                <a:ea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981000"/>
            <a:ext cx="9144000" cy="563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l no ganó batallas militares, y sin embar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quistó el mun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l no cometió delito alguno y, sin embar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e crucificaron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ue enterrado en una tumba, y sin embar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l vive ho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Me siento honrado de servir a este Jesús                               que me ama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Si tú crees en Dios Padre y en 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Jesucristo su Hijo.....                                                                    envíalo a todos de tu lista de amig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Si no, simplemente ignóralo.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ero entonces recuerda que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Jesús dijo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l Padre ama al Hijo y ha puesto en sus manos todas las cosas.                                                                                  El que cree en el Hijo tiene vida eterna;                        el que no quiere creer al Hijo, no verá la vida;                                    la ira de Dios permanece sobre é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Jn 3, 35-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8360" y="623736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en la última c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237360"/>
            <a:ext cx="799128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ante Pil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623736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es cargado con la cr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87280" y="6237360"/>
            <a:ext cx="684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cae por primer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623736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se encuentra con su M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630864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es ayudado por el Ciri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612792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es limpiado por la Veró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21:41:22Z</dcterms:created>
  <dc:creator>GTI</dc:creator>
  <dc:description/>
  <dc:language>en-US</dc:language>
  <cp:lastModifiedBy>particular</cp:lastModifiedBy>
  <dcterms:modified xsi:type="dcterms:W3CDTF">2010-03-12T21:26:18Z</dcterms:modified>
  <cp:revision>6</cp:revision>
  <dc:subject/>
  <dc:title>Presentación de PowerPoint</dc:title>
</cp:coreProperties>
</file>