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DIGITAR.WAV" ContentType="audio/x-wav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LASER.WAV" ContentType="audio/x-wav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95A-8A82-4F84-A2D7-B08ABA5D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554-324C-4C01-BAE3-3CBC1B9F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17C-6A9B-4FCF-8141-27EB6F02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5FD-20C8-49D9-8F1E-67F146A2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C0A-7181-4F38-B1B7-9AD89E76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D0E-189C-4B50-97CE-8AAA29B3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65F-E8FA-44C6-B82D-B13642F7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B28-C3D8-4D84-B6D3-9ED389FE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8E3-B3B3-49D0-BA2A-2003B537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F4C-0EED-466E-91CF-5989EE1A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97A-4B94-457F-967C-7276854C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997-3967-4AAF-BFE5-82B5445C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D25D-EBE8-4D7B-BA57-8FDB9B89DE2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DIGITAR.WAV"/><Relationship Id="rId3" Type="http://schemas.openxmlformats.org/officeDocument/2006/relationships/audio" Target="../media/DIGITA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audio" Target="../media/DIGITAR.WAV"/><Relationship Id="rId4" Type="http://schemas.openxmlformats.org/officeDocument/2006/relationships/audio" Target="../media/DIGITAR.WAV"/><Relationship Id="rId5" Type="http://schemas.openxmlformats.org/officeDocument/2006/relationships/audio" Target="../media/DIGITAR.WAV"/><Relationship Id="rId6" Type="http://schemas.openxmlformats.org/officeDocument/2006/relationships/audio" Target="../media/DIGITAR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IGITA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gif"/><Relationship Id="rId4" Type="http://schemas.openxmlformats.org/officeDocument/2006/relationships/audio" Target="../media/DIGITAR.WAV"/><Relationship Id="rId5" Type="http://schemas.openxmlformats.org/officeDocument/2006/relationships/audio" Target="../media/DIGITAR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gif"/><Relationship Id="rId3" Type="http://schemas.openxmlformats.org/officeDocument/2006/relationships/audio" Target="../media/DIGITAR.WAV"/><Relationship Id="rId4" Type="http://schemas.openxmlformats.org/officeDocument/2006/relationships/audio" Target="../media/DIGITAR.WAV"/><Relationship Id="rId5" Type="http://schemas.openxmlformats.org/officeDocument/2006/relationships/audio" Target="../media/DIGITAR.WAV"/><Relationship Id="rId6" Type="http://schemas.openxmlformats.org/officeDocument/2006/relationships/audio" Target="../media/DIGITA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IGITA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52_" descr=""/>
          <p:cNvPicPr/>
          <p:nvPr/>
        </p:nvPicPr>
        <p:blipFill>
          <a:blip r:embed="rId1"/>
          <a:stretch/>
        </p:blipFill>
        <p:spPr>
          <a:xfrm>
            <a:off x="0" y="685800"/>
            <a:ext cx="6303960" cy="5183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19720" y="90180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Digamos que son 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6:15 pm y est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yendo a c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(sólo por supuest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después de 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inusual día difíc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en el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Estás real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cansa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y frustrado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4876920"/>
            <a:ext cx="8229600" cy="2045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epentinamente experimentas un </a:t>
            </a:r>
            <a:r>
              <a:rPr b="1" lang="es-MX" sz="2800" spc="-1" strike="noStrike">
                <a:solidFill>
                  <a:srgbClr val="ff3300"/>
                </a:solidFill>
                <a:latin typeface="Comic Sans MS"/>
              </a:rPr>
              <a:t>fuerte dolor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en tu pecho y se difunde hacia tu brazo y hacia arriba en tu mandib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stás sólo a 8 km del hospital más cercano a tu c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esafortunadamente no sabes si lograrás llegar a esa dista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116208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PE01677_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432252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1560" y="360360"/>
            <a:ext cx="78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ESTAS BASTANTE ESTRESADO Y MOLESTO 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917440" y="1858320"/>
            <a:ext cx="718200" cy="17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34000" y="1407960"/>
            <a:ext cx="837720" cy="155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680080" y="1380960"/>
            <a:ext cx="756000" cy="209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914400"/>
            <a:ext cx="762120" cy="380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334120" y="990720"/>
            <a:ext cx="457200" cy="304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488200" y="1893960"/>
            <a:ext cx="606240" cy="98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914400"/>
            <a:ext cx="15228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724280" y="837720"/>
            <a:ext cx="0" cy="228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029200" y="914040"/>
            <a:ext cx="38088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GITA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90720" y="685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QUE DEBO HACER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3225960"/>
            <a:ext cx="5333760" cy="19227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 HAN ENTRENADO EN RCP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(Resucitación Cardio Pulmon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PERO EL INSTRUCTOR DEL CURSO NO TE DIJO COMO APLICARTELO A TI MISMO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175800">
            <a:off x="7353000" y="1790280"/>
            <a:ext cx="1676520" cy="1143000"/>
          </a:xfrm>
          <a:prstGeom prst="lightningBol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0750200">
            <a:off x="7327440" y="5268240"/>
            <a:ext cx="1676520" cy="1143000"/>
          </a:xfrm>
          <a:prstGeom prst="lightningBol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629400">
            <a:off x="228600" y="1905120"/>
            <a:ext cx="1676520" cy="1143000"/>
          </a:xfrm>
          <a:prstGeom prst="lightningBol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7296800">
            <a:off x="266760" y="5447880"/>
            <a:ext cx="1676520" cy="1143000"/>
          </a:xfrm>
          <a:prstGeom prst="lightningBol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152388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70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00"/>
                            </p:stCondLst>
                            <p:childTnLst>
                              <p:par>
                                <p:cTn id="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2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98920" y="533520"/>
          <a:ext cx="3745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8920" y="533520"/>
                    <a:ext cx="3745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52280" y="457200"/>
            <a:ext cx="4496040" cy="44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O SOBREVIVIR A UN ATAQUE AL CORAZON CUANDO TE ENCUENTRAS SOLO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CHA GENTE SE ENCUENTRA SOLA CUANDO SUFRE UN ATAQUE AL CORAZON, SIN AYUDA, LA PERSONA QUE SU CORAZON LATE INCORRECTAMENTE Y QUE COMIENZA A SENTIR DESMAYO, TIENE SOLO 10 SEGUNDOS ANTES DE PERDER LA CONC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867280"/>
            <a:ext cx="762012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QUE HACER 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248520" y="3124080"/>
            <a:ext cx="152388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HM00492_" descr=""/>
          <p:cNvPicPr/>
          <p:nvPr/>
        </p:nvPicPr>
        <p:blipFill>
          <a:blip r:embed="rId1"/>
          <a:stretch/>
        </p:blipFill>
        <p:spPr>
          <a:xfrm>
            <a:off x="0" y="1219320"/>
            <a:ext cx="3505320" cy="3898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00400" y="380880"/>
            <a:ext cx="594360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0000"/>
                </a:solidFill>
                <a:uFillTx/>
                <a:latin typeface="Comic Sans MS"/>
              </a:rPr>
              <a:t>RESPUESTA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omic Sans MS"/>
              </a:rPr>
              <a:t>NO TENGA PANICO, COMIENCE A TOSER REPETIDA Y VIGOROSAMENT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SE DEBE HACER UN RESPIRO PROFUNDO ANTES DE CADA TOSIDA, EL TOSER DEBE SER PROFUNDO Y PROLONGADO, COMO CUANDO SE PRODUCE FLEMA DESDE MUY PROFUNDO EN EL PECH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UN RESPIRO Y UN TOCIDO DEBE SER REPETIDO ALREDEDOR DE CADA DOS SEGUNDOS SIN PARAR HASTA QUE SE CONSIGA AYUDA, O HASTA QUE EL CORAZON ESTÉ LATIENDO NORMAL NUEVAMENT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3880" y="3505320"/>
            <a:ext cx="152424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482760"/>
            <a:ext cx="8001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AS RESPIRACIONES PROFUNDAS LLEVAN 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OXIGEN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 LOS PULMONES Y LOS MOVIMIENTOS AL TOSER COMPRIMEN EL CORAZON Y MANTIENEN LA SANGRE 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CIRCULAND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LA PRESION SOBRE EL CORAZON TAMBIEN LO AYUDA A RECUPERAR SU RITMO NORMAL. DE ESTA MANERA, LAS VICTIMAS DE UN ATAQUE AL CORAZON PUEDEN LLEGAR AL HOS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6087960"/>
            <a:ext cx="6477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mic Sans MS"/>
              </a:rPr>
              <a:t>ARTICLE PUBLISHED ON N.º 240 OF </a:t>
            </a:r>
            <a:r>
              <a:rPr b="0" i="1" lang="pt-BR" sz="1400" spc="-1" strike="noStrike">
                <a:solidFill>
                  <a:srgbClr val="000000"/>
                </a:solidFill>
                <a:latin typeface="Comic Sans MS"/>
              </a:rPr>
              <a:t>JOURNAL OF GENERAL HOSPITAL RO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2008080" cy="2133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457200"/>
            <a:ext cx="647676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ARTA ESTO CON TANTA GENTE COMO SEA PO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TO PODRIA SALVAR SUS VIDAS!!! NO PIENSE QUE USTED NO ES PROPENSO A UN ATAQUE AL CORAZON SI SU EDAD ES MENOR DE 25 O 30. HOY EN DIA, DEBIDO AL CAMBIO EN NUESTRO ESTILO DE VIDA, LOS ATAQUES AL CORAZON SE ENCUENTRAN ENTRE LOS GRUPOS DE GENTE DE TODAS LAS E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SEA UN AMIGO Y POR FAVOR ENVIE ESTE ARTICULO A TANTOS AMIGOS COMO SEA PO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352680" y="5181480"/>
            <a:ext cx="2895840" cy="1575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7:15:26Z</dcterms:created>
  <dc:creator>BH39453</dc:creator>
  <dc:description/>
  <dc:language>en-US</dc:language>
  <cp:lastModifiedBy>ANABELEN</cp:lastModifiedBy>
  <dcterms:modified xsi:type="dcterms:W3CDTF">2005-04-29T15:43:05Z</dcterms:modified>
  <cp:revision>41</cp:revision>
  <dc:subject/>
  <dc:title>Slide sem título </dc:title>
</cp:coreProperties>
</file>