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DIGITAR.WAV" ContentType="audio/x-wav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LASER.WAV" ContentType="audio/x-wav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08C-40CE-428C-B31E-36F0BC75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F0B-4593-45CF-B68F-88597B6C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0FF-C3D9-433E-851E-B6D7A204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419-5B85-48BD-9CA9-14E1D583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DA7-7EF6-41A6-996E-E2F59E4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CA4-CD2C-4813-8CB6-075F284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1F5-B4B8-4831-88B1-19674D3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B97-3397-4332-A29B-D9EEFE8E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E8D-D2EB-40EC-993F-083B2B99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28C-D8F1-44B9-97C3-D08CA93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003-2A20-4127-8689-0954CB2E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28C-63D6-49F8-9A88-538DFC9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38EA-527C-41B7-AE7C-6B0D785274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IGITAR.WAV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audio" Target="../media/DIGITA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gif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audio" Target="../media/DIGITAR.WAV"/><Relationship Id="rId4" Type="http://schemas.openxmlformats.org/officeDocument/2006/relationships/audio" Target="../media/DIGITAR.WAV"/><Relationship Id="rId5" Type="http://schemas.openxmlformats.org/officeDocument/2006/relationships/audio" Target="../media/DIGITAR.WAV"/><Relationship Id="rId6" Type="http://schemas.openxmlformats.org/officeDocument/2006/relationships/audio" Target="../media/DIGITA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52_" descr=""/>
          <p:cNvPicPr/>
          <p:nvPr/>
        </p:nvPicPr>
        <p:blipFill>
          <a:blip r:embed="rId1"/>
          <a:stretch/>
        </p:blipFill>
        <p:spPr>
          <a:xfrm>
            <a:off x="0" y="685800"/>
            <a:ext cx="63039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19720" y="90180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Digamos que son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6:15 pm y est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yendo a c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(sólo por supuest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después de 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inusual día difí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n el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Estás real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cans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y frustrado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876920"/>
            <a:ext cx="8229600" cy="2045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pentinamente experimentas un </a:t>
            </a:r>
            <a:r>
              <a:rPr b="1" lang="es-MX" sz="2800" spc="-1" strike="noStrike">
                <a:solidFill>
                  <a:srgbClr val="ff3300"/>
                </a:solidFill>
                <a:latin typeface="Comic Sans MS"/>
              </a:rPr>
              <a:t>fuerte dolor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 en tu pecho y se difunde hacia tu brazo y hacia arriba en tu mandib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stás sólo a 8 km del hospital más cercano a tu c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safortunadamente no sabes si lograrás llegar a esa di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116208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E01677_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432252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1560" y="360360"/>
            <a:ext cx="78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STAS BASTANTE ESTRESADO Y MOLESTO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917440" y="1858320"/>
            <a:ext cx="718200" cy="1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34000" y="1407960"/>
            <a:ext cx="837720" cy="155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80080" y="1380960"/>
            <a:ext cx="756000" cy="209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914400"/>
            <a:ext cx="76212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334120" y="990720"/>
            <a:ext cx="457200" cy="304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88200" y="1893960"/>
            <a:ext cx="606240" cy="9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914400"/>
            <a:ext cx="1522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24280" y="837720"/>
            <a:ext cx="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029200" y="914040"/>
            <a:ext cx="38088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685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QUE DEBO HACER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225960"/>
            <a:ext cx="5333760" cy="19227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 HAN ENTRENADO EN RCP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(Resucitación Cardio Pulmon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PERO EL INSTRUCTOR DEL CURSO NO TE DIJO COMO APLICARTELO A TI MISMO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175800">
            <a:off x="7353000" y="17902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750200">
            <a:off x="7327440" y="526824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629400">
            <a:off x="228600" y="190512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7296800">
            <a:off x="266760" y="54478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152388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00"/>
                            </p:stCondLst>
                            <p:childTnLst>
                              <p:par>
                                <p:cTn id="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2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98920" y="533520"/>
          <a:ext cx="3745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8920" y="533520"/>
                    <a:ext cx="3745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457200"/>
            <a:ext cx="4496040" cy="44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O SOBREVIVIR A UN ATAQUE AL CORAZON CUANDO TE ENCUENTRAS SOLO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CHA GENTE SE ENCUENTRA SOLA CUANDO SUFRE UN ATAQUE AL CORAZON, SIN AYUDA, LA PERSONA QUE SU CORAZON LATE INCORRECTAMENTE Y QUE COMIENZA A SENTIR DESMAYO, TIENE SOLO 10 SEGUNDOS ANTES DE PERDER LA CON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867280"/>
            <a:ext cx="76201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QUE HACER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15238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HM00492_" descr=""/>
          <p:cNvPicPr/>
          <p:nvPr/>
        </p:nvPicPr>
        <p:blipFill>
          <a:blip r:embed="rId1"/>
          <a:stretch/>
        </p:blipFill>
        <p:spPr>
          <a:xfrm>
            <a:off x="0" y="1219320"/>
            <a:ext cx="3505320" cy="389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0400" y="380880"/>
            <a:ext cx="59436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0000"/>
                </a:solidFill>
                <a:uFillTx/>
                <a:latin typeface="Comic Sans MS"/>
              </a:rPr>
              <a:t>RESPUEST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Comic Sans MS"/>
              </a:rPr>
              <a:t>NO TENGA PANICO, COMIENCE A TOSER REPETIDA Y VIGOROSAMEN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SE DEBE HACER UN RESPIRO PROFUNDO ANTES DE CADA TOSIDA, EL TOSER DEBE SER PROFUNDO Y PROLONGADO, COMO CUANDO SE PRODUCE FLEMA DESDE MUY PROFUNDO EN EL PECH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UN RESPIRO Y UN TOCIDO DEBE SER REPETIDO ALREDEDOR DE CADA DOS SEGUNDOS SIN PARAR HASTA QUE SE CONSIGA AYUDA, O HASTA QUE EL CORAZON ESTÉ LATIENDO NORMAL NUEVAMEN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505320"/>
            <a:ext cx="15242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482760"/>
            <a:ext cx="8001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S RESPIRACIONES PROFUNDAS LLEVAN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OXIGEN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A LOS PULMONES Y LOS MOVIMIENTOS AL TOSER COMPRIMEN EL CORAZON Y MANTIENEN LA SANGRE 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CIRCULAND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LA PRESION SOBRE EL CORAZON TAMBIEN LO AYUDA A RECUPERAR SU RITMO NORMAL. DE ESTA MANERA, LAS VICTIMAS DE UN ATAQUE AL CORAZON PUEDEN LLEGAR AL 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6087960"/>
            <a:ext cx="6477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ARTICLE PUBLISHED ON N.º 240 OF </a:t>
            </a: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JOURNAL OF GENERAL HOSPITAL RO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0080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457200"/>
            <a:ext cx="64767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ARTA ESTO CON TANTA GENTE COMO SEA PO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TO PODRIA SALVAR SUS VIDAS!!! NO PIENSE QUE USTED NO ES PROPENSO A UN ATAQUE AL CORAZON SI SU EDAD ES MENOR DE 25 O 30. HOY EN DIA, DEBIDO AL CAMBIO EN NUESTRO ESTILO DE VIDA, LOS ATAQUES AL CORAZON SE ENCUENTRAN ENTRE LOS GRUPOS DE GENTE DE TODAS LAS E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EA UN AMIGO Y POR FAVOR ENVIE ESTE ARTICULO A TANTOS AMIGOS COMO SEA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52680" y="5181480"/>
            <a:ext cx="2895840" cy="157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7:15:26Z</dcterms:created>
  <dc:creator>BH39453</dc:creator>
  <dc:description/>
  <dc:language>en-US</dc:language>
  <cp:lastModifiedBy>ANABELEN</cp:lastModifiedBy>
  <dcterms:modified xsi:type="dcterms:W3CDTF">2005-04-29T15:43:05Z</dcterms:modified>
  <cp:revision>41</cp:revision>
  <dc:subject/>
  <dc:title>Slide sem título </dc:title>
</cp:coreProperties>
</file>