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Fl%C3%BBtes%20indiennes.wav" ContentType="audio/x-wav"/>
  <Override PartName="/ppt/media/image3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5B83-95BF-469B-9482-3EA329FE8D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5C1F-5672-4CA3-809A-73B0BFE72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11D-54F7-4B6C-9B52-1126AFEF7D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EAA5-2A0E-4037-8CC9-5A794CD84D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BD33-0CE0-47DF-8DC7-295959EBAA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A0B1-FB74-4401-BF96-524DA411F2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E6C8-17F3-40CA-BA5D-F02970909F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735-7255-42A6-8739-AF177D85F1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7C9-59AA-498D-B46C-E09C9EA09C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342-A9F8-4259-9835-962927A134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E3A4-79EE-49B5-A709-E07BE734C6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3331-8BF9-4FBB-82AB-2004AC1228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06BC-79F1-4B1C-B5F1-9A012E2024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8C9E-236E-4FF7-AFD7-686D3BC4B7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7B44-9E73-4C68-832B-8D8AD3CA85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770B-DCB9-4EA1-96A8-634526ACE9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87E6-1642-42DB-8DFD-4F5C266195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E646-8B07-4ACE-B044-2CA4743651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91D-CDE1-4BD2-901C-95DD7C2D5D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1C49-1D89-4B5A-9AFF-7B89607DC1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A2DD-792C-44F0-8D1E-75BD88EABC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B18-03D0-4DEF-A3B4-1CD74C2252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F5F2-FDD8-4DF3-BF59-0DFE37827E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2C3-0FFD-4F06-B39D-D9726D6EDC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B0D8-3D5C-4A91-AD14-CCBCDD9FB4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25E7-9102-43CA-9B5A-804EA4E2E4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2EEA-858F-4155-A1D2-05A27826D2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22C-79A7-4BD8-AA3B-C8D11080BF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11C-60A3-4525-A604-9498906143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0DC-D9EB-4AE6-AAC5-97BEC12439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33B-09B7-4C8A-B238-869CC0D420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5D36-0EA1-4610-AD54-10E8710253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AEC-917F-4A15-A632-847CD91619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03B-EA57-4ECF-8505-CB3FB59F85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3BEE-B8B2-48CB-A15D-163785F65A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F46E-C56C-4DAA-8973-6BD7B5E205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2E5-73EA-4B41-BE22-4894ADEF87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889-1ABC-4B5A-8AD1-70E53FA128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E1C7-6F79-4101-94A3-56C2CF5235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0EFE-EBC7-423A-8A57-A0B6F9E454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1550-9346-473B-BCC0-25ABB0B345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8C3-5EBE-403F-B538-2659021386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92F-10A6-4199-8C04-062D1F9817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E17D-3300-4C91-99F0-A3F7A4DDC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AD9B-81BC-44DA-8032-F76347C79D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5F7D-65BA-42F0-92B0-1DC10B0A8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7CE-0FF4-4A7E-BC51-436C5960E0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61F1-2B3A-4BC0-8B90-94F933CECD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D14B-7A7A-42C1-83BD-1ADC907C3A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913-53D7-4E50-83C2-B979C4DA30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7CB-BC39-4E0C-9427-B7A7E30212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2BAA-9C70-4784-9F2C-6DC161613E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6515-2F30-4342-9155-211205C2EB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8FE-C6F0-4885-B5C5-496A6297FE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0CE-0159-4EDB-9D27-CCB35843CF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037F-E851-4F23-9C22-831F649C42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55CC-2FF8-4100-B24E-B96B7DEA83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8B1-74F4-48AB-9C0E-0446E6A5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0F6-E38C-4F38-803D-44E6B91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3CA-08F9-475A-9E43-391457DD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BBF-F81D-4FFC-8CD6-E452DBDB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767-A586-4B2D-9A93-9FA0BA28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FB2-985C-4640-A3E8-A1F2306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F73-00C6-43E5-907B-101232E7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AAA-B647-41AE-BE10-DE11DAAB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CE4-BC07-4FD9-8DED-46228CF8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0E1-0651-4F28-9917-8EA9412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1AB-4342-4530-A9D2-1E0FEABB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326-EC07-46F4-B5B7-C409CB2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A1DA-F49B-49F5-9896-E8A30E2FB7A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Fl&#251;tes%20indienn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_Machu Picchu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14200" y="78588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Mucho tiempo después de Babilon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 Gran Mural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s Pirámide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2924280"/>
            <a:ext cx="839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Los hombres fueron a instalarse en un lugar alto, colgado, casi inaccesibled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139840" y="4437000"/>
            <a:ext cx="46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os hijos del 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948200" y="5143680"/>
            <a:ext cx="41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66"/>
                </a:solidFill>
                <a:latin typeface="MarcoPoloSCapsSSK"/>
              </a:rPr>
              <a:t>Los In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648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Música: Flautas indias                                                                               Auto 6´´ o 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3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1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62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_Machu Picchu (temple de la Lun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_Machu Picchu 00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_Machu Picchu 007"/>
          <p:cNvPicPr/>
          <p:nvPr/>
        </p:nvPicPr>
        <p:blipFill>
          <a:blip r:embed="rId2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_Machu Picchu 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_Machu Picchu 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_Machu Picchu 026"/>
          <p:cNvPicPr/>
          <p:nvPr/>
        </p:nvPicPr>
        <p:blipFill>
          <a:blip r:embed="rId2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_Machu Picchu 0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_Machu Picchu 0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_Machu Picchu 03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_Machu Picchu 0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_Machu Picchu 0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143000" y="5429160"/>
            <a:ext cx="76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ff"/>
                </a:solidFill>
                <a:latin typeface="Comic Sans MS"/>
              </a:rPr>
              <a:t>El Machu Picc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_Machu Picchu 0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G_Machu Picchu 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14200" y="428760"/>
            <a:ext cx="67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Terrazas que dejan sin 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G_Machu Picchu 0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_Machu Picchu 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D_Machu Picchu 0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_Machu Picchu 047"/>
          <p:cNvPicPr/>
          <p:nvPr/>
        </p:nvPicPr>
        <p:blipFill>
          <a:blip r:embed="rId2"/>
          <a:stretch/>
        </p:blipFill>
        <p:spPr>
          <a:xfrm>
            <a:off x="222732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D_Machu Picchu 049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G_Machu Picchu 0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G_Machu Picchu 046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85840" y="928800"/>
            <a:ext cx="62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terrazas al borde del vac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_Machu Picchu 082"/>
          <p:cNvPicPr/>
          <p:nvPr/>
        </p:nvPicPr>
        <p:blipFill>
          <a:blip r:embed="rId2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_Machu Picchu 0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_Machu Picchu 084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G_Machu Picchu 058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_Machu Picchu (Le compas 0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14800" y="33336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una curiosa mesa de 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D_Machu Picchu (Le compas 02)"/>
          <p:cNvPicPr/>
          <p:nvPr/>
        </p:nvPicPr>
        <p:blipFill>
          <a:blip r:embed="rId2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_Machu Picchu (le compas 03)"/>
          <p:cNvPicPr/>
          <p:nvPr/>
        </p:nvPicPr>
        <p:blipFill>
          <a:blip r:embed="rId2"/>
          <a:stretch/>
        </p:blipFill>
        <p:spPr>
          <a:xfrm>
            <a:off x="223524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D_Machu Picchu (Porte du soleil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G_Machu Picchu 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G_Machu Picchu 0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_Machu Picchu 0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G_Machu Picchu 0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_Machu Picchu 0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G_Machu Picchu 0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G_Machu Picchu 04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_Machu Picchu 0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G_Machu Picchu 0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G_Machu Picchu 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G_Machu Picchu 0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_Machu Picchu 0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G_Machu Picchu 081"/>
          <p:cNvPicPr/>
          <p:nvPr/>
        </p:nvPicPr>
        <p:blipFill>
          <a:blip r:embed="rId2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G_Machu Picchu 09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A_Machu Picchu 078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_Machu Picchu (Accè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14200" y="35712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Un camino poco evi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_Machu Picchu 090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_Machu Picchu 070"/>
          <p:cNvPicPr/>
          <p:nvPr/>
        </p:nvPicPr>
        <p:blipFill>
          <a:blip r:embed="rId2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G_Machu Picchu 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_Machu Picchu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324000" y="189000"/>
            <a:ext cx="606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En el un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       ‘</a:t>
            </a: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nada es imposibl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187280" y="278136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nos dicen los hermanos Bogd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0" y="4365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Entonces, tengamos confianza en el genio humano; hay, quizás no muy lejos, otro sol, otro planeta, donde otros hijos del sol constru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‘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Machu Picchu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2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 rot="20089800">
            <a:off x="3280320" y="1973160"/>
            <a:ext cx="57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omic Sans MS"/>
              </a:rPr>
              <a:t>¿Estaremos allí para ver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P_Machu Picchu 035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51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600200" y="314172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_Machu Picchu (Accès 02)"/>
          <p:cNvPicPr/>
          <p:nvPr/>
        </p:nvPicPr>
        <p:blipFill>
          <a:blip r:embed="rId2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_Machu Picchu 080"/>
          <p:cNvPicPr/>
          <p:nvPr/>
        </p:nvPicPr>
        <p:blipFill>
          <a:blip r:embed="rId2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_Machu Picchu (Accès 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571760" y="285840"/>
            <a:ext cx="53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Felizmente, ahora hay ¡és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_Machu Picchu 0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10:04Z</dcterms:created>
  <dc:creator>cotelle</dc:creator>
  <dc:description/>
  <dc:language>en-US</dc:language>
  <cp:lastModifiedBy>José Luis Martín de Jorge Castro</cp:lastModifiedBy>
  <dcterms:modified xsi:type="dcterms:W3CDTF">2008-02-04T21:37:27Z</dcterms:modified>
  <cp:revision>19</cp:revision>
  <dc:subject/>
  <dc:title>Diapositive 1</dc:title>
</cp:coreProperties>
</file>