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Fl%C3%BBtes%20indiennes.wav" ContentType="audio/x-wav"/>
  <Override PartName="/ppt/media/image3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B81-6152-4A48-A796-EF1FD21AF6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803-C6DC-4C25-AADC-6AE232C5EA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1783-F0C6-40AF-BA2E-E4FCEF5D56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21C-5609-4774-B06B-5BE9D65FC5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5AC-9D48-4EA7-A594-50D2A8F546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028D-2315-4E5D-9A7F-87A8687050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5F5-5C57-4CCC-83EE-9E5B61395A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EFCD-5043-44A3-88D3-1E7FA17A37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A8CF-AC3F-4C90-A2B5-983506F7ED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D5D-9E94-4962-AFAA-BE903744C9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B09-0A0C-4249-9095-B94E94704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354-B450-4AC9-A85C-EF741667B2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AA0-A19B-4D48-9B40-77F89C0454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4BB-74BA-46D3-B7D0-4A67AD7FA3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1D59-014B-4152-AF52-4BDD4A356E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F6A1-8CF6-4FCE-B2ED-25492EF5BC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4C6B-73E2-4470-87ED-8C83A4FD2E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7030-3D49-4DA7-ADFE-6DD3177AFB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52FF-59B0-4AEE-9E06-9AC5E24DD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D4DD-F0FD-474A-B556-F0A2730CB5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DC4E-595D-4A97-A13A-241B152DD7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B397-27D2-429D-8784-A9EEE32745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E84-C96C-4055-A881-ED4937CF05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F22-0C09-4C89-945D-47EA5BB210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9EA-E110-4A9F-9256-3FE68610DB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056-A263-49E2-AD4B-32CC3AD04B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63E8-889D-450C-841E-DDDCB670B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76C-C576-4911-8CAD-F3DC383754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A67-5E80-4EC1-BE3F-982F1134AE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DAB2-FB71-44C7-808C-306B290ED5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3C5-5E14-4658-A23A-50DA39B244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6106-ED3F-4708-A2C7-7765984D96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656-7913-451B-A2AA-6F11949D86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DB86-E3A8-4B00-81D5-64F73A376F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968-68AB-481B-822A-735F957438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50AB-E4CA-4483-A6BA-8C93B4DF72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18E-BA55-49BA-9410-60D3CCEB71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62EB-B6DF-4F38-BB1D-22C4DBCC55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7FE-C4E2-4810-8C78-F638C6DDBA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C544-81DB-4342-B05C-E4A83FA986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F949-290F-49F9-B3F2-26331161EF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49B5-C971-4FE7-B8BE-BF99C2E821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E921-C4CD-4E6D-A137-2289A987C1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3F9-B26B-41A6-A196-583951348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36B-3D90-4CA5-AF80-CF706BA1BD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0D1-C2EE-49EE-AB43-BA7F7CB9B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71D-B726-446B-BC19-C8D36404D6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843B-A5F5-4D17-A8A7-A15500325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CEC-D222-48B6-B644-5D16B85D73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23D-C14A-4B8F-9C5C-AAB16C1A81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45C7-EA55-4BD7-8A5E-11846D147C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8BD2-CB32-4549-AB04-2A8115E46F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CBF-B813-4919-BCA0-5177DF4C6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A82-7A34-4244-A19D-E7A243A24D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3356-E39A-4499-83D2-F5874BE7A0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826-20D2-43FF-A68E-7DE44681AB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53E-ED1E-4ED1-BA33-5120B2AC00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67C-FF31-497D-8140-56DD86AE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739-6071-4DEB-952E-3DA8988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357-89FE-4ABB-85DE-858B53E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C51-AA2A-416F-87EE-886EAF51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D1B-05B5-4E90-94EC-84BF7CF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0B4-59A5-44FD-A1FB-CD3BCD8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96C-CC99-44FA-829D-6ABBC482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C37-2E04-4E8F-8CCC-20A9F96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74B-FCE6-4208-A94D-F36F3442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C56-7A3E-4BB2-8BF8-B2BAA0F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328-6AB5-41DE-8A31-E07F295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C99-D8EE-4987-800A-C2E921C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63D-51BA-44C3-886F-ABF9CB51DF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Fl&#251;tes%20indienn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_Machu Picchu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14200" y="78588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Mucho tiempo después de Babilon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 Gran Mural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Pirámide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2924280"/>
            <a:ext cx="83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Los hombres fueron a instalarse en un lugar alto, colgado, casi inaccesibled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39840" y="4437000"/>
            <a:ext cx="46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os hijos del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948200" y="5143680"/>
            <a:ext cx="41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MarcoPoloSCapsSSK"/>
              </a:rPr>
              <a:t>Los In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648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Música: Flautas indias                                                                               Auto 6´´ o 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3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1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62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_Machu Picchu (temple de la Lun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_Machu Picchu 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_Machu Picchu 007"/>
          <p:cNvPicPr/>
          <p:nvPr/>
        </p:nvPicPr>
        <p:blipFill>
          <a:blip r:embed="rId2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_Machu Picchu 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_Machu Picchu 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_Machu Picchu 026"/>
          <p:cNvPicPr/>
          <p:nvPr/>
        </p:nvPicPr>
        <p:blipFill>
          <a:blip r:embed="rId2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_Machu Picchu 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_Machu Picchu 0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_Machu Picchu 0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_Machu Picchu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_Machu Picchu 0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143000" y="5429160"/>
            <a:ext cx="76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ff"/>
                </a:solidFill>
                <a:latin typeface="Comic Sans MS"/>
              </a:rPr>
              <a:t>El Machu Picc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_Machu Picchu 0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G_Machu Picchu 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14200" y="428760"/>
            <a:ext cx="67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Terrazas que dejan sin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G_Machu Picchu 0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_Machu Picchu 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D_Machu Picchu 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_Machu Picchu 047"/>
          <p:cNvPicPr/>
          <p:nvPr/>
        </p:nvPicPr>
        <p:blipFill>
          <a:blip r:embed="rId2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D_Machu Picchu 049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G_Machu Picchu 0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G_Machu Picchu 046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85840" y="928800"/>
            <a:ext cx="62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terrazas al borde del v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_Machu Picchu 082"/>
          <p:cNvPicPr/>
          <p:nvPr/>
        </p:nvPicPr>
        <p:blipFill>
          <a:blip r:embed="rId2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_Machu Picchu 0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_Machu Picchu 084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G_Machu Picchu 058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_Machu Picchu (Le compas 0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14800" y="3333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una curiosa mesa de 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_Machu Picchu (Le compas 02)"/>
          <p:cNvPicPr/>
          <p:nvPr/>
        </p:nvPicPr>
        <p:blipFill>
          <a:blip r:embed="rId2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_Machu Picchu (le compas 03)"/>
          <p:cNvPicPr/>
          <p:nvPr/>
        </p:nvPicPr>
        <p:blipFill>
          <a:blip r:embed="rId2"/>
          <a:stretch/>
        </p:blipFill>
        <p:spPr>
          <a:xfrm>
            <a:off x="223524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_Machu Picchu (Porte du soleil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G_Machu Picchu 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G_Machu Picchu 0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_Machu Picchu 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G_Machu Picchu 0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_Machu Picchu 0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G_Machu Picchu 0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G_Machu Picchu 0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_Machu Picchu 0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G_Machu Picchu 0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G_Machu Picchu 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G_Machu Picchu 0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_Machu Picchu 0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G_Machu Picchu 081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G_Machu Picchu 09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A_Machu Picchu 078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_Machu Picchu (Accè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14200" y="35712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 camino poco ev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_Machu Picchu 090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_Machu Picchu 070"/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G_Machu Picchu 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_Machu Picchu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324000" y="189000"/>
            <a:ext cx="60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En el un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      ‘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ada es imposib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187280" y="278136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os dicen los hermanos Bogd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0" y="4365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Entonces, tengamos confianza en el genio humano; hay, quizás no muy lejos, otro sol, otro planeta, donde otros hijos del sol constru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‘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Machu Picch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2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 rot="20089800">
            <a:off x="3280320" y="1973160"/>
            <a:ext cx="57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omic Sans MS"/>
              </a:rPr>
              <a:t>¿Estaremos allí para ver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_Machu Picchu 035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600200" y="314172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_Machu Picchu (Accès 02)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_Machu Picchu 080"/>
          <p:cNvPicPr/>
          <p:nvPr/>
        </p:nvPicPr>
        <p:blipFill>
          <a:blip r:embed="rId2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_Machu Picchu (Accès 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71760" y="285840"/>
            <a:ext cx="53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Felizmente, ahora hay ¡és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_Machu Picchu 0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10:04Z</dcterms:created>
  <dc:creator>cotelle</dc:creator>
  <dc:description/>
  <dc:language>en-US</dc:language>
  <cp:lastModifiedBy>José Luis Martín de Jorge Castro</cp:lastModifiedBy>
  <dcterms:modified xsi:type="dcterms:W3CDTF">2008-02-04T21:37:27Z</dcterms:modified>
  <cp:revision>19</cp:revision>
  <dc:subject/>
  <dc:title>Diapositive 1</dc:title>
</cp:coreProperties>
</file>