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Jardi%20dels%20miralls%20S.Micusw.wav" ContentType="audio/x-wav"/>
  <Override PartName="/ppt/media/image4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8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976B-9C6E-436F-9459-A8044E4F0A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F7BD-D41A-49A6-B4CD-28DCF62D95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3CB-B743-4D45-ACD7-6C5AF421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180B-BF23-4B35-A751-282C1051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92F-8475-4E8C-8003-5FBCCDD0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40E-B222-4B9A-8FEC-29689AE7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178-9946-4569-A65D-8EA5A22E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208-2764-4DA8-9516-DE39FF92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520-C3B5-4653-A8FA-6950D0C5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FF2-D0E6-4006-B154-27E46F96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13D2-3236-4033-84A0-3456367C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F979-85C0-47D8-8642-38A24595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B22-B399-4556-9769-A7E6F180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5B9-F05A-4625-A93E-B201BEA2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D86D934-A620-4E1D-AEA2-9B9EDBC89DF6}" type="datetime10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07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CB94-3C67-484B-89F4-AAFE06D44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Jardi%20dels%20miralls%20S.Micusw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chimes.wav"/><Relationship Id="rId10" Type="http://schemas.openxmlformats.org/officeDocument/2006/relationships/audio" Target="../media/PLUGIN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reandoprosperidad.scoom.com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9 Imagen" descr="resized_Arbel78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7"/>
          <p:cNvSpPr/>
          <p:nvPr/>
        </p:nvSpPr>
        <p:spPr>
          <a:xfrm>
            <a:off x="7328880" y="160200"/>
            <a:ext cx="1599480" cy="627480"/>
          </a:xfrm>
          <a:prstGeom prst="rect">
            <a:avLst/>
          </a:prstGeom>
          <a:solidFill>
            <a:srgbClr val="ddeaa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71280" y="55440"/>
            <a:ext cx="6357960" cy="100764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Aquest epigrama de Casablancas pot insinuar els revolts del cam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9 Imagen" descr="resized_Arbel78w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7"/>
          <p:cNvSpPr/>
          <p:nvPr/>
        </p:nvSpPr>
        <p:spPr>
          <a:xfrm>
            <a:off x="7400520" y="214200"/>
            <a:ext cx="1599480" cy="627480"/>
          </a:xfrm>
          <a:prstGeom prst="rect">
            <a:avLst/>
          </a:prstGeom>
          <a:solidFill>
            <a:srgbClr val="ddeaa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571680" y="1106640"/>
            <a:ext cx="701172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b3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0" y="335772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db32d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db32d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214280" y="5786280"/>
            <a:ext cx="7012080" cy="76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eaa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deaa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WordArt 8"/>
          <p:cNvSpPr txBox="1"/>
          <p:nvPr/>
        </p:nvSpPr>
        <p:spPr>
          <a:xfrm>
            <a:off x="1000080" y="1143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4800e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 1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4800e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94400" y="27147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11"/>
          <p:cNvSpPr txBox="1"/>
          <p:nvPr/>
        </p:nvSpPr>
        <p:spPr>
          <a:xfrm>
            <a:off x="500040" y="3357720"/>
            <a:ext cx="82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WordArt 12"/>
          <p:cNvSpPr txBox="1"/>
          <p:nvPr/>
        </p:nvSpPr>
        <p:spPr>
          <a:xfrm>
            <a:off x="1143000" y="5715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42920" y="47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2d050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142920" y="4857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3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71280" y="0"/>
            <a:ext cx="7000920" cy="100764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l jardín de los espejos” de Micus puede sugerir las falsas real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4" name="Jardi%20dels%20miralls%20S.Micus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21" dur="1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23" dur="8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25" dur="1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27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29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85840" y="142920"/>
            <a:ext cx="8501040" cy="585468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les propuso una parábola: "Un hombre rico tuvo una gran cosecha. Y empezó a echar cálculos: ¿Qué haré? No tengo donde almacenar la cosecha."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4 Imagen" descr="Foto_familia_lideres_G-20.jpg"/>
          <p:cNvPicPr/>
          <p:nvPr/>
        </p:nvPicPr>
        <p:blipFill>
          <a:blip r:embed="rId2"/>
          <a:stretch/>
        </p:blipFill>
        <p:spPr>
          <a:xfrm>
            <a:off x="428760" y="1643040"/>
            <a:ext cx="8715240" cy="4319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142920" y="1643040"/>
            <a:ext cx="3591000" cy="49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Si miras al más rico, siempre serás pobre, si miras al más pobre siempre serás r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42920" y="142920"/>
            <a:ext cx="842976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s países ricos siempre quieren sacar beneficios de los pob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5 CuadroTexto"/>
          <p:cNvSpPr/>
          <p:nvPr/>
        </p:nvSpPr>
        <p:spPr>
          <a:xfrm>
            <a:off x="4429080" y="6143760"/>
            <a:ext cx="36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-20 Toronto 20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357120" y="214200"/>
            <a:ext cx="8501040" cy="61887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se dijo: "Haré lo siguiente: derribaré los graneros y construiré otros más grandes, y almacenaré allí todo el grano y el resto de mi cosecha. Y entonces me diré a mí mismo: hombre, tienes bienes acumulados para muchos años; túmbate, come, bebe y date buena vida.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4 Imagen" descr="ricfillw.jpg"/>
          <p:cNvPicPr/>
          <p:nvPr/>
        </p:nvPicPr>
        <p:blipFill>
          <a:blip r:embed="rId2"/>
          <a:stretch/>
        </p:blipFill>
        <p:spPr>
          <a:xfrm>
            <a:off x="3786120" y="71280"/>
            <a:ext cx="5000760" cy="5143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214200" y="5286240"/>
            <a:ext cx="8929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Vivir cómodamente es agotador porqué nunca es sufici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28760" y="1785960"/>
            <a:ext cx="2928960" cy="31413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cer el bien es e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único descanso verdad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685800" y="609480"/>
            <a:ext cx="7929720" cy="55803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Dios le dijo: "Necio, esta noche te van a exigir la vida. Lo que has acumulado, ¿de quién será? 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4 Imagen" descr="cementerio01.jpg"/>
          <p:cNvPicPr/>
          <p:nvPr/>
        </p:nvPicPr>
        <p:blipFill>
          <a:blip r:embed="rId2"/>
          <a:stretch/>
        </p:blipFill>
        <p:spPr>
          <a:xfrm>
            <a:off x="1714680" y="142920"/>
            <a:ext cx="7333920" cy="5500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71280" y="5864400"/>
            <a:ext cx="907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No tengáis otra deuda que la de am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85840" y="1314360"/>
            <a:ext cx="4000320" cy="43603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do lo que habéis acumulado quedará en la tierra, sólo os llevaréis lo que habéis d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785880" y="1357200"/>
            <a:ext cx="7429320" cy="411588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sí será el que amasa riquezas para sí y no es rico ante Dios."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C:\Documents and Settings\st benet\Mis documentos\Mis imágenes\cristdéu\xt beuronCt.jpg"/>
          <p:cNvPicPr/>
          <p:nvPr/>
        </p:nvPicPr>
        <p:blipFill>
          <a:blip r:embed="rId2"/>
          <a:stretch/>
        </p:blipFill>
        <p:spPr>
          <a:xfrm>
            <a:off x="1357200" y="1285920"/>
            <a:ext cx="7086600" cy="4732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71280" y="5391000"/>
            <a:ext cx="88441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Donde tenéis vuestro tesoro, allí está vuestro coraz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42920" y="142920"/>
            <a:ext cx="750096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 gran riqueza es la que s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ra con los OJOS de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071720" y="1071720"/>
            <a:ext cx="7286400" cy="42372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a-E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Señor, danos una mirada lúcida para ver lo que realmente tiene valor en este mu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714240" y="5929200"/>
            <a:ext cx="813780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6 Marcador de fecha"/>
          <p:cNvSpPr/>
          <p:nvPr/>
        </p:nvSpPr>
        <p:spPr>
          <a:xfrm>
            <a:off x="5715000" y="5000760"/>
            <a:ext cx="3071880" cy="785520"/>
          </a:xfrm>
          <a:prstGeom prst="rect">
            <a:avLst/>
          </a:prstGeom>
          <a:solidFill>
            <a:srgbClr val="74350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4 de julio de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4B42-11A2-49D9-BB79-92C748104D29}" type="datetime10">
              <a:rPr b="0" lang="ca-ES" sz="2400" spc="-1" strike="noStrike">
                <a:solidFill>
                  <a:srgbClr val="ffffff"/>
                </a:solidFill>
                <a:latin typeface="Arial"/>
              </a:rPr>
              <a:t>07:21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71680" y="571680"/>
            <a:ext cx="8001000" cy="1464480"/>
          </a:xfrm>
          <a:prstGeom prst="rect">
            <a:avLst/>
          </a:prstGeom>
          <a:solidFill>
            <a:srgbClr val="b0ac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ES" sz="3000" spc="-1" strike="noStrike">
                <a:solidFill>
                  <a:srgbClr val="ffff00"/>
                </a:solidFill>
                <a:latin typeface="Arial"/>
              </a:rPr>
              <a:t>CAMINO de CONVERSIÓN  Lc 9,51 a 13,21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71680" y="2643120"/>
            <a:ext cx="8072280" cy="2837160"/>
          </a:xfrm>
          <a:prstGeom prst="rect">
            <a:avLst/>
          </a:prstGeom>
          <a:solidFill>
            <a:srgbClr val="ffffb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a última actitud de CONVERSIÓN lleva a poner el corazón en Dios, no en las riquezas de este mu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4800600"/>
            <a:ext cx="914400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Arial Unicode MS"/>
              </a:rPr>
              <a:t>El rey Acab matando a Nabot de Jezrael para quitarle su tierra, es el máximo exponente de donde lleva la ambición de riquezas</a:t>
            </a: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</a:rPr>
              <a:t>(1Reyes 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4 Imagen" descr="galilea77w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-5572080" y="71280"/>
            <a:ext cx="21026520" cy="48578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4429080" y="71280"/>
            <a:ext cx="4214880" cy="550800"/>
          </a:xfrm>
          <a:prstGeom prst="rect">
            <a:avLst/>
          </a:prstGeom>
          <a:solidFill>
            <a:srgbClr val="08160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Rico valle de Jezra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177 -0.00115 L -0.81997 -0.01156 E">
                                      <p:cBhvr>
                                        <p:cTn id="56" dur="20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685800" y="228600"/>
            <a:ext cx="7715160" cy="596052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12, 13-21 En aquel tiempo, dijo uno del público a Jesús: "Maestro, dile a mi hermano que reparta conmigo la herencia."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52280" y="6303960"/>
            <a:ext cx="528660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Lugar de la viña de Nab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4 Imagen" descr="testament.jpg"/>
          <p:cNvPicPr/>
          <p:nvPr/>
        </p:nvPicPr>
        <p:blipFill>
          <a:blip r:embed="rId2"/>
          <a:stretch/>
        </p:blipFill>
        <p:spPr>
          <a:xfrm>
            <a:off x="1071720" y="1643040"/>
            <a:ext cx="6500520" cy="47671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2857680" y="5429160"/>
            <a:ext cx="6072120" cy="12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¿Por qué os peleáis tanto por las herencias?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42920" y="142920"/>
            <a:ext cx="5715000" cy="25318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asáis los días en el desasosiego y después lo tenéis que dejar todo </a:t>
            </a:r>
            <a:r>
              <a:rPr b="1" lang="es-ES" sz="4000" spc="-1" strike="noStrike">
                <a:solidFill>
                  <a:srgbClr val="ffcc66"/>
                </a:solidFill>
                <a:latin typeface="Arial"/>
              </a:rPr>
              <a:t>(1a lectura</a:t>
            </a:r>
            <a:r>
              <a:rPr b="1" lang="ca-ES" sz="40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786720" y="1000080"/>
            <a:ext cx="235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estamento antigu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928800" y="642960"/>
            <a:ext cx="7358040" cy="51213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le contestó: "Hombre, ¿quién me ha nombrado juez o árbitro entre vosotros?"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4 Imagen" descr="crist2.jpg"/>
          <p:cNvPicPr/>
          <p:nvPr/>
        </p:nvPicPr>
        <p:blipFill>
          <a:blip r:embed="rId2"/>
          <a:stretch/>
        </p:blipFill>
        <p:spPr>
          <a:xfrm>
            <a:off x="1643040" y="0"/>
            <a:ext cx="7500960" cy="5572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71280" y="5357880"/>
            <a:ext cx="871560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 os intereséis tanto por vuestros testamentos, sino por el Mí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14200" y="1785960"/>
            <a:ext cx="2214720" cy="329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uscad la sabiduría del corazón 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(salmo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04920" y="304920"/>
            <a:ext cx="8643960" cy="64947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dijo a la gente: "Mirad: guardaos de toda clase de codicia. Pues, aunque uno ande sobrado, su vida no depende de sus bienes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071960" y="3857760"/>
            <a:ext cx="478620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r qué no hacéis morir e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mor al diner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2a lectu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4 CuadroTexto"/>
          <p:cNvSpPr/>
          <p:nvPr/>
        </p:nvSpPr>
        <p:spPr>
          <a:xfrm>
            <a:off x="1643040" y="3571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creandoprosperidad.scoo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7 Imagen" descr="eurosss2.jpg"/>
          <p:cNvPicPr/>
          <p:nvPr/>
        </p:nvPicPr>
        <p:blipFill>
          <a:blip r:embed="rId3"/>
          <a:srcRect l="5264" t="0" r="3506" b="0"/>
          <a:stretch/>
        </p:blipFill>
        <p:spPr>
          <a:xfrm>
            <a:off x="214200" y="785880"/>
            <a:ext cx="3714840" cy="58165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4071960" y="1143000"/>
            <a:ext cx="4786200" cy="25318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rear riqueza constantemente es una droga que esclavi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7-28T18:11:54Z</dcterms:modified>
  <cp:revision>361</cp:revision>
  <dc:subject>stbenet@benedictinescat.com</dc:subject>
  <dc:title>evangelio</dc:title>
</cp:coreProperties>
</file>