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Jardi%20dels%20miralls%20S.Micusw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013-2371-44D9-9146-AD9E08D2F0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774-94FA-4E68-B849-B18035D5FE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58F-FA10-47D6-939E-292CA0C2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647-6FA2-4047-ACBF-93E6D12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9D7-0AB9-4E09-8E33-AE370F7D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99A-29C1-4A4C-A669-F74D189F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B51-4A82-4DCB-8273-8C0BAE53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D72-5A8D-44D5-BA58-7F259F2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131-B3AA-431E-B420-B1F91CA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059-302E-4460-860C-D45C64C0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21E-D60E-4A2E-A09A-23472508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2BB-B7B2-4D5D-9AD1-652F294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B99-281F-4028-AF22-3BE84A8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023-1800-4CA4-A4F9-45F87CF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BCAAD9-1AC2-4FED-AEF7-ECA01C1E7C30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16:4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38D-A670-4DE3-AC18-43E688BE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Jardi%20dels%20miralls%20S.Micus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reandoprosperidad.scoom.com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000080" y="1143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480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480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700092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jardín de los espejos” de Micus puede sugerir las falsas rea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Jardi%20dels%20miralls%20S.Micu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85840" y="142920"/>
            <a:ext cx="850104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es propuso una parábola: "Un hombre rico tuvo una gran cosecha. Y empezó a echar cálculos: ¿Qué haré? No tengo donde almacenar la cosecha.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Foto_familia_lideres_G-20.jpg"/>
          <p:cNvPicPr/>
          <p:nvPr/>
        </p:nvPicPr>
        <p:blipFill>
          <a:blip r:embed="rId2"/>
          <a:stretch/>
        </p:blipFill>
        <p:spPr>
          <a:xfrm>
            <a:off x="428760" y="1643040"/>
            <a:ext cx="8715240" cy="431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42920" y="1643040"/>
            <a:ext cx="359100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Si miras al más rico, siempre serás pobre, si miras al más pobre siempre serás 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42920" y="142920"/>
            <a:ext cx="84297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países ricos siempre quieren sacar beneficios de los pob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4429080" y="614376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-20 Toronto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57120" y="214200"/>
            <a:ext cx="850104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dijo: "Haré lo siguiente: derribaré los graneros y construiré otros más grandes, y almacenaré allí todo el grano y el resto de mi cosecha. Y entonces me diré a mí mismo: hombre, tienes bienes acumulados para muchos años; túmbate, come, bebe y date buena vida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ricfillw.jpg"/>
          <p:cNvPicPr/>
          <p:nvPr/>
        </p:nvPicPr>
        <p:blipFill>
          <a:blip r:embed="rId2"/>
          <a:stretch/>
        </p:blipFill>
        <p:spPr>
          <a:xfrm>
            <a:off x="3786120" y="71280"/>
            <a:ext cx="500076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14200" y="5286240"/>
            <a:ext cx="892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Vivir cómodamente es agotador porqué nunca es sufic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28760" y="1785960"/>
            <a:ext cx="2928960" cy="3141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r el bien es e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único descanso verdad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85800" y="609480"/>
            <a:ext cx="792972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Dios le dijo: "Necio, esta noche te van a exigir la vida. Lo que has acumulado, ¿de quién será? 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4 Imagen" descr="cementerio01.jpg"/>
          <p:cNvPicPr/>
          <p:nvPr/>
        </p:nvPicPr>
        <p:blipFill>
          <a:blip r:embed="rId2"/>
          <a:stretch/>
        </p:blipFill>
        <p:spPr>
          <a:xfrm>
            <a:off x="1714680" y="142920"/>
            <a:ext cx="7333920" cy="5500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1280" y="5864400"/>
            <a:ext cx="907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o tengáis otra deuda que la de a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85840" y="1314360"/>
            <a:ext cx="400032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do lo que habéis acumulado quedará en la tierra, sólo os llevaréis lo que habéis d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85880" y="1357200"/>
            <a:ext cx="7429320" cy="41158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sí será el que amasa riquezas para sí y no es rico ante Dios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Documents and Settings\st benet\Mis documentos\Mis imágenes\cristdéu\xt beuronCt.jpg"/>
          <p:cNvPicPr/>
          <p:nvPr/>
        </p:nvPicPr>
        <p:blipFill>
          <a:blip r:embed="rId2"/>
          <a:stretch/>
        </p:blipFill>
        <p:spPr>
          <a:xfrm>
            <a:off x="1357200" y="1285920"/>
            <a:ext cx="7086600" cy="4732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1280" y="5391000"/>
            <a:ext cx="8844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onde tenéis vuestro tesoro, allí está vuestro coraz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2920" y="142920"/>
            <a:ext cx="75009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gran riqueza es la que s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ra con los OJOS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71720" y="1071720"/>
            <a:ext cx="7286400" cy="4237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eñor, danos una mirada lúcida para ver lo que realmente tiene valor en este mu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6 Marcador de fecha"/>
          <p:cNvSpPr/>
          <p:nvPr/>
        </p:nvSpPr>
        <p:spPr>
          <a:xfrm>
            <a:off x="5715000" y="5000760"/>
            <a:ext cx="3071880" cy="78552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4 de julio d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825-BDBE-4AC9-A2D7-A18E65CEB985}" type="datetime10">
              <a:rPr b="0" lang="ca-ES" sz="2400" spc="-1" strike="noStrike">
                <a:solidFill>
                  <a:srgbClr val="ffffff"/>
                </a:solidFill>
                <a:latin typeface="Arial"/>
              </a:rPr>
              <a:t>16:47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71680" y="571680"/>
            <a:ext cx="800100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</a:rPr>
              <a:t>CAMINO de CONVERSIÓN  Lc 9,51 a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1680" y="2643120"/>
            <a:ext cx="8072280" cy="28371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última actitud de CONVERSIÓN lleva a poner el corazón en Dios, no en las riquezas de este mu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80060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El rey Acab matando a Nabot de Jezrael para quitarle su tierra, es el máximo exponente de donde lleva la ambición de riquezas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(1Reyes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4 Imagen" descr="galilea77w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-5572080" y="71280"/>
            <a:ext cx="2102652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429080" y="71280"/>
            <a:ext cx="421488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Rico valle de Jez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177 -0.00115 L -0.81997 -0.01156 E">
                                      <p:cBhvr>
                                        <p:cTn id="56" dur="20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685800" y="228600"/>
            <a:ext cx="7715160" cy="596052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2, 13-21 En aquel tiempo, dijo uno del público a Jesús: "Maestro, dile a mi hermano que reparta conmigo la herencia."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303960"/>
            <a:ext cx="528660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Lugar de la viña de Nab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 Imagen" descr="testament.jpg"/>
          <p:cNvPicPr/>
          <p:nvPr/>
        </p:nvPicPr>
        <p:blipFill>
          <a:blip r:embed="rId2"/>
          <a:stretch/>
        </p:blipFill>
        <p:spPr>
          <a:xfrm>
            <a:off x="1071720" y="1643040"/>
            <a:ext cx="6500520" cy="4767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857680" y="5429160"/>
            <a:ext cx="607212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Por qué os peleáis tanto por las herencias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2920" y="142920"/>
            <a:ext cx="57150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sáis los días en el desasosiego y después lo tenéis que dejar todo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(1a lectura</a:t>
            </a:r>
            <a:r>
              <a:rPr b="1" lang="ca-ES" sz="4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786720" y="1000080"/>
            <a:ext cx="235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estamento antigu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928800" y="642960"/>
            <a:ext cx="7358040" cy="5121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contestó: "Hombre, ¿quién me ha nombrado juez o árbitro entre vosotros?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crist2.jpg"/>
          <p:cNvPicPr/>
          <p:nvPr/>
        </p:nvPicPr>
        <p:blipFill>
          <a:blip r:embed="rId2"/>
          <a:stretch/>
        </p:blipFill>
        <p:spPr>
          <a:xfrm>
            <a:off x="1643040" y="0"/>
            <a:ext cx="7500960" cy="5572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280" y="5357880"/>
            <a:ext cx="87156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os intereséis tanto por vuestros testamentos, sino por el Mí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4200" y="1785960"/>
            <a:ext cx="2214720" cy="32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uscad la sabiduría del corazón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04920" y="304920"/>
            <a:ext cx="864396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dijo a la gente: "Mirad: guardaos de toda clase de codicia. Pues, aunque uno ande sobrado, su vida no depende de sus biene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71960" y="3857760"/>
            <a:ext cx="47862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r qué no hacéis morir e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or al dine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4 CuadroTexto"/>
          <p:cNvSpPr/>
          <p:nvPr/>
        </p:nvSpPr>
        <p:spPr>
          <a:xfrm>
            <a:off x="1643040" y="357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reandoprosperidad.sco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7 Imagen" descr="eurosss2.jpg"/>
          <p:cNvPicPr/>
          <p:nvPr/>
        </p:nvPicPr>
        <p:blipFill>
          <a:blip r:embed="rId3"/>
          <a:srcRect l="5264" t="0" r="3506" b="0"/>
          <a:stretch/>
        </p:blipFill>
        <p:spPr>
          <a:xfrm>
            <a:off x="214200" y="785880"/>
            <a:ext cx="3714840" cy="5816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071960" y="1143000"/>
            <a:ext cx="47862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ear riqueza constantemente es una droga que esclavi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28T18:11:54Z</dcterms:modified>
  <cp:revision>361</cp:revision>
  <dc:subject>stbenet@benedictinescat.com</dc:subject>
  <dc:title>evangelio</dc:title>
</cp:coreProperties>
</file>