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CFD-7EEC-433F-99E4-0F8915C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892-E7D7-4384-8A07-ED00CE2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438-1DB1-4C57-854F-2D0D2BA9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E8D-D73F-4D28-84B5-D994BB91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8DC4-F468-45B2-9235-F1125505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20119-FB95-409E-A8FF-C8F9E33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B530-5362-4C78-BE98-A604AE3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2BC5-2EE6-491F-9BA7-677AB0E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006FF-C56E-4B04-92ED-E81A00BD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61B46-A555-457B-8176-1C674BC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89561-E414-4C98-B739-8553041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FBE-5FAC-495A-B602-1259199B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54E9C-34A3-4840-B014-4EF8BB9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784E1-CA86-461A-BD9F-C9CF765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263D-60F1-4791-A3E8-82AB7D0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FBEC-661C-4096-8521-C47E4003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A50E-A729-4771-B001-56CE096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76F6-79DC-4E85-ABCE-D3D9F859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FE20-623B-4CDD-B49F-25FE3FF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8EC3-BCE1-4CAC-BD43-F199241F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3222-BFE6-4F17-B7F2-6C939E1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56CD-F313-47D0-9352-2BFD742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5E5-04F7-4592-BCA3-B6268709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3D72-8DC9-4E71-93AC-DB73DAD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D824-1D38-44F8-B6C9-0AA4270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B42C-7C6F-4A0B-92B0-0AE31A8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4E6F-16A9-467C-B545-035F3F6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FCAD-6B3E-463B-84A1-29C08E09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43C5-ABC0-4C1E-9292-A513672F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70D1-7256-4675-9807-6C3B9BE2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70D87-8420-414F-B30F-64E6D42C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294B7-1A1E-4C01-A0CE-093169E2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33E6A-59A8-43DF-882F-92228CA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DC0-4ADD-4918-BD6E-0F849003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307E1-D823-4FC1-8F93-8AAACA8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6AABD-BBEF-4405-8307-B013FF5F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372FA-F0C6-4CAD-A8BB-C573E40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A6893-C922-4A13-B701-6C7A8FD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F2168-F693-4CF7-B193-D0ACF84D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C11B4-853D-4A98-BA80-D271BA3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5DB87-F415-42AC-B10A-4293C0F9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FB386-69D3-4F1F-A9F4-F613101D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B94B1-03A6-43D2-8BEA-53B34353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F63-E91A-4B15-A38F-36456B8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63C-89F5-4C9C-9576-6E0EFEE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3E6-7ED3-4074-97BD-E76D3334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CD9-A9FD-4588-AB99-D50FCEC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6EE-5261-41EA-B32E-5488ED8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A69-5CA3-4662-A28E-5FFDD4177B34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F8F0-7679-4976-902B-884DCA57634C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1B32-85D9-4066-BE60-7BCBFE355154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4BC-DEBF-4327-AD43-9EFF18A3B20A}" type="slidenum">
              <a:rPr b="0" lang="es-MX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onido grabado" descr=""/>
          <p:cNvPicPr/>
          <p:nvPr/>
        </p:nvPicPr>
        <p:blipFill>
          <a:blip r:embed="rId1"/>
          <a:stretch/>
        </p:blipFill>
        <p:spPr>
          <a:xfrm>
            <a:off x="2857680" y="1928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172" name="20 Grupo" descr=""/>
          <p:cNvPicPr/>
          <p:nvPr/>
        </p:nvPicPr>
        <p:blipFill>
          <a:blip r:embed="rId3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grpSp>
        <p:nvGrpSpPr>
          <p:cNvPr id="173" name="22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174" name="22 Elipse" descr=""/>
            <p:cNvPicPr/>
            <p:nvPr/>
          </p:nvPicPr>
          <p:blipFill>
            <a:blip r:embed="rId4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23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177" name="23 Elipse" descr=""/>
            <p:cNvPicPr/>
            <p:nvPr/>
          </p:nvPicPr>
          <p:blipFill>
            <a:blip r:embed="rId5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89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90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96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99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02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03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09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12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15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16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22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25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328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32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335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338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185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186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24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192" name="24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25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195" name="25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198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199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05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08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11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12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18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21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24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25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31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34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37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38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44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47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50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51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57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60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63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64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70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73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20 Grupo" descr=""/>
          <p:cNvPicPr/>
          <p:nvPr/>
        </p:nvPicPr>
        <p:blipFill>
          <a:blip r:embed="rId1"/>
          <a:stretch/>
        </p:blipFill>
        <p:spPr>
          <a:xfrm>
            <a:off x="5681520" y="-762120"/>
            <a:ext cx="3791160" cy="4627800"/>
          </a:xfrm>
          <a:prstGeom prst="rect">
            <a:avLst/>
          </a:prstGeom>
          <a:ln w="0">
            <a:noFill/>
          </a:ln>
        </p:spPr>
      </p:pic>
      <p:pic>
        <p:nvPicPr>
          <p:cNvPr id="276" name="24 Imagen" descr="angel.jpg"/>
          <p:cNvPicPr/>
          <p:nvPr/>
        </p:nvPicPr>
        <p:blipFill>
          <a:blip r:embed="rId2"/>
          <a:stretch/>
        </p:blipFill>
        <p:spPr>
          <a:xfrm>
            <a:off x="642960" y="0"/>
            <a:ext cx="4397400" cy="4397400"/>
          </a:xfrm>
          <a:prstGeom prst="rect">
            <a:avLst/>
          </a:prstGeom>
          <a:ln w="0">
            <a:noFill/>
          </a:ln>
        </p:spPr>
      </p:pic>
      <p:sp>
        <p:nvSpPr>
          <p:cNvPr id="277" name="26 CuadroTexto"/>
          <p:cNvSpPr/>
          <p:nvPr/>
        </p:nvSpPr>
        <p:spPr>
          <a:xfrm>
            <a:off x="4500720" y="178596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0" spc="-1" strike="noStrike">
                <a:solidFill>
                  <a:srgbClr val="996633"/>
                </a:solidFill>
                <a:latin typeface="Arial"/>
              </a:rPr>
              <a:t>Ho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8 CuadroTexto"/>
          <p:cNvSpPr/>
          <p:nvPr/>
        </p:nvSpPr>
        <p:spPr>
          <a:xfrm>
            <a:off x="30002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Si quieres 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9 CuadroTexto"/>
          <p:cNvSpPr/>
          <p:nvPr/>
        </p:nvSpPr>
        <p:spPr>
          <a:xfrm>
            <a:off x="364320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un GRAN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2143080" y="48546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3300"/>
                </a:solidFill>
                <a:latin typeface="Arial"/>
              </a:rPr>
              <a:t>Manda este mens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3214800" y="5643720"/>
            <a:ext cx="535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663300"/>
                </a:solidFill>
                <a:latin typeface="Arial Black"/>
              </a:rPr>
              <a:t>a 50 person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20 Elipse"/>
          <p:cNvGrpSpPr/>
          <p:nvPr/>
        </p:nvGrpSpPr>
        <p:grpSpPr>
          <a:xfrm>
            <a:off x="-822240" y="1322280"/>
            <a:ext cx="2346120" cy="3640320"/>
            <a:chOff x="-822240" y="1322280"/>
            <a:chExt cx="2346120" cy="3640320"/>
          </a:xfrm>
        </p:grpSpPr>
        <p:pic>
          <p:nvPicPr>
            <p:cNvPr id="283" name="20 Elipse" descr=""/>
            <p:cNvPicPr/>
            <p:nvPr/>
          </p:nvPicPr>
          <p:blipFill>
            <a:blip r:embed="rId3"/>
            <a:stretch/>
          </p:blipFill>
          <p:spPr>
            <a:xfrm>
              <a:off x="-822240" y="1322280"/>
              <a:ext cx="2346120" cy="36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 rot="20264400">
              <a:off x="-307440" y="1828800"/>
              <a:ext cx="1312560" cy="26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21 Elipse"/>
          <p:cNvGrpSpPr/>
          <p:nvPr/>
        </p:nvGrpSpPr>
        <p:grpSpPr>
          <a:xfrm>
            <a:off x="-341280" y="6053040"/>
            <a:ext cx="3797280" cy="2060640"/>
            <a:chOff x="-341280" y="6053040"/>
            <a:chExt cx="3797280" cy="2060640"/>
          </a:xfrm>
        </p:grpSpPr>
        <p:pic>
          <p:nvPicPr>
            <p:cNvPr id="286" name="21 Elipse" descr=""/>
            <p:cNvPicPr/>
            <p:nvPr/>
          </p:nvPicPr>
          <p:blipFill>
            <a:blip r:embed="rId4"/>
            <a:stretch/>
          </p:blipFill>
          <p:spPr>
            <a:xfrm>
              <a:off x="-341280" y="6053040"/>
              <a:ext cx="379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6776000">
              <a:off x="902520" y="5769720"/>
              <a:ext cx="131256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0:42:15Z</dcterms:created>
  <dc:creator>WIN uE10</dc:creator>
  <dc:description/>
  <dc:language>en-US</dc:language>
  <cp:lastModifiedBy>WIN uE10</cp:lastModifiedBy>
  <dcterms:modified xsi:type="dcterms:W3CDTF">2010-01-27T00:45:11Z</dcterms:modified>
  <cp:revision>1</cp:revision>
  <dc:subject/>
  <dc:title>Diapositiva 1</dc:title>
</cp:coreProperties>
</file>