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F45-6F52-41CE-94D4-001D2777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CDD-F9C4-402B-B80F-F9945F2A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E2A-9E3E-4A0F-8499-3F2538BB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6B6-E10B-43F9-8E95-B0181CC7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1F85-DFB9-4F21-8E85-E3FC094C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8D07-5E93-4E87-A34C-B25F99F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4B976-60A4-4290-801B-C22713CF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38B9A-6FBF-460E-877D-DFC77BE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856B-F2B2-4E4E-8476-BE2AAB0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4F0E2-B7E7-44A3-B103-5124156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0F97A-190E-4C96-9FE7-2412363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41F-7D07-4573-9631-2B1818C1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9DE9-21CB-4459-8806-34881A5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7A1F-ECBF-4D43-8DFD-1236876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A3618-1A91-4C74-9925-6158F27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CDCD-FAEF-4148-BE58-22F66159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D2FB-FF27-49B4-8C48-9B81323F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B6DD-A8E4-438D-97C9-2B93431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E0E4-644F-4FCB-BA24-EBB6C59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B06F-DD8E-4EB0-A555-7CB7C8F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1A34-6C6A-432D-BFD7-7D936D5D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37D3-6DBC-45AA-8DB6-8E2F02BC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52E-897E-4C18-B525-41DBB13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FC75-03E2-4BFF-98E0-D0720CF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5DBF-0C56-4F09-8FB8-18542BB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9FBA-7D17-40CA-9EE8-9F16E16D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908CC-C0D9-4309-AFA8-A29B3BC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BB07-9ADF-4D3B-A3DB-0D56ED76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7728-C913-4C3E-ACAE-B1432B8E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4337-6EFD-47C9-96D8-80394618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C3937-9A84-4F99-BCA1-35BBA156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07663-DD22-4959-838B-BA9EA1F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A5ADA-3BA7-4A58-B45D-AFAD26E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BF2-6B0F-4AEE-A1C2-B09B564B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F4AA1-56E2-4D00-85E4-EF530D3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8A854-4DBF-4F63-8599-3A515AB5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5D2C3-6E5D-4003-9D97-E7C66102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A7324-0DDB-4173-BB93-1CD7AFB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E6F02-3781-4739-ADF3-F134E78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B4E6F-9071-4AC8-AF12-6BE0BBA4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01CE7-AE1A-4164-BB30-373AF25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70EC6-C215-46AA-8BCE-32EB326A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0C003-B13E-4149-ACE4-A684FADC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F4A-CFD5-4EEA-AC80-3A86847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660-AF26-44FA-BB6A-6BDD86D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867-4E45-4637-A1C0-71F7780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B87-C35A-4F91-8AFE-DF42FAF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2BE-6785-4342-8C6F-A515ADA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F63-E6E1-4D6A-BF97-F6C74F8B6437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857D-F87A-489B-8D2D-3CDB0021C128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F3FC-C002-435A-98A8-4D326FA04C3E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D65-5C7C-4F4D-9383-708E46762F9E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onido grabado" descr=""/>
          <p:cNvPicPr/>
          <p:nvPr/>
        </p:nvPicPr>
        <p:blipFill>
          <a:blip r:embed="rId1"/>
          <a:stretch/>
        </p:blipFill>
        <p:spPr>
          <a:xfrm>
            <a:off x="2857680" y="1928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172" name="20 Grupo" descr=""/>
          <p:cNvPicPr/>
          <p:nvPr/>
        </p:nvPicPr>
        <p:blipFill>
          <a:blip r:embed="rId3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grpSp>
        <p:nvGrpSpPr>
          <p:cNvPr id="173" name="22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174" name="22 Elipse" descr=""/>
            <p:cNvPicPr/>
            <p:nvPr/>
          </p:nvPicPr>
          <p:blipFill>
            <a:blip r:embed="rId4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23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177" name="23 Elipse" descr=""/>
            <p:cNvPicPr/>
            <p:nvPr/>
          </p:nvPicPr>
          <p:blipFill>
            <a:blip r:embed="rId5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89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90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96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99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02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03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09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12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15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16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22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25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28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2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35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38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185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186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24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192" name="24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25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195" name="25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198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19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05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08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11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12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18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21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24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25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31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34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37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38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44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47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50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51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57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60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63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64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70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73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76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77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83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86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0:42:15Z</dcterms:created>
  <dc:creator>WIN uE10</dc:creator>
  <dc:description/>
  <dc:language>en-US</dc:language>
  <cp:lastModifiedBy>WIN uE10</cp:lastModifiedBy>
  <dcterms:modified xsi:type="dcterms:W3CDTF">2010-01-27T00:45:11Z</dcterms:modified>
  <cp:revision>1</cp:revision>
  <dc:subject/>
  <dc:title>Diapositiva 1</dc:title>
</cp:coreProperties>
</file>