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mazing%20gr%C3%A2c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5B2-1D5F-47BE-8778-B115740A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A24-B7DC-4744-B9A7-C819E689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EEF-F08A-4A59-BD92-730B2FE4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EE0-0406-4ACD-9B7F-084EEE57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F3E-92C7-4F2B-9811-C60C1294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6D1-3BF0-4B5D-824A-F13FEEA2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A31-A75E-4C29-AE22-4D207BB3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4AF-6F20-4789-94A7-EC8F9360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FF7-CBF1-4FC8-994F-8548B8DE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23C-C84B-4CF3-8734-CB14210E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A65-5903-4A22-8043-BD24DBA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16E-2ABD-4F09-A833-113777D2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5A9C-3871-462A-A6E0-A72D94E3F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zing%20gr&#226;c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9999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48000" y="1052640"/>
            <a:ext cx="55245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A MUERTE UNA GRAN REAL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076720" y="2565360"/>
            <a:ext cx="8478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  &amp;  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zoom dir="out"/>
    <p:sndAc>
      <p:stSnd>
        <p:snd r:embed="rId2" name="Amazing%20gr%C3%A2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56000" y="0"/>
            <a:ext cx="47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¿Entonc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traes mi al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-Lo siento amigo p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rebuchet MS"/>
              </a:rPr>
              <a:t>ella nunca te perteneció… era del Unive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472428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ntonces el hombre lleno de mi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arrebató  a la muerte  la maleta y al abri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se dio cuenta que estaba vací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480" y="1076400"/>
            <a:ext cx="3845880" cy="4483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on una lágr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desamparo brot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sus ojos, el h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e dijo a la m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Nunca tuve n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Sí… amigo mí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Cada u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los mo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que vivi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fueron sólo tuyo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4869000"/>
            <a:ext cx="835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a vida es sólo un momento… Un momento todo tu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isfrútalo en su totalida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Que nada de lo que crees que te pertenece te deteng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9984"/>
          <a:stretch/>
        </p:blipFill>
        <p:spPr>
          <a:xfrm>
            <a:off x="-7632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1125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Vive el AHORA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Vive TU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42900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Y no te olvid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 </a:t>
            </a: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SER FEL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573408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ccff"/>
                </a:solidFill>
                <a:latin typeface="Trebuchet MS"/>
              </a:rPr>
              <a:t>R  &amp; 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50"/>
                            </p:stCondLst>
                            <p:childTnLst>
                              <p:par>
                                <p:cTn id="1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552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1484280"/>
            <a:ext cx="5616720" cy="4359960"/>
          </a:xfrm>
          <a:prstGeom prst="rect">
            <a:avLst/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Un hombre mur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intempestivament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Al darse cuenta v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que se acercaba un Ser mu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especial que no se parecía a ningún Ser Hu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Quien lleva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una maleta consig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Times New Roman"/>
              </a:rPr>
              <a:t>Y le dijo: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644400"/>
            <a:ext cx="4572000" cy="5946120"/>
          </a:xfrm>
          <a:prstGeom prst="rect">
            <a:avLst/>
          </a:prstGeom>
          <a:solidFill>
            <a:srgbClr val="00cc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Bien amig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ío</a:t>
            </a: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s hora de irnos, soy la muer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El hombre asomb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e preguntó a la muer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Ya… tan p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tenía muchos plan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Lo siento amig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pero es el mo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de tu par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¿Qué traes en esa male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Y la muerte le contest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-Tus pertenencia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397"/>
          <a:stretch/>
        </p:blipFill>
        <p:spPr>
          <a:xfrm>
            <a:off x="0" y="-533520"/>
            <a:ext cx="9677520" cy="7391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907920"/>
            <a:ext cx="54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Mis pertene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Son mis cos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mis ropas, mi diner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-Lo siento am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as cosas materi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que tenías, nu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te pertenecier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 la ti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923"/>
          <a:stretch/>
        </p:blipFill>
        <p:spPr>
          <a:xfrm>
            <a:off x="0" y="0"/>
            <a:ext cx="9696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7640" y="1989000"/>
            <a:ext cx="47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Tra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mis recuer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-Lo siento amigo,  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ya no vienen cont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Nunca te pertenecier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l tiemp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64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2760" y="3349800"/>
            <a:ext cx="408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¿Traes mis tal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o siento amigo p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sos nunca 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pertenecier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as circunst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0424"/>
          <a:stretch/>
        </p:blipFill>
        <p:spPr>
          <a:xfrm>
            <a:off x="0" y="-190440"/>
            <a:ext cx="9144000" cy="7048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65040" y="4005360"/>
            <a:ext cx="4921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Traes a mi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A mis familia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o siento amigo pero el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Nunca te perteneci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Eran del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alphaModFix amt="5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35640" y="2060640"/>
            <a:ext cx="3071880" cy="338580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.¿Traes a mi muj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y a mis hij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o siento am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llos nunca 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Pertenecie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ran de tu 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09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51640" y="1989000"/>
            <a:ext cx="295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¿Traes mi cuer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o siento amigo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se nu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te perteneci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es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2:16:20Z</dcterms:created>
  <dc:creator>R  &amp;  D</dc:creator>
  <dc:description>Creado 20 Marzo 2008</dc:description>
  <dc:language>en-US</dc:language>
  <cp:lastModifiedBy>DC</cp:lastModifiedBy>
  <dcterms:modified xsi:type="dcterms:W3CDTF">2008-06-02T19:14:37Z</dcterms:modified>
  <cp:revision>40</cp:revision>
  <dc:subject>Creando la Realidad 38</dc:subject>
  <dc:title>LA MUERTE UNA GRAN REALIDAD</dc:title>
</cp:coreProperties>
</file>