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Amazing%20gr%C3%A2ce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6DB5-7761-42C2-885B-986061421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825E-723E-4FFA-A16C-614F4F93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955B-E69F-4B4D-A37F-9F0B65214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4F79-B842-49FF-8FA6-C2D7E98E0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4183-C81A-430F-A6E0-6DE5C7C4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BBC5-399A-4916-8A93-BB52DE63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086F-EC80-418D-8491-B007BD6C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BDED-C6D6-49D3-B354-BEDD529F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6BAC-0B03-4C1B-97A0-70FB90E9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1D15-05E5-4296-B307-EB4B20B7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A602-C89A-47EE-926D-ADDCE7A3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1DDF-B809-4A2E-AC30-B0B0D2F7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5F29-1242-4528-B0D2-521C4DD17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mazing%20gr&#226;c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9999"/>
          <a:stretch/>
        </p:blipFill>
        <p:spPr>
          <a:xfrm>
            <a:off x="0" y="0"/>
            <a:ext cx="93344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348000" y="1052640"/>
            <a:ext cx="552456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LA MUERTE UNA GRAN REALIDA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076720" y="2565360"/>
            <a:ext cx="84780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R  &amp;  D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p:transition spd="slow">
    <p:zoom dir="out"/>
    <p:sndAc>
      <p:stSnd>
        <p:snd r:embed="rId2" name="Amazing%20gr%C3%A2c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356000" y="0"/>
            <a:ext cx="478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…</a:t>
            </a: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¿Entonce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traes mi al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-Lo siento amigo p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ella nunca te perteneció… era del Univer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39640" y="4724280"/>
            <a:ext cx="813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Entonces el hombre lleno de mie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arrebató  a la muerte  la maleta y al abrir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…</a:t>
            </a: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se dio cuenta que estaba vací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95480" y="1076400"/>
            <a:ext cx="3845880" cy="44830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Con una lágri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de desamparo brot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de sus ojos, el homb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le dijo a la mue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¿Nunca tuve nad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Sí… amigo mí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Cada u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de los mo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que vivis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fueron sólo tuyo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5280" y="4869000"/>
            <a:ext cx="835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La vida es sólo un momento… Un momento todo tu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disfrútalo en su totalidad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Que nada de lo que crees que te pertenece te deteng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0" b="9984"/>
          <a:stretch/>
        </p:blipFill>
        <p:spPr>
          <a:xfrm>
            <a:off x="-76320" y="-7632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1280" y="112536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ccff"/>
                </a:solidFill>
                <a:latin typeface="Trebuchet MS"/>
              </a:rPr>
              <a:t>Vive el AHORA 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ccff"/>
                </a:solidFill>
                <a:latin typeface="Trebuchet MS"/>
              </a:rPr>
              <a:t>Vive TU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3429000"/>
            <a:ext cx="38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ccff"/>
                </a:solidFill>
                <a:latin typeface="Trebuchet MS"/>
              </a:rPr>
              <a:t>Y no te olvid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ccff"/>
                </a:solidFill>
                <a:latin typeface="Trebuchet MS"/>
              </a:rPr>
              <a:t> </a:t>
            </a:r>
            <a:r>
              <a:rPr b="1" lang="es-AR" sz="2800" spc="-1" strike="noStrike">
                <a:solidFill>
                  <a:srgbClr val="00ccff"/>
                </a:solidFill>
                <a:latin typeface="Trebuchet MS"/>
              </a:rPr>
              <a:t>SER FELI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5734080"/>
            <a:ext cx="38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ccff"/>
                </a:solidFill>
                <a:latin typeface="Trebuchet MS"/>
              </a:rPr>
              <a:t>R  &amp; 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77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770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550"/>
                            </p:stCondLst>
                            <p:childTnLst>
                              <p:par>
                                <p:cTn id="16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8552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79640" y="1484280"/>
            <a:ext cx="5616720" cy="4359960"/>
          </a:xfrm>
          <a:prstGeom prst="rect">
            <a:avLst/>
          </a:prstGeom>
          <a:solidFill>
            <a:srgbClr val="00cc9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Times New Roman"/>
              </a:rPr>
              <a:t>Un hombre muri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Times New Roman"/>
              </a:rPr>
              <a:t>intempestivament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Times New Roman"/>
              </a:rPr>
              <a:t>Al darse cuenta v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Times New Roman"/>
              </a:rPr>
              <a:t>que se acercaba un Ser mu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Times New Roman"/>
              </a:rPr>
              <a:t>especial que no se parecía a ningún Ser Huma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Times New Roman"/>
              </a:rPr>
              <a:t>Quien llevab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Times New Roman"/>
              </a:rPr>
              <a:t>una maleta consig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Times New Roman"/>
              </a:rPr>
              <a:t>Y le dijo:</a:t>
            </a: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72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95280" y="4492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644400"/>
            <a:ext cx="4572000" cy="5946120"/>
          </a:xfrm>
          <a:prstGeom prst="rect">
            <a:avLst/>
          </a:prstGeom>
          <a:solidFill>
            <a:srgbClr val="00cc99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Bien amigo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ío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Es hora de irnos, soy la muert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El hombre asomb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le preguntó a la muert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Ya… tan pro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tenía muchos plan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Lo siento amig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pero es el mom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de tu part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¿Qué traes en esa male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Y la muerte le contestó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-Tus pertenencia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8397"/>
          <a:stretch/>
        </p:blipFill>
        <p:spPr>
          <a:xfrm>
            <a:off x="0" y="-533520"/>
            <a:ext cx="9677520" cy="7391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9640" y="907920"/>
            <a:ext cx="5472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¿Mis pertenenci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¿Son mis cosa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mis ropas, mi dinero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-Lo siento ami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las cosas materia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que tenías, nun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te pertenecieron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eran de la tier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5923"/>
          <a:stretch/>
        </p:blipFill>
        <p:spPr>
          <a:xfrm>
            <a:off x="0" y="0"/>
            <a:ext cx="96966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47640" y="1989000"/>
            <a:ext cx="4751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…</a:t>
            </a: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¿Tra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mis recuer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-Lo siento amigo,  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ya no vienen conti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Nunca te pertenecier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eran del tiemp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1647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12760" y="3349800"/>
            <a:ext cx="4082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…</a:t>
            </a: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¿Traes mis tale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Lo siento amigo p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esos nunca 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pertenecieron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Eran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las circunsta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10424"/>
          <a:stretch/>
        </p:blipFill>
        <p:spPr>
          <a:xfrm>
            <a:off x="0" y="-190440"/>
            <a:ext cx="9144000" cy="7048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65040" y="4005360"/>
            <a:ext cx="4921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…</a:t>
            </a: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Traes a mi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A mis familia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Lo siento amigo pero ell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Nunca te pertenecier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Eran del ca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alphaModFix amt="51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435640" y="2060640"/>
            <a:ext cx="3071880" cy="338580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…</a:t>
            </a: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.¿Traes a mi muj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y a mis hij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Lo siento ami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ellos nunca 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Pertenecie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Eran de tu coraz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309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651640" y="1989000"/>
            <a:ext cx="2952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¿Traes mi cuerp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Lo siento amigo…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ese nun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te perteneció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es prop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de la tier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0T12:16:20Z</dcterms:created>
  <dc:creator>R  &amp;  D</dc:creator>
  <dc:description>Creado 20 Marzo 2008</dc:description>
  <dc:language>en-US</dc:language>
  <cp:lastModifiedBy>DC</cp:lastModifiedBy>
  <dcterms:modified xsi:type="dcterms:W3CDTF">2008-06-02T19:14:37Z</dcterms:modified>
  <cp:revision>40</cp:revision>
  <dc:subject>Creando la Realidad 38</dc:subject>
  <dc:title>LA MUERTE UNA GRAN REALIDAD</dc:title>
</cp:coreProperties>
</file>