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664F-44AB-4725-86E5-85C0B3A25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BE0E-00B9-412B-AE69-FBDE93D29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3BEE-E39C-4835-90DD-3D6B35985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177B-ADC8-47FE-AEC4-09748727A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2EE5-6E25-4886-B3A4-5F720CDE4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2594-B696-45F2-B986-4A322F43C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80ED-33CF-4ED5-A937-12911EE2F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3294-B3E5-4026-B0E1-55C16E667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AC6D-6411-4E3A-9D8F-D4318B1FB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63B7-E79A-49AA-8115-3FCFC4F4F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CFF1-A140-427D-8896-A85AFD38B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4D74-6B34-4330-80F6-DA4C40A20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DA922-C89D-4D14-8598-71E5BF117E76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3 Imagen" descr="484342_10151376194777754_608341202_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marcha militar - los peruanos pasan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9T13:05:06Z</dcterms:created>
  <dc:creator>MARIPILI</dc:creator>
  <dc:description/>
  <dc:language>en-US</dc:language>
  <cp:lastModifiedBy>MARIPILI</cp:lastModifiedBy>
  <dcterms:modified xsi:type="dcterms:W3CDTF">2012-12-09T13:06:49Z</dcterms:modified>
  <cp:revision>2</cp:revision>
  <dc:subject/>
  <dc:title>Diapositiva 1</dc:title>
</cp:coreProperties>
</file>