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237-4869-4E4F-A386-53EABFC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810-F6ED-4122-AFD7-445C7FB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47A-0C67-42BA-A19A-C32E47F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2EE-EA88-4C32-BA22-FE3D58F1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D54-7759-4C2B-B0BA-46A39EEA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51E-0437-434B-A73C-F321157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50D-0ACA-4483-8671-914D662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9C8-BFB5-4C68-AFB5-A24FA03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A5A-7AFB-4FC8-A97B-0D910D4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60C-2742-4A21-A51E-AA7502D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1E0-CB94-4F71-9896-042F4B7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CF1-4D20-419F-89C6-4694E06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70B-3DE3-4636-B5D9-DB0590F21B3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484342_10151376194777754_60834120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 militar - los peruanos pasa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05:06Z</dcterms:created>
  <dc:creator>MARIPILI</dc:creator>
  <dc:description/>
  <dc:language>en-US</dc:language>
  <cp:lastModifiedBy>MARIPILI</cp:lastModifiedBy>
  <dcterms:modified xsi:type="dcterms:W3CDTF">2012-12-09T13:06:49Z</dcterms:modified>
  <cp:revision>2</cp:revision>
  <dc:subject/>
  <dc:title>Diapositiva 1</dc:title>
</cp:coreProperties>
</file>