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talia4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3080" y="528372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3080" y="528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4240" y="528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8920" y="213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4760" y="213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3080" y="528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8920" y="528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4760" y="5283720"/>
            <a:ext cx="19861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68960" cy="70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3080" y="528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4240" y="528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4240" y="2133720"/>
            <a:ext cx="301032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3080" y="5283720"/>
            <a:ext cx="616896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6896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6896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talia4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240080" y="733320"/>
            <a:ext cx="2428920" cy="1944720"/>
          </a:xfrm>
          <a:prstGeom prst="wedgeRoundRectCallout">
            <a:avLst>
              <a:gd name="adj1" fmla="val -86925"/>
              <a:gd name="adj2" fmla="val 777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221360" y="1116000"/>
            <a:ext cx="24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Hoy te voy a 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Unos bu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onsejos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6399360"/>
            <a:ext cx="6858000" cy="27446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38400" y="5796000"/>
            <a:ext cx="62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necta el sonido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85928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Si un día te sientes inútil y deprimido… ¡¡¡recuerda que fuiste el espermatozoide más veloz de todos…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064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Los jefes son como las nubes… ¡¡cuando desaparecen, el día se arregla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443640"/>
            <a:ext cx="70866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a jerarquía es como un estante… ¡a más altura, menos sirve…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08472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u futuro depende de tus sueños… ¡no pierdas más el tiempo y vuélvete a dormir...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84720"/>
            <a:ext cx="685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El amor es como la gripe: la pescas en la calle ¡pero te curas en la cama...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22764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os hombres mentiríamos mucho menos, si las mujeres no hiciesen pregunta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7380360"/>
            <a:ext cx="6858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Que pases un buen d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Ami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83320"/>
            <a:ext cx="6858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Para evitar tener hijos…. haz el amor con tu cuñ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¡así tendrás sólo sobrinos.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30072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Todos los hon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son comestibl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Algunos, solamente una vez..</a:t>
            </a:r>
            <a:r>
              <a:rPr b="1" lang="es-PE" sz="4000" spc="-1" strike="noStrike">
                <a:solidFill>
                  <a:srgbClr val="ff0000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72436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Sean amables con sus hijos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Ellos son quienes un día escogerán vuestro hospici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30072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Los amigos van y vienen... ¡p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los enemigos se acumul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443640"/>
            <a:ext cx="685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Si el amor es cieg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¡¡¡mejor darle una probadita ante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48360"/>
            <a:ext cx="6858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Si fuese bueno tener mujer, ¡¡Dios tendría una..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Y si se pudiese confiar en ella… el diablo no tendría cuerno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67280"/>
            <a:ext cx="6858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Algunos aman tanto a su mujer que para evitar gastarla, ¡utilizan la del otro….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12000"/>
            <a:ext cx="685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0000"/>
                </a:solidFill>
                <a:latin typeface="Bookman Old Style"/>
                <a:ea typeface="Arial"/>
              </a:rPr>
              <a:t>Peor que una piedra en el zapato… un granito de arena en el preservativ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 a ti que che importa quen o fixo</dc:creator>
  <dc:description/>
  <dc:language>en-US</dc:language>
  <cp:lastModifiedBy>ACER</cp:lastModifiedBy>
  <dcterms:modified xsi:type="dcterms:W3CDTF">2007-03-09T11:27:58Z</dcterms:modified>
  <cp:revision>16</cp:revision>
  <dc:subject>moito obrigado amigo groucho</dc:subject>
  <dc:title>el amigo groucho</dc:title>
</cp:coreProperties>
</file>