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8.jpeg" ContentType="image/jpe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36.wmf" ContentType="image/x-wmf"/>
  <Override PartName="/ppt/media/image1.png" ContentType="image/png"/>
  <Override PartName="/ppt/media/image29.wmf" ContentType="image/x-wmf"/>
  <Override PartName="/ppt/media/image13.wmf" ContentType="image/x-wmf"/>
  <Override PartName="/ppt/media/image32.wmf" ContentType="image/x-wmf"/>
  <Override PartName="/ppt/media/image69.wmf" ContentType="image/x-wmf"/>
  <Override PartName="/ppt/media/image30.wmf" ContentType="image/x-wmf"/>
  <Override PartName="/ppt/media/image41.wmf" ContentType="image/x-wmf"/>
  <Override PartName="/ppt/media/image4.gif" ContentType="image/gif"/>
  <Override PartName="/ppt/media/Nueva%20ma%C3%B1ana.wav" ContentType="audio/x-wav"/>
  <Override PartName="/ppt/media/image63.wmf" ContentType="image/x-wmf"/>
  <Override PartName="/ppt/media/image67.wmf" ContentType="image/x-wmf"/>
  <Override PartName="/ppt/media/image15.jpeg" ContentType="image/jpeg"/>
  <Override PartName="/ppt/media/image25.wmf" ContentType="image/x-wmf"/>
  <Override PartName="/ppt/media/image26.wmf" ContentType="image/x-wmf"/>
  <Override PartName="/ppt/media/image16.wmf" ContentType="image/x-wmf"/>
  <Override PartName="/ppt/media/image17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image6.wmf" ContentType="image/x-wmf"/>
  <Override PartName="/ppt/media/image18.wmf" ContentType="image/x-wmf"/>
  <Override PartName="/ppt/media/image70.wmf" ContentType="image/x-wmf"/>
  <Override PartName="/ppt/media/image19.wmf" ContentType="image/x-wmf"/>
  <Override PartName="/ppt/media/image66.wmf" ContentType="image/x-wmf"/>
  <Override PartName="/ppt/media/image71.jpeg" ContentType="image/jpeg"/>
  <Override PartName="/ppt/media/image65.wmf" ContentType="image/x-wmf"/>
  <Override PartName="/ppt/media/image62.wmf" ContentType="image/x-wmf"/>
  <Override PartName="/ppt/media/image61.wmf" ContentType="image/x-wmf"/>
  <Override PartName="/ppt/media/image64.jpeg" ContentType="image/jpeg"/>
  <Override PartName="/ppt/media/image7.jpeg" ContentType="image/jpeg"/>
  <Override PartName="/ppt/media/image31.wmf" ContentType="image/x-wmf"/>
  <Override PartName="/ppt/media/image59.wmf" ContentType="image/x-wmf"/>
  <Override PartName="/ppt/media/image22.wmf" ContentType="image/x-wmf"/>
  <Override PartName="/ppt/media/image24.wmf" ContentType="image/x-wmf"/>
  <Override PartName="/ppt/media/image23.wmf" ContentType="image/x-wmf"/>
  <Override PartName="/ppt/media/image28.jpeg" ContentType="image/jpeg"/>
  <Override PartName="/ppt/media/image27.wmf" ContentType="image/x-wmf"/>
  <Override PartName="/ppt/media/image11.jpeg" ContentType="image/jpeg"/>
  <Override PartName="/ppt/media/image20.jpeg" ContentType="image/jpeg"/>
  <Override PartName="/ppt/media/image12.wmf" ContentType="image/x-wmf"/>
  <Override PartName="/ppt/media/image49.wmf" ContentType="image/x-wmf"/>
  <Override PartName="/ppt/media/image2.wmf" ContentType="image/x-wmf"/>
  <Override PartName="/ppt/media/image57.png" ContentType="image/png"/>
  <Override PartName="/ppt/media/image14.wmf" ContentType="image/x-wmf"/>
  <Override PartName="/ppt/media/image5.jpeg" ContentType="image/jpeg"/>
  <Override PartName="/ppt/media/image50.png" ContentType="image/png"/>
  <Override PartName="/ppt/media/image9.wmf" ContentType="image/x-wmf"/>
  <Override PartName="/ppt/media/image39.wmf" ContentType="image/x-wmf"/>
  <Override PartName="/ppt/media/image10.wmf" ContentType="image/x-wmf"/>
  <Override PartName="/ppt/media/image47.wmf" ContentType="image/x-wmf"/>
  <Override PartName="/ppt/media/image8.wmf" ContentType="image/x-wmf"/>
  <Override PartName="/ppt/media/image38.wmf" ContentType="image/x-wmf"/>
  <Override PartName="/ppt/media/image33.wmf" ContentType="image/x-wmf"/>
  <Override PartName="/ppt/media/image34.wmf" ContentType="image/x-wmf"/>
  <Override PartName="/ppt/media/image68.wmf" ContentType="image/x-wmf"/>
  <Override PartName="/ppt/media/image35.jpeg" ContentType="image/jpeg"/>
  <Override PartName="/ppt/media/image37.wmf" ContentType="image/x-wmf"/>
  <Override PartName="/ppt/media/image3.gif" ContentType="image/gif"/>
  <Override PartName="/ppt/media/image4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24FF-9404-49BD-8E19-7D14770E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A1D-904A-4776-9B59-56C23D8F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180C-72F6-4FFF-9D0B-A76330A6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09D-6956-46C8-BCFD-E6B1B68B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247-A066-4AF6-BD64-99A65819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210-D569-41E3-B5C3-23C0FA47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055-1CEF-4CCC-972F-12C59B99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9782-E6E1-45C5-8A11-865AF81A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823-115C-4919-B858-1F40D778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83CE-E7FC-4EAD-98CA-1CE80FA3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929-7323-4142-8803-12C3E6CD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072-145E-409C-A17D-ACF1D03F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3E61-2F67-471E-A85B-D3B2A80C067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audio" Target="../media/Nueva%20ma&#241;ana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55.wmf"/><Relationship Id="rId8" Type="http://schemas.openxmlformats.org/officeDocument/2006/relationships/image" Target="../media/image56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62.wmf"/><Relationship Id="rId7" Type="http://schemas.openxmlformats.org/officeDocument/2006/relationships/image" Target="../media/image63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image" Target="../media/image69.wmf"/><Relationship Id="rId7" Type="http://schemas.openxmlformats.org/officeDocument/2006/relationships/image" Target="../media/image47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7093080" y="3429000"/>
            <a:ext cx="1800000" cy="316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16000" y="907920"/>
            <a:ext cx="5616720" cy="32418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63640" y="1700280"/>
            <a:ext cx="4392720" cy="165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ANALIZANDO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MI VIDA.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1662120" cy="4321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6720" y="2565360"/>
            <a:ext cx="47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</a:rPr>
              <a:t>Después de este análisis me ha venido una idea a la cabeza para llevarla a la práctica en mi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565280" cy="1963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724280" y="304920"/>
            <a:ext cx="1374840" cy="18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250920" y="2349360"/>
          <a:ext cx="1501560" cy="171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2349360"/>
                    <a:ext cx="1501560" cy="17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4067280" y="2565360"/>
            <a:ext cx="2133360" cy="1235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85800" y="4648320"/>
            <a:ext cx="1109520" cy="1966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4140360" y="4653000"/>
            <a:ext cx="1828800" cy="1498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21840" y="35100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Voy a toma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las cosas más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bro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86400" y="426960"/>
            <a:ext cx="26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Voy a inte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abrir mi coraz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al am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77080" y="2570040"/>
            <a:ext cx="261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a04"/>
                </a:solidFill>
                <a:latin typeface="Comic Sans MS"/>
              </a:rPr>
              <a:t>Escucharé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a04"/>
                </a:solidFill>
                <a:latin typeface="Comic Sans MS"/>
              </a:rPr>
              <a:t>a la gente de 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a04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618a04"/>
                </a:solidFill>
                <a:latin typeface="Comic Sans MS"/>
              </a:rPr>
              <a:t>alrede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68960" y="2492280"/>
            <a:ext cx="297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provechar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ualquier mo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ara tomar algo con lo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92720" y="515772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or su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viajar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64360" y="501336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Comic Sans MS"/>
              </a:rPr>
              <a:t>No sé si en el karaoke, pero cantaré má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8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4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6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1788840" cy="960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788000" y="333360"/>
            <a:ext cx="1382760" cy="1533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04920" y="2362320"/>
            <a:ext cx="1633320" cy="1753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716360" y="2565360"/>
            <a:ext cx="1752840" cy="1346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244440" y="4835520"/>
            <a:ext cx="1500120" cy="1778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4859280" y="5029200"/>
            <a:ext cx="1604880" cy="1828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166480" y="35100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Iré al mar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más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00720" y="62064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Comic Sans MS"/>
              </a:rPr>
              <a:t>Fomentaré mi faceta de anfitr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26370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Me juntaré 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calor de los bueno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13560" y="2852640"/>
            <a:ext cx="25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Comic Sans MS"/>
              </a:rPr>
              <a:t>Quizás un poquino de más am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5089680"/>
            <a:ext cx="31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e alegraré mu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ás de las not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e lo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83600" y="545004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Buscaré me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conju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2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2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98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28600" y="517680"/>
            <a:ext cx="2438280" cy="1145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292720" y="333360"/>
            <a:ext cx="1138320" cy="1698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228600" y="2438280"/>
            <a:ext cx="2146320" cy="140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148360" y="2565360"/>
            <a:ext cx="2133360" cy="1730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457200" y="4267080"/>
            <a:ext cx="1550880" cy="2291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5364000" y="4581360"/>
            <a:ext cx="2057400" cy="1575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627280" y="30960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No sé, creo que no me hará daño algo de de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94320" y="333360"/>
            <a:ext cx="257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ueno, puede que parezca orgullo pero soy muy cariñ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04000" y="2595600"/>
            <a:ext cx="308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Cooperaré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limpiar el 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de impresent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6000" y="2421000"/>
            <a:ext cx="17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996633"/>
                </a:solidFill>
                <a:latin typeface="Comic Sans MS"/>
              </a:rPr>
              <a:t>Otras copitas no harán d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996633"/>
                </a:solidFill>
                <a:latin typeface="Comic Sans MS"/>
              </a:rPr>
              <a:t>¡hi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7560" y="4576680"/>
            <a:ext cx="32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Lo que de ver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quiero es que no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aquen tarjeta ro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42280" y="5157720"/>
            <a:ext cx="14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a04"/>
                </a:solidFill>
                <a:latin typeface="Comic Sans MS"/>
              </a:rPr>
              <a:t>cuando llegue mi h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4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84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18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4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96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411280" y="152280"/>
            <a:ext cx="4321440" cy="365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11280" y="4038480"/>
            <a:ext cx="792144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No sé si valdrá la pena o no, lo único que sé, es que las personas que amo se lo habrán pasado bien en mi compañía y que al final del camino sabré que disfruté y que tal vez dejé alguna huella en algún corazón, que es al fin y al cabo lo que cue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¿no te pare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332000" y="1268280"/>
            <a:ext cx="6480000" cy="4321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870520" y="5013360"/>
            <a:ext cx="16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@dol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of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4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Rot by="21600000">
                                      <p:cBhvr>
                                        <p:cTn id="476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1857240" cy="399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64000" y="1557360"/>
            <a:ext cx="468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Comic Sans MS"/>
              </a:rPr>
              <a:t>¿Sabes?… He estado pensando todo este tiempo qué es lo que más o menos hacemos  a lo largo de nuestra vi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2648160" cy="1747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65080" y="3860640"/>
            <a:ext cx="1297080" cy="256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715000" y="1828800"/>
            <a:ext cx="2209680" cy="2629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32080" y="476280"/>
            <a:ext cx="538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cc3399"/>
                </a:solidFill>
                <a:latin typeface="Comic Sans MS"/>
              </a:rPr>
              <a:t>Empezamos bien pequeñinos nue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cc3399"/>
                </a:solidFill>
                <a:latin typeface="Comic Sans MS"/>
              </a:rPr>
              <a:t>educación para ser gente de bi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5480" y="2349360"/>
            <a:ext cx="454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Continuamos una parte mu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importante de nuestra infa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en esos meneste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4941720"/>
            <a:ext cx="59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Y al final conseguimos un preciado títul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Ese papel que nos pondrá “en el lugar que merecemos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2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" y="663480"/>
            <a:ext cx="1981080" cy="185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867280" y="2133720"/>
            <a:ext cx="2338560" cy="1966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62120" y="4876920"/>
            <a:ext cx="2117520" cy="161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19520" y="609480"/>
            <a:ext cx="60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mic Sans MS"/>
              </a:rPr>
              <a:t>Poco después, empezamos a engrosar las temidas listas del desemp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2997360"/>
            <a:ext cx="491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Hasta que defini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un día encontramos un “buen trabajo”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11880" y="5157720"/>
            <a:ext cx="609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tras duras situaciones que soport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a lo largo del periodo de prueb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2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2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172200" y="1447920"/>
            <a:ext cx="2055960" cy="2209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1855800" cy="2279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95280" y="3068640"/>
            <a:ext cx="1955880" cy="2119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477120" y="5029200"/>
            <a:ext cx="2322360" cy="1643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94200" y="476280"/>
            <a:ext cx="67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Empezamos una bonita carrera profe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recargada de actividad y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78640" y="263700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mic Sans MS"/>
              </a:rPr>
              <a:t>Mucho, mucho trabaj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61920" y="4076640"/>
            <a:ext cx="49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...hasta que caemos exhau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5373720"/>
            <a:ext cx="46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Comic Sans MS"/>
              </a:rPr>
              <a:t>¡Ahhh...! Pero somos grandes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Comic Sans MS"/>
              </a:rPr>
              <a:t>profesionales y con gr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Comic Sans MS"/>
              </a:rPr>
              <a:t>éxito en el mercado</a:t>
            </a:r>
            <a:r>
              <a:rPr b="0" lang="es-ES_tradnl" sz="2400" spc="-1" strike="noStrike">
                <a:solidFill>
                  <a:srgbClr val="0099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8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8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728720" cy="2117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788000" y="333360"/>
            <a:ext cx="1504800" cy="1362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04920" y="2514600"/>
            <a:ext cx="1620720" cy="1603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648320" y="2209680"/>
            <a:ext cx="1795320" cy="1401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380880" y="4724280"/>
            <a:ext cx="725760" cy="182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3124080" y="4419720"/>
            <a:ext cx="1290600" cy="1253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7391520" y="4343400"/>
            <a:ext cx="709560" cy="1397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851120" y="549360"/>
            <a:ext cx="273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Comic Sans MS"/>
              </a:rPr>
              <a:t>El tiempo empie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Comic Sans MS"/>
              </a:rPr>
              <a:t>a pas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49600" y="561960"/>
            <a:ext cx="28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Comic Sans MS"/>
              </a:rPr>
              <a:t>y buscamos 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Comic Sans MS"/>
              </a:rPr>
              <a:t>objetiv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5400" y="2695680"/>
            <a:ext cx="249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Encontramos 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amor de nue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vida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33360" y="2543040"/>
            <a:ext cx="21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y promete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amor eter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4648320"/>
            <a:ext cx="17319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8a04"/>
                </a:solidFill>
                <a:latin typeface="Comic Sans MS"/>
              </a:rPr>
              <a:t>Llega el consabid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8a04"/>
                </a:solidFill>
                <a:latin typeface="Comic Sans MS"/>
              </a:rPr>
              <a:t>embarazo, fruto de la pasión y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22320" y="4437000"/>
            <a:ext cx="2444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la cigüeña vis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nuestro n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de am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91840" y="5819760"/>
            <a:ext cx="26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cc3399"/>
                </a:solidFill>
                <a:latin typeface="Comic Sans MS"/>
              </a:rPr>
              <a:t>¡Jóder, otra noc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cc3399"/>
                </a:solidFill>
                <a:latin typeface="Comic Sans MS"/>
              </a:rPr>
              <a:t>que no pego ojo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8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6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88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16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8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92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198440" cy="2193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029200" y="380880"/>
            <a:ext cx="1987560" cy="1774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24000" y="2637000"/>
            <a:ext cx="1569960" cy="1576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572000" y="2362320"/>
            <a:ext cx="1654200" cy="1568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24000" y="4581360"/>
            <a:ext cx="1976400" cy="1079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5791320" y="4267080"/>
            <a:ext cx="2955960" cy="1685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93360" y="692280"/>
            <a:ext cx="30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99"/>
                </a:solidFill>
                <a:latin typeface="Comic Sans MS"/>
              </a:rPr>
              <a:t>Seguimos escalan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99"/>
                </a:solidFill>
                <a:latin typeface="Comic Sans MS"/>
              </a:rPr>
              <a:t>puestos en la vi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20800" y="561960"/>
            <a:ext cx="288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intentando ganar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tiempo al tiemp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95760" y="2997360"/>
            <a:ext cx="25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8a04"/>
                </a:solidFill>
                <a:latin typeface="Comic Sans MS"/>
              </a:rPr>
              <a:t>Somos la estrel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8a04"/>
                </a:solidFill>
                <a:latin typeface="Comic Sans MS"/>
              </a:rPr>
              <a:t>donde v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32400" y="2637000"/>
            <a:ext cx="2137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Comic Sans MS"/>
              </a:rPr>
              <a:t>y poseemos 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Comic Sans MS"/>
              </a:rPr>
              <a:t>cuerno de 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Comic Sans MS"/>
              </a:rPr>
              <a:t>abundanc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03680" y="430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20120" y="4437000"/>
            <a:ext cx="34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Pero… necesitamos aú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más ho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18520" y="5972040"/>
            <a:ext cx="51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...para ser un verdadero triunfad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8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2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2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2128680" cy="1774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1602000" cy="1957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33520" y="2514600"/>
            <a:ext cx="858600" cy="1797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356000" y="2565360"/>
            <a:ext cx="2286000" cy="1346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380880" y="4572000"/>
            <a:ext cx="1311480" cy="1971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4724280" y="4800600"/>
            <a:ext cx="1629000" cy="1814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13400" y="404640"/>
            <a:ext cx="304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Pero un día te dic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¡ que prescinden de ti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32480" y="836640"/>
            <a:ext cx="27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En ese 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e crees volver lo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2997360"/>
            <a:ext cx="273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Comic Sans MS"/>
              </a:rPr>
              <a:t>Te sientes abatido,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cc3399"/>
                </a:solidFill>
                <a:latin typeface="Comic Sans MS"/>
              </a:rPr>
              <a:t>decepci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cc3399"/>
                </a:solidFill>
                <a:latin typeface="Comic Sans MS"/>
              </a:rPr>
              <a:t>y devalu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48120" y="2781360"/>
            <a:ext cx="232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a04"/>
                </a:solidFill>
                <a:latin typeface="Comic Sans MS"/>
              </a:rPr>
              <a:t>Y te das cu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a04"/>
                </a:solidFill>
                <a:latin typeface="Comic Sans MS"/>
              </a:rPr>
              <a:t>que has per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a04"/>
                </a:solidFill>
                <a:latin typeface="Comic Sans MS"/>
              </a:rPr>
              <a:t>la comun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37280" y="5084640"/>
            <a:ext cx="294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e vuelves cons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de que has est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errado a t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64440" y="4724280"/>
            <a:ext cx="26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E intentas a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sujetar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para que no pas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pero se te va de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ma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4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48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752480" cy="1209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1523880" cy="1544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685800" cy="1771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038480" y="2362320"/>
            <a:ext cx="2362320" cy="1514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85800" y="4724280"/>
            <a:ext cx="1538280" cy="1857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4800600" y="4800600"/>
            <a:ext cx="2055960" cy="1573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38320" y="620640"/>
            <a:ext cx="299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Te das cuenta que 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vivido en una cor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de h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14760" y="1197000"/>
            <a:ext cx="27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siguiendo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estúpida zanah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78720" y="2565360"/>
            <a:ext cx="23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00"/>
                </a:solidFill>
                <a:latin typeface="Comic Sans MS"/>
              </a:rPr>
              <a:t>Te conviertes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00"/>
                </a:solidFill>
                <a:latin typeface="Comic Sans MS"/>
              </a:rPr>
              <a:t>un fantasma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00"/>
                </a:solidFill>
                <a:latin typeface="Comic Sans MS"/>
              </a:rPr>
              <a:t>deambul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49840" y="2455920"/>
            <a:ext cx="259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intentando sort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os golpes que 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mpieza a dar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99720" y="5373720"/>
            <a:ext cx="270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618a04"/>
                </a:solidFill>
                <a:latin typeface="Comic Sans MS"/>
              </a:rPr>
              <a:t>Sólo te que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a04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618a04"/>
                </a:solidFill>
                <a:latin typeface="Comic Sans MS"/>
              </a:rPr>
              <a:t>ver pasar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a04"/>
                </a:solidFill>
                <a:latin typeface="Comic Sans MS"/>
              </a:rPr>
              <a:t>a tu alrededo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99480" y="5300640"/>
            <a:ext cx="19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hasta que 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llegue la h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8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2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44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86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31:54Z</dcterms:created>
  <dc:creator>Nelson Tobon y Adolfofo.</dc:creator>
  <dc:description/>
  <dc:language>en-US</dc:language>
  <cp:lastModifiedBy>Adolfofo.</cp:lastModifiedBy>
  <dcterms:modified xsi:type="dcterms:W3CDTF">2008-05-16T16:09:19Z</dcterms:modified>
  <cp:revision>29</cp:revision>
  <dc:subject>10-3/19-4-8</dc:subject>
  <dc:title>Analizando mi vida</dc:title>
</cp:coreProperties>
</file>