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8.jpeg" ContentType="image/jpe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36.wmf" ContentType="image/x-wmf"/>
  <Override PartName="/ppt/media/image1.png" ContentType="image/png"/>
  <Override PartName="/ppt/media/image29.wmf" ContentType="image/x-wmf"/>
  <Override PartName="/ppt/media/image13.wmf" ContentType="image/x-wmf"/>
  <Override PartName="/ppt/media/image32.wmf" ContentType="image/x-wmf"/>
  <Override PartName="/ppt/media/image69.wmf" ContentType="image/x-wmf"/>
  <Override PartName="/ppt/media/image30.wmf" ContentType="image/x-wmf"/>
  <Override PartName="/ppt/media/image41.wmf" ContentType="image/x-wmf"/>
  <Override PartName="/ppt/media/image4.gif" ContentType="image/gif"/>
  <Override PartName="/ppt/media/Nueva%20ma%C3%B1ana.wav" ContentType="audio/x-wav"/>
  <Override PartName="/ppt/media/image63.wmf" ContentType="image/x-wmf"/>
  <Override PartName="/ppt/media/image67.wmf" ContentType="image/x-wmf"/>
  <Override PartName="/ppt/media/image15.jpeg" ContentType="image/jpeg"/>
  <Override PartName="/ppt/media/image25.wmf" ContentType="image/x-wmf"/>
  <Override PartName="/ppt/media/image26.wmf" ContentType="image/x-wmf"/>
  <Override PartName="/ppt/media/image16.wmf" ContentType="image/x-wmf"/>
  <Override PartName="/ppt/media/image17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70.wmf" ContentType="image/x-wmf"/>
  <Override PartName="/ppt/media/image19.wmf" ContentType="image/x-wmf"/>
  <Override PartName="/ppt/media/image66.wmf" ContentType="image/x-wmf"/>
  <Override PartName="/ppt/media/image71.jpeg" ContentType="image/jpeg"/>
  <Override PartName="/ppt/media/image65.wmf" ContentType="image/x-wmf"/>
  <Override PartName="/ppt/media/image62.wmf" ContentType="image/x-wmf"/>
  <Override PartName="/ppt/media/image61.wmf" ContentType="image/x-wmf"/>
  <Override PartName="/ppt/media/image64.jpeg" ContentType="image/jpeg"/>
  <Override PartName="/ppt/media/image7.jpeg" ContentType="image/jpeg"/>
  <Override PartName="/ppt/media/image31.wmf" ContentType="image/x-wmf"/>
  <Override PartName="/ppt/media/image59.wmf" ContentType="image/x-wmf"/>
  <Override PartName="/ppt/media/image22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image27.wmf" ContentType="image/x-wmf"/>
  <Override PartName="/ppt/media/image11.jpeg" ContentType="image/jpeg"/>
  <Override PartName="/ppt/media/image20.jpeg" ContentType="image/jpeg"/>
  <Override PartName="/ppt/media/image12.wmf" ContentType="image/x-wmf"/>
  <Override PartName="/ppt/media/image49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5.jpeg" ContentType="image/jpeg"/>
  <Override PartName="/ppt/media/image50.png" ContentType="image/png"/>
  <Override PartName="/ppt/media/image9.wmf" ContentType="image/x-wmf"/>
  <Override PartName="/ppt/media/image39.wmf" ContentType="image/x-wmf"/>
  <Override PartName="/ppt/media/image10.wmf" ContentType="image/x-wmf"/>
  <Override PartName="/ppt/media/image47.wmf" ContentType="image/x-wmf"/>
  <Override PartName="/ppt/media/image8.wmf" ContentType="image/x-wmf"/>
  <Override PartName="/ppt/media/image38.wmf" ContentType="image/x-wmf"/>
  <Override PartName="/ppt/media/image33.wmf" ContentType="image/x-wmf"/>
  <Override PartName="/ppt/media/image34.wmf" ContentType="image/x-wmf"/>
  <Override PartName="/ppt/media/image68.wmf" ContentType="image/x-wmf"/>
  <Override PartName="/ppt/media/image35.jpeg" ContentType="image/jpeg"/>
  <Override PartName="/ppt/media/image37.wmf" ContentType="image/x-wmf"/>
  <Override PartName="/ppt/media/image3.gif" ContentType="image/gif"/>
  <Override PartName="/ppt/media/image4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477-3E9F-4454-9F64-1BB4E736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39C-2297-4477-90B3-BDCDEBA9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F22-0D53-4659-86AF-28EBD049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327-C6BF-4E06-A4DA-0C31E34F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BBC-4DD9-44D1-ABC8-EAECEC0D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65D-4C3B-4807-A7EB-5AA71BA9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C7B-F2A0-4E0B-AD08-ED862ACF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911-66D6-460A-963E-0457DA15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1F0-2F1B-468F-9B81-51DD8459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72A-45D4-4B9D-B096-491BB397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6FE-0D81-4380-8BF0-49D8321C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116-C89E-4D2A-89D0-43ABC43C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6482-A9E8-4B31-B280-5EEB2B397C1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audio" Target="../media/Nueva%20ma&#241;ana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093080" y="3429000"/>
            <a:ext cx="1800000" cy="316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907920"/>
            <a:ext cx="5616720" cy="32418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63640" y="1700280"/>
            <a:ext cx="4392720" cy="165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ANALIZANDO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I VIDA.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1662120" cy="432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6720" y="256536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Después de este análisis me ha venido una idea a la cabeza para llevarla a la práctica en mi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565280" cy="1963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24280" y="304920"/>
            <a:ext cx="1374840" cy="18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250920" y="2349360"/>
          <a:ext cx="1501560" cy="171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2349360"/>
                    <a:ext cx="150156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067280" y="2565360"/>
            <a:ext cx="2133360" cy="1235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85800" y="4648320"/>
            <a:ext cx="1109520" cy="1966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4140360" y="465300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1840" y="35100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Voy a toma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las cosas má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bro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86400" y="426960"/>
            <a:ext cx="26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Voy a int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abrir mi 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al a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77080" y="2570040"/>
            <a:ext cx="26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Escucharé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a la gente de 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alrede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68960" y="2492280"/>
            <a:ext cx="297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provechar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alquier m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ara tomar algo con lo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92720" y="515772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or su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viajar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64360" y="50133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No sé si en el karaoke, pero cantaré m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8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4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6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788840" cy="960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13827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04920" y="2362320"/>
            <a:ext cx="1633320" cy="1753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716360" y="2565360"/>
            <a:ext cx="1752840" cy="1346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244440" y="483552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4859280" y="5029200"/>
            <a:ext cx="1604880" cy="1828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66480" y="35100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Iré al mar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más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620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Comic Sans MS"/>
              </a:rPr>
              <a:t>Fomentaré mi faceta de anfitr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26370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Me juntaré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calor de los bueno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13560" y="285264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Quizás un poquino de más a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089680"/>
            <a:ext cx="31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e alegraré mu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ás de las not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e lo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83600" y="54500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Buscaré me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conju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2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2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8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8600" y="517680"/>
            <a:ext cx="2438280" cy="1145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292720" y="333360"/>
            <a:ext cx="1138320" cy="1698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28600" y="2438280"/>
            <a:ext cx="2146320" cy="140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148360" y="2565360"/>
            <a:ext cx="2133360" cy="1730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457200" y="4267080"/>
            <a:ext cx="1550880" cy="2291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5364000" y="4581360"/>
            <a:ext cx="2057400" cy="1575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27280" y="30960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No sé, creo que no me hará daño algo de de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94320" y="333360"/>
            <a:ext cx="257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ueno, puede que parezca orgullo pero soy muy cariñ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04000" y="2595600"/>
            <a:ext cx="30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Cooperaré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limpiar 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de impresent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6000" y="2421000"/>
            <a:ext cx="17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996633"/>
                </a:solidFill>
                <a:latin typeface="Comic Sans MS"/>
              </a:rPr>
              <a:t>Otras copitas no harán d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Comic Sans MS"/>
              </a:rPr>
              <a:t>¡hi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7560" y="4576680"/>
            <a:ext cx="32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Lo que de ver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quiero es que no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aquen tarjeta r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42280" y="5157720"/>
            <a:ext cx="14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cuando llegue mi h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4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84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18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4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6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411280" y="152280"/>
            <a:ext cx="4321440" cy="365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11280" y="4038480"/>
            <a:ext cx="7921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No sé si valdrá la pena o no, lo único que sé, es que las personas que amo se lo habrán pasado bien en mi compañía y que al final del camino sabré que disfruté y que tal vez dejé alguna huella en algún corazón, que es al fin y al cabo lo que cu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¿no te pare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6480000" cy="4321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870520" y="501336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@dol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of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4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47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1857240" cy="399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64000" y="1557360"/>
            <a:ext cx="468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Comic Sans MS"/>
              </a:rPr>
              <a:t>¿Sabes?… He estado pensando todo este tiempo qué es lo que más o menos hacemos  a lo largo de nuestra vi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648160" cy="1747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65080" y="3860640"/>
            <a:ext cx="1297080" cy="256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15000" y="1828800"/>
            <a:ext cx="2209680" cy="2629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32080" y="476280"/>
            <a:ext cx="538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3399"/>
                </a:solidFill>
                <a:latin typeface="Comic Sans MS"/>
              </a:rPr>
              <a:t>Empezamos bien pequeñinos n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3399"/>
                </a:solidFill>
                <a:latin typeface="Comic Sans MS"/>
              </a:rPr>
              <a:t>educación para ser gente de bi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5480" y="2349360"/>
            <a:ext cx="454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Continuamos una parte mu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importante de nuestra infa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en esos meneste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4941720"/>
            <a:ext cx="59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Y al final conseguimos un preciado títul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Ese papel que nos pondrá “en el lugar que merecemo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2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663480"/>
            <a:ext cx="198108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338560" cy="196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62120" y="4876920"/>
            <a:ext cx="2117520" cy="161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609480"/>
            <a:ext cx="60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Poco después, empezamos a engrosar las temidas listas del desemp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2997360"/>
            <a:ext cx="49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Hasta que defini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un día encontramos un “buen trabajo”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11880" y="5157720"/>
            <a:ext cx="60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tras duras situaciones que soport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a lo largo del periodo de prueb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2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2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72200" y="1447920"/>
            <a:ext cx="205596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855800" cy="2279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95280" y="3068640"/>
            <a:ext cx="1955880" cy="2119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477120" y="5029200"/>
            <a:ext cx="2322360" cy="1643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94200" y="476280"/>
            <a:ext cx="67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Empezamos una bonita carrera 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recargada de actividad y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78640" y="26370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Mucho, mucho trabaj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61920" y="407664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...hasta que caemos exhau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537372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¡Ahhh...! Pero somos grandes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profesionales y con gr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éxito en el mercado</a:t>
            </a:r>
            <a:r>
              <a:rPr b="0" lang="es-ES_tradnl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8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8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728720" cy="2117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1504800" cy="136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04920" y="2514600"/>
            <a:ext cx="1620720" cy="160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648320" y="2209680"/>
            <a:ext cx="1795320" cy="1401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80880" y="4724280"/>
            <a:ext cx="725760" cy="182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3124080" y="4419720"/>
            <a:ext cx="1290600" cy="1253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7391520" y="4343400"/>
            <a:ext cx="709560" cy="1397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51120" y="549360"/>
            <a:ext cx="273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Comic Sans MS"/>
              </a:rPr>
              <a:t>El tiempo empie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Comic Sans MS"/>
              </a:rPr>
              <a:t>a pas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9600" y="561960"/>
            <a:ext cx="28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y buscamos 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objetiv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5400" y="2695680"/>
            <a:ext cx="249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Encontramos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amor de nues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vid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33360" y="2543040"/>
            <a:ext cx="21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y promete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amor eter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4648320"/>
            <a:ext cx="1731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Llega el consabi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embarazo, fruto de la pasión y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2320" y="4437000"/>
            <a:ext cx="244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la cigüeña vis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nuestro 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de am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91840" y="581976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3399"/>
                </a:solidFill>
                <a:latin typeface="Comic Sans MS"/>
              </a:rPr>
              <a:t>¡Jóder, otra no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3399"/>
                </a:solidFill>
                <a:latin typeface="Comic Sans MS"/>
              </a:rPr>
              <a:t>que no pego ojo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8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8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6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8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92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198440" cy="2193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029200" y="380880"/>
            <a:ext cx="1987560" cy="177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1569960" cy="1576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572000" y="2362320"/>
            <a:ext cx="1654200" cy="1568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24000" y="4581360"/>
            <a:ext cx="1976400" cy="107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5791320" y="4267080"/>
            <a:ext cx="2955960" cy="1685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93360" y="692280"/>
            <a:ext cx="30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Seguimos escalan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puestos en la v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20800" y="561960"/>
            <a:ext cx="288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intentando ganar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tiempo al tiemp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5760" y="2997360"/>
            <a:ext cx="25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Somos la estre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donde v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32400" y="2637000"/>
            <a:ext cx="2137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y poseemos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cuerno de 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abundanc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0368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20120" y="4437000"/>
            <a:ext cx="34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ero… necesitamos aú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más ho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18520" y="5972040"/>
            <a:ext cx="51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...para ser un verdadero triunfad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8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2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2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2128680" cy="177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1602000" cy="1957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33520" y="2514600"/>
            <a:ext cx="858600" cy="1797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356000" y="2565360"/>
            <a:ext cx="2286000" cy="1346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80880" y="4572000"/>
            <a:ext cx="1311480" cy="1971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724280" y="4800600"/>
            <a:ext cx="1629000" cy="18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13400" y="404640"/>
            <a:ext cx="30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Pero un día te di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¡ que prescinden de ti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32480" y="83664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En ese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e crees volver lo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997360"/>
            <a:ext cx="27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Te sientes abatido,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decepci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y devalu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48120" y="2781360"/>
            <a:ext cx="232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Y te das cu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que has per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la comun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37280" y="5084640"/>
            <a:ext cx="29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e vuelves cons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de que has es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errado a 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64440" y="4724280"/>
            <a:ext cx="26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E intentas a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sujetar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para que no pa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pero se te va de 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m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4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48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752480" cy="1209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1523880" cy="154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685800" cy="1771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038480" y="2362320"/>
            <a:ext cx="2362320" cy="1514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1538280" cy="1857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4800600" y="4800600"/>
            <a:ext cx="2055960" cy="157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38320" y="620640"/>
            <a:ext cx="299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Te das cuenta que 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vivido en una cor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de h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14760" y="119700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siguiendo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estúpida zanah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78720" y="2565360"/>
            <a:ext cx="23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omic Sans MS"/>
              </a:rPr>
              <a:t>Te conviertes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omic Sans MS"/>
              </a:rPr>
              <a:t>un fantasma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omic Sans MS"/>
              </a:rPr>
              <a:t>deambul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49840" y="2455920"/>
            <a:ext cx="259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intentando sort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os golpes que 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mpieza a dar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9720" y="5373720"/>
            <a:ext cx="270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Sólo te que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ver pasar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a tu alreded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99480" y="530064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hasta que 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legue la 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8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2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44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86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31:54Z</dcterms:created>
  <dc:creator>Nelson Tobon y Adolfofo.</dc:creator>
  <dc:description/>
  <dc:language>en-US</dc:language>
  <cp:lastModifiedBy>Adolfofo.</cp:lastModifiedBy>
  <dcterms:modified xsi:type="dcterms:W3CDTF">2008-05-16T16:09:19Z</dcterms:modified>
  <cp:revision>29</cp:revision>
  <dc:subject>10-3/19-4-8</dc:subject>
  <dc:title>Analizando mi vida</dc:title>
</cp:coreProperties>
</file>