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ilvitaacordeonmusettesouslecieldepari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0BF-D009-4A1F-A265-8D62901A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38B-1BDC-47E0-9010-5FDCC1FA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1E8-6E2E-4268-9D50-0E7632FC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7CE-B829-4D73-AE53-526ED56D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EF6-033D-4118-85EB-67DCFF4A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613-EF89-48B2-985E-2433D0A8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E6D-4E71-472E-AA65-B3BCE35C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EF3-51A4-4B5B-94DD-14A729D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EED-B11F-4BF5-BBBD-936A31C4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033-4181-4A85-8882-AF70F7C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B4C-5A04-4466-A7E8-4D17F0F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0DE-F467-4A3B-B6EF-3D316876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7F93-7DEF-4705-83DE-14937DB2F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vitaacordeonmusettesouslecieldepari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981000"/>
            <a:ext cx="792468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REEMPLA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L  MÉD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 GUARDIA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861840"/>
            <a:ext cx="853452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cen que un día en el hospital habían faltado varios médicos porque estaban enfermos 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Guardia quedaba descubierta.</a:t>
            </a:r>
            <a:r>
              <a:rPr b="0" i="1" lang="es-MX" sz="4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99"/>
                </a:solidFill>
                <a:latin typeface="Comic Sans MS"/>
              </a:rPr>
              <a:t>El jefe de guardia no sabía cómo solucionarlo, pero como era un hombre muy religioso, se le aparece Jesús y le 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- Tu has salvado muchas vidas, voy a retribuírtelo. Yo me quedaré en la guardia en reemplazo de los médicos enfer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99"/>
                </a:solidFill>
                <a:latin typeface="Comic Sans MS"/>
              </a:rPr>
              <a:t>El jefe de guardia no lo podía creer ¡Tener a Jesús como médic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Inmediatamente, un brutal accidente ocurre en la puerta del hospital, un hombre fue atropellado violentamente por un autobús y luego el vehículo le pasó por enc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200" spc="-1" strike="noStrike">
                <a:solidFill>
                  <a:srgbClr val="ffff99"/>
                </a:solidFill>
                <a:latin typeface="Comic Sans MS"/>
              </a:rPr>
              <a:t>Destrozado y herido de muerte lo ingresan al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76280"/>
            <a:ext cx="8534520" cy="58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Jesús ve que el hombre no tiene posibilidad de sobrevivir y entonces pien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Tendré que recurrir a un milagro" Posa sobre el hombre sus dos manos y, como había hecho con Lázaro, le di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"Levántate y anda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33360"/>
            <a:ext cx="853452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absolutamente sano sale del hospital. La gente y sus familiares afuera no lo pueden creer. Todos habían visto el accidente. Entonces le pregunt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-¿Qué te hicier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El hombre respo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-¡Como siempre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En este hospital de mierd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i="1" lang="es-PE" sz="4800" spc="-1" strike="noStrike">
                <a:solidFill>
                  <a:srgbClr val="ffff99"/>
                </a:solidFill>
                <a:latin typeface="Comic Sans MS"/>
              </a:rPr>
              <a:t>NADA!!!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i="1" lang="es-PE" sz="5400" spc="-1" strike="noStrike">
                <a:solidFill>
                  <a:srgbClr val="ffff99"/>
                </a:solidFill>
                <a:latin typeface="Comic Sans MS"/>
              </a:rPr>
              <a:t>ni una radiografía !!!</a:t>
            </a:r>
            <a:r>
              <a:rPr b="1" i="1" lang="es-ES" sz="4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0:14:55Z</dcterms:created>
  <dc:creator>v</dc:creator>
  <dc:description/>
  <dc:language>en-US</dc:language>
  <cp:lastModifiedBy>Caamaño</cp:lastModifiedBy>
  <dcterms:modified xsi:type="dcterms:W3CDTF">2008-09-09T17:52:42Z</dcterms:modified>
  <cp:revision>2</cp:revision>
  <dc:subject/>
  <dc:title>Diapositiva 1</dc:title>
</cp:coreProperties>
</file>