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Agnus%20Deiw.wav" ContentType="audio/x-wav"/>
  <Override PartName="/ppt/media/image9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PLUG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DE5B-13D3-4169-911D-BB1203BA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3852-A1F8-4643-BA13-EAC31F52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CC4C-E875-44A0-9B2C-3EAAB3E1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CF9-B700-427A-9F3C-D7CDC194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4C2-52D4-413D-B7A4-3654A27F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D07-EEE7-40C0-8F28-F1905874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B44-34C5-42B0-AC51-C1184401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88FD-1709-464A-BE05-336755DB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C4D8-A7BF-4F11-817B-3209058C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2DD6-4406-41C8-B9A3-D4006AD7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E1ED-9D0D-4315-8423-AAAF6485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1CE5-14EE-4725-A0F5-F1321EDF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088F-4AD2-47F5-A4A6-26B1B21CF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audio" Target="../media/Agnus%20Deiw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hyperlink" Target="http://www.benedictinescat.com/montserrat" TargetMode="External"/><Relationship Id="rId4" Type="http://schemas.openxmlformats.org/officeDocument/2006/relationships/hyperlink" Target="http://www.benedictinescat.com/montserrat" TargetMode="External"/><Relationship Id="rId5" Type="http://schemas.openxmlformats.org/officeDocument/2006/relationships/hyperlink" Target="http://www.benedictinescat.com/montserrat" TargetMode="External"/><Relationship Id="rId6" Type="http://schemas.openxmlformats.org/officeDocument/2006/relationships/hyperlink" Target="http://www.benedictinescat.com/montserrat" TargetMode="External"/><Relationship Id="rId7" Type="http://schemas.openxmlformats.org/officeDocument/2006/relationships/hyperlink" Target="http://www.benedictinescat.com/montserrat" TargetMode="External"/><Relationship Id="rId8" Type="http://schemas.openxmlformats.org/officeDocument/2006/relationships/hyperlink" Target="http://www.benedictinescat.com/montserrat" TargetMode="External"/><Relationship Id="rId9" Type="http://schemas.openxmlformats.org/officeDocument/2006/relationships/audio" Target="../media/PLUGIN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3680" y="476280"/>
            <a:ext cx="4307040" cy="5837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103640" y="476280"/>
            <a:ext cx="4716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 Black"/>
              </a:rPr>
              <a:t>DOMING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4932360" y="3716280"/>
            <a:ext cx="3889440" cy="1694520"/>
          </a:xfrm>
          <a:prstGeom prst="rect">
            <a:avLst/>
          </a:prstGeom>
          <a:solidFill>
            <a:srgbClr val="fef6d2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000000"/>
                </a:solidFill>
                <a:latin typeface="Times New Roman"/>
              </a:rPr>
              <a:t>Con Purcell digamos “Amén” al Camino de Jesú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62520" y="2421000"/>
            <a:ext cx="1695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iclo  B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94240" y="1700280"/>
            <a:ext cx="2355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cc9900"/>
                </a:solidFill>
                <a:latin typeface="Arial Black"/>
              </a:rPr>
              <a:t>25 del añ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59280" y="6165720"/>
            <a:ext cx="5935680" cy="502920"/>
            <a:chOff x="3059280" y="6165720"/>
            <a:chExt cx="5935680" cy="502920"/>
          </a:xfrm>
        </p:grpSpPr>
        <p:sp>
          <p:nvSpPr>
            <p:cNvPr id="48" name=""/>
            <p:cNvSpPr/>
            <p:nvPr/>
          </p:nvSpPr>
          <p:spPr>
            <a:xfrm>
              <a:off x="3545640" y="6165720"/>
              <a:ext cx="544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48300"/>
                  </a:solidFill>
                  <a:latin typeface="Arial"/>
                </a:rPr>
                <a:t>Monjas de Sant Benet de Montserr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5"/>
            <a:stretch/>
          </p:blipFill>
          <p:spPr>
            <a:xfrm>
              <a:off x="3059280" y="6165720"/>
              <a:ext cx="484920" cy="502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  <p:sndAc>
      <p:stSnd>
        <p:snd r:embed="rId6" name="Agnus%20Dei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365040"/>
            <a:ext cx="8155080" cy="55803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esús se sentó llamó a los Doce y les dijo: "Quien quiera ser el primero, que sea el último de todos y el servidor de todos."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837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356000" y="6040440"/>
            <a:ext cx="4465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ervir es rein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60280"/>
            <a:ext cx="69134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ara Jesús los honores son una irrisión”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(S. Bernard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445000"/>
            <a:ext cx="1800000" cy="1007640"/>
          </a:xfrm>
          <a:prstGeom prst="rect">
            <a:avLst/>
          </a:prstGeom>
          <a:solidFill>
            <a:srgbClr val="0000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Rincón de Isra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836640"/>
            <a:ext cx="8496000" cy="512244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, acercando a un niño, lo puso en medio de ellos, lo abrazó y les dijo: "El que acoge a un niño como éste en mi nombre me acoge a mí;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92160"/>
            <a:ext cx="9144000" cy="6289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292720" y="5300640"/>
            <a:ext cx="360036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Entendemos tu lenguaj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260280"/>
            <a:ext cx="820908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u dices grande al que es pequeño, pobre al que es rico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304920"/>
            <a:ext cx="8153280" cy="618876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el que me acoge a mí no me acoge a mí, sino al que me ha enviado."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5640" y="406440"/>
            <a:ext cx="7488360" cy="6164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16360" y="5445000"/>
            <a:ext cx="435636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Me inclino ante los demá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89000"/>
            <a:ext cx="81374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...a los pies de todos, que son  nuestros únicos señores (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Espriu</a:t>
            </a: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1052640"/>
            <a:ext cx="6337080" cy="451440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"/>
                <a:ea typeface="Times New Roman"/>
              </a:rPr>
              <a:t>Señor, estamos aquí, para que nos hagas suficientemente “pequeños” para entender la grandeza del SERVICIO, y donde lleva el camino de la humillació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5734080"/>
            <a:ext cx="8137440" cy="642600"/>
          </a:xfrm>
          <a:prstGeom prst="rect">
            <a:avLst/>
          </a:prstGeom>
          <a:gradFill rotWithShape="0">
            <a:gsLst>
              <a:gs pos="0">
                <a:srgbClr val="bb4611"/>
              </a:gs>
              <a:gs pos="100000">
                <a:srgbClr val="5620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nedictinescat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3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montser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620640"/>
            <a:ext cx="7129440" cy="116100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te pps se ha reducido de peso con  PPTminimiz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836640"/>
            <a:ext cx="7705440" cy="393444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n la 2a parte del Evangel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Marcos alterna las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MANIFESTACION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 las enseñanzas sobre la MUERTE y el sentido del SUFR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5877000"/>
            <a:ext cx="2232000" cy="550800"/>
          </a:xfrm>
          <a:prstGeom prst="rect">
            <a:avLst/>
          </a:prstGeom>
          <a:solidFill>
            <a:srgbClr val="00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GALIL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-8686800" y="0"/>
            <a:ext cx="26517600" cy="6886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5373720"/>
            <a:ext cx="6912000" cy="100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Jesús se aleja de las multitudes para  preparar el escándalo de la Cru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474 -0.00208 L -1.00017 -0.00208 E">
                                      <p:cBhvr>
                                        <p:cTn id="28" dur="17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7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533520"/>
            <a:ext cx="8534160" cy="55803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c 9, 30-37 En aquel tiempo, Jesús y sus discípulos se marcharon de la montaña y atravesaron Galilea; no quería que nadie se enterase, porque iba instruyendo a sus discípulos. Les decía: "El Hijo del hombre va a ser entregado en manos de los hombres, y lo matarán; y, después de muerto, a los tres días resucitará."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994040" y="1052640"/>
            <a:ext cx="7149960" cy="4968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4821120"/>
            <a:ext cx="547344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Tu Muerte y Tu Vida tienen la pequeñez y la grandeza del am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360" y="246240"/>
            <a:ext cx="58676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u PASO por la vida es sin ostent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48360" y="6119640"/>
            <a:ext cx="280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Flor de Galil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304920"/>
            <a:ext cx="7632720" cy="56919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ro no entendían aquello, y les daba miedo preguntarle.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7489800" cy="5610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8720" y="260280"/>
            <a:ext cx="813600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o entendemos tan poco que ni nos atrevemos a hablar de e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357880"/>
            <a:ext cx="5184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Un muro se levanta entre Tu y nos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6165720"/>
            <a:ext cx="176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Bet Al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228600"/>
            <a:ext cx="8458200" cy="6188040"/>
          </a:xfrm>
          <a:prstGeom prst="rect">
            <a:avLst/>
          </a:prstGeom>
          <a:solidFill>
            <a:srgbClr val="33333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legaron a Cafarnaún, y, una vez en casa, les preguntó: "¿De qué discutíais por el camino?" Ellos no contestaron, pues por el camino habían discutido quién era el más importante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65944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89080" y="5997600"/>
            <a:ext cx="882000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Y tener el mundo bajo nuestros p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89000"/>
            <a:ext cx="5473440" cy="1312920"/>
          </a:xfrm>
          <a:prstGeom prst="rect">
            <a:avLst/>
          </a:prstGeom>
          <a:gradFill rotWithShape="0">
            <a:gsLst>
              <a:gs pos="0">
                <a:srgbClr val="eb581d"/>
              </a:gs>
              <a:gs pos="100000">
                <a:srgbClr val="6c28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odos queremos dominar desde arri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1700280"/>
            <a:ext cx="1764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Vista desde Natzar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3:35:40Z</dcterms:created>
  <dc:creator>Regina</dc:creator>
  <dc:description/>
  <dc:language>en-US</dc:language>
  <cp:lastModifiedBy>Usuario</cp:lastModifiedBy>
  <dcterms:modified xsi:type="dcterms:W3CDTF">2009-09-16T12:00:31Z</dcterms:modified>
  <cp:revision>226</cp:revision>
  <dc:subject/>
  <dc:title>evangeli</dc:title>
</cp:coreProperties>
</file>