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3A3-422C-410E-8C38-9E64DCFB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DC0-4997-4D56-91AA-63AFEA96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6FF-5F5E-49EB-B393-0B805350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B32-EA18-4A5F-A8F0-812569BA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CE8-0361-499A-9413-52F53C97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2D7-5EE1-4C86-86AF-758718E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7F5-5AF6-4C3B-9B8F-169F5230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821-BF7E-424F-88B6-AFC8A95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33D-AB4A-4564-ADDA-E0980B02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E0A-7719-4AB0-8DE7-C98F8593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1E5-90EB-4CB2-B846-96BC9797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F4C-F82F-4EDB-9718-592ACDEF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936C-1CA0-4CCC-BBF3-7BDC2179C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341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EL TREN DE JAIMI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Y si algún CONCHESUMADRE está enojado por las </a:t>
            </a:r>
            <a:r>
              <a:rPr b="1" lang="es-ES" sz="4000" spc="-1" strike="noStrike" u="sng">
                <a:solidFill>
                  <a:srgbClr val="0000ff"/>
                </a:solidFill>
                <a:uFillTx/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 horas de atraso, que se pare y le reclame a la VIEJA COJUDA que está en la  cocina...!!! 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8288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Jaimito, un pequeño de 5 años, jugaba con su tren en miniatura en la sala de su casa, mientras su mamá cocinaba y le miraba de vez en cuand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7621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Luego de varias vueltas del tren, éste llega a la estación terminal y Jaimito, asumiendo de inspector de tren, dice:  ¡Estación...terminal ! Todos los conchesumadres que viajan hasta aquí, tomen todas sus huevadas y se bajan rapidito del tren, sarta de huevone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7524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Y los hijos de puta que viajan de vuelta, me suben rápido su buena mierda de maletas, antes que los agarre a patadas en el culo.!!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193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Al oír esto, su madre espantada salió rápidamente de la cocina y le dice a Jaimito: ¡¡ Pero que vocabulario es ese hijo, deja inmediatamente tu tren y ándate a tu cuarto... Quedas castigado por </a:t>
            </a:r>
            <a:r>
              <a:rPr b="1" lang="es-ES" sz="4000" spc="-1" strike="noStrike" u="sng">
                <a:solidFill>
                  <a:srgbClr val="0000ff"/>
                </a:solidFill>
                <a:uFillTx/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horas...!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Luego de las </a:t>
            </a:r>
            <a:r>
              <a:rPr b="1" lang="es-ES" sz="4000" spc="-1" strike="noStrike" u="sng">
                <a:solidFill>
                  <a:srgbClr val="0000ff"/>
                </a:solidFill>
                <a:uFillTx/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 horas de castigo, Jaimito vuelve a jugar con su tren y esta vez dice: "¡Estación terminal!, los pasajeros deben descender. A nombre de nuestra empresa les agradecemos haber viajado con nosotro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479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Por favor, bajen todas sus pertenencias y ante cualquier incomodidad o duda, sírvanse solicitar ayuda de nuestros asistentes que los atenderán con gusto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7652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Quiénes viajen de vuelta, por favor tengan la bondad de subir al tren con su equipaje y acomodarse en sus respectivos asientos que vamos a partir.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10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Su madre, con una sonrisa ya más tranquila sigue cocinando, pero.. Jaimito agrega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04:10:27Z</dcterms:created>
  <dc:creator>Luis Gerardo</dc:creator>
  <dc:description/>
  <dc:language>en-US</dc:language>
  <cp:lastModifiedBy>Luis Gerardo</cp:lastModifiedBy>
  <dcterms:modified xsi:type="dcterms:W3CDTF">2007-02-03T02:07:26Z</dcterms:modified>
  <cp:revision>3</cp:revision>
  <dc:subject/>
  <dc:title>El tren de Jaimito</dc:title>
</cp:coreProperties>
</file>