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AB9E-E4F5-4B91-A858-3FA7D91F1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D1F1-7858-498D-9537-BEFA1436E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927B-901D-4996-826E-03E11A4EE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4066-C68D-438C-B9C6-1114D4445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FB69-0537-45A6-A2DB-5640AB3BD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8E89-DD10-4032-B954-88305FA84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5A4E-D658-4D59-9442-6259547B1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219D-DD04-492D-AD0A-B0E044486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69AF-6CCE-4839-8005-D9248D965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07B5-02EF-4B81-931D-DB91D83B4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7B97-5889-4BA6-A72C-4D4798CA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3636-9162-4EFD-8F17-2FF987736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ff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1C74C-A7A4-46B1-AF9C-BAB8F77614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ff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3341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Comic Sans MS"/>
              </a:rPr>
              <a:t>EL TREN DE JAIMI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ff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2880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3300"/>
                </a:solidFill>
                <a:latin typeface="Comic Sans MS"/>
              </a:rPr>
              <a:t>Y si algún CONCHESUMADRE está enojado por las </a:t>
            </a:r>
            <a:r>
              <a:rPr b="1" lang="es-ES" sz="4000" spc="-1" strike="noStrike" u="sng">
                <a:solidFill>
                  <a:srgbClr val="0000ff"/>
                </a:solidFill>
                <a:uFillTx/>
                <a:latin typeface="Comic Sans MS"/>
              </a:rPr>
              <a:t>2</a:t>
            </a:r>
            <a:r>
              <a:rPr b="1" lang="es-ES" sz="4000" spc="-1" strike="noStrike">
                <a:solidFill>
                  <a:srgbClr val="ff3300"/>
                </a:solidFill>
                <a:latin typeface="Comic Sans MS"/>
              </a:rPr>
              <a:t> horas de atraso, que se pare y le reclame a la VIEJA COJUDA que está en la  cocina...!!! 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ff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182880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3300"/>
                </a:solidFill>
                <a:latin typeface="Comic Sans MS"/>
              </a:rPr>
              <a:t>Jaimito, un pequeño de 5 años, jugaba con su tren en miniatura en la sala de su casa, mientras su mamá cocinaba y le miraba de vez en cuando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ff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762120"/>
            <a:ext cx="9144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3300"/>
                </a:solidFill>
                <a:latin typeface="Comic Sans MS"/>
              </a:rPr>
              <a:t>Luego de varias vueltas del tren, éste llega a la estación terminal y Jaimito, asumiendo de inspector de tren, dice:  ¡Estación...terminal ! Todos los conchesumadres que viajan hasta aquí, tomen todas sus huevadas y se bajan rapidito del tren, sarta de huevones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ff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75248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3300"/>
                </a:solidFill>
                <a:latin typeface="Comic Sans MS"/>
              </a:rPr>
              <a:t>Y los hijos de puta que viajan de vuelta, me suben rápido su buena mierda de maletas, antes que los agarre a patadas en el culo.!!"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ff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219320"/>
            <a:ext cx="9144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3300"/>
                </a:solidFill>
                <a:latin typeface="Comic Sans MS"/>
              </a:rPr>
              <a:t>Al oír esto, su madre espantada salió rápidamente de la cocina y le dice a Jaimito: ¡¡ Pero que vocabulario es ese hijo, deja inmediatamente tu tren y ándate a tu cuarto... Quedas castigado por </a:t>
            </a:r>
            <a:r>
              <a:rPr b="1" lang="es-ES" sz="4000" spc="-1" strike="noStrike" u="sng">
                <a:solidFill>
                  <a:srgbClr val="0000ff"/>
                </a:solidFill>
                <a:uFillTx/>
                <a:latin typeface="Comic Sans MS"/>
              </a:rPr>
              <a:t>2</a:t>
            </a:r>
            <a:r>
              <a:rPr b="1" lang="es-ES" sz="4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s-ES" sz="4000" spc="-1" strike="noStrike">
                <a:solidFill>
                  <a:srgbClr val="ff3300"/>
                </a:solidFill>
                <a:latin typeface="Comic Sans MS"/>
              </a:rPr>
              <a:t>horas...!!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ff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371600"/>
            <a:ext cx="9144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3300"/>
                </a:solidFill>
                <a:latin typeface="Comic Sans MS"/>
              </a:rPr>
              <a:t>Luego de las </a:t>
            </a:r>
            <a:r>
              <a:rPr b="1" lang="es-ES" sz="4000" spc="-1" strike="noStrike" u="sng">
                <a:solidFill>
                  <a:srgbClr val="0000ff"/>
                </a:solidFill>
                <a:uFillTx/>
                <a:latin typeface="Comic Sans MS"/>
              </a:rPr>
              <a:t>2</a:t>
            </a:r>
            <a:r>
              <a:rPr b="1" lang="es-ES" sz="4000" spc="-1" strike="noStrike">
                <a:solidFill>
                  <a:srgbClr val="ff3300"/>
                </a:solidFill>
                <a:latin typeface="Comic Sans MS"/>
              </a:rPr>
              <a:t> horas de castigo, Jaimito vuelve a jugar con su tren y esta vez dice: "¡Estación terminal!, los pasajeros deben descender. A nombre de nuestra empresa les agradecemos haber viajado con nosotros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ff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4479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3300"/>
                </a:solidFill>
                <a:latin typeface="Comic Sans MS"/>
              </a:rPr>
              <a:t>Por favor, bajen todas sus pertenencias y ante cualquier incomodidad o duda, sírvanse solicitar ayuda de nuestros asistentes que los atenderán con gusto"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ff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67652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3300"/>
                </a:solidFill>
                <a:latin typeface="Comic Sans MS"/>
              </a:rPr>
              <a:t>Quiénes viajen de vuelta, por favor tengan la bondad de subir al tren con su equipaje y acomodarse en sus respectivos asientos que vamos a partir.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ff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98108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3300"/>
                </a:solidFill>
                <a:latin typeface="Comic Sans MS"/>
              </a:rPr>
              <a:t>Su madre, con una sonrisa ya más tranquila sigue cocinando, pero.. Jaimito agrega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2T04:10:27Z</dcterms:created>
  <dc:creator>Luis Gerardo</dc:creator>
  <dc:description/>
  <dc:language>en-US</dc:language>
  <cp:lastModifiedBy>Luis Gerardo</cp:lastModifiedBy>
  <dcterms:modified xsi:type="dcterms:W3CDTF">2007-02-03T02:07:26Z</dcterms:modified>
  <cp:revision>3</cp:revision>
  <dc:subject/>
  <dc:title>El tren de Jaimito</dc:title>
</cp:coreProperties>
</file>