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guitar%20electricainstrum02.wav" ContentType="audio/x-wav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011-E34C-48B0-A681-43D2342F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7A7-8968-427B-B0F5-505DE7FA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AC0-2B57-4969-9F34-A45B54BB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240-BFFC-4536-806F-5F223288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0CDC-15D1-4D9D-A611-89FEDD54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B8EF-36E8-4D2C-BD11-A890633F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7093-B7EB-44AB-998C-C52E460E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A9D4-D55C-49EC-87B6-50A0FA3A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9FFA-A093-434A-BDB3-B1B61EB2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2DF6-0CF4-4DA2-8785-C9E27B9E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EB54-E243-4EDE-B58D-7CA4C2FA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956-22D8-44F8-BCE9-2A896F8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0FAF-CFE6-4347-AEDE-36DF8E67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2F73-3FC8-4679-A4F0-C45D6B6E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E8F0-2458-4049-A9F4-A510414B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12EC-5DB7-46E3-8D37-3222018F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EF5-AC72-4B04-B5C4-7C03552C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192-1928-47A0-8BD4-D96C5710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249-8EAE-45B1-8DE9-DF9F1492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60D-50DD-4B92-916C-100E68D3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468-7F43-4706-9843-4CEBA164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B8E-DC6D-4277-B58B-1E9DE60C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60B-D7B2-42EE-8568-CEF53A1B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59C-8861-45C4-B76B-26836A5C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D854-9B6F-4081-BC47-47685F63BBD0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69AA-E4FF-4D4D-8F86-69FA359DEBD7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itar%20electricainstrum02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99640" y="915480"/>
            <a:ext cx="37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SENTA y PICO, EN SIGLO XXI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19656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nozcamos que no fue un asunto fácil y todavía lo van diseñando cotidianamen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2127240"/>
            <a:ext cx="387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ero algunas cosas ya pueden darse por sabidas, por ejemplo que no son personas detenidas en el tiempo;  la gente de sesenta  maneja la compu como si lo hubiera hecho toda la vida.  Se escribe, y se ve, con los hijos que están lejos y hasta se olvidan del viejo teléfono para contactar con sus amigos y les escriben en e-mail sus ideas y vivenci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8000" y="134136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r lo general están satisfechas de su estado civil y si no lo están, no se conforman y procuran cambiarl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6840360" cy="684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838080"/>
            <a:ext cx="19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aramente se deshacen en un  llanto sentimental.  A diferencia de los jóvenes; ellos conocen y  ponderan todos los riesgos.  Nadie se pone a llorar cuando pierde: sólo reflexiona y toma nota, a lo sum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6840360" cy="684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93080" y="634680"/>
            <a:ext cx="155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La gente grande comparte la devoción por la juventud y sus formas superlativas, casi insolentes de belleza, pero no se sienten en  retirad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8000" y="5256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iten de otra forma, cultivan su propio estilo...Ellos no envidian la apariencia de jóvenes astros del deporte, o de los que lucen un traje Armani, ni ellos sueñan con tener la figura tuneada de un artis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130320"/>
            <a:ext cx="9144000" cy="7118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2500920"/>
            <a:ext cx="225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ugar de eso saben de la importancia de una mirada cómplice, de una frase inteligente o de una sonrisa iluminada por la experienci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456080" cy="6201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990000"/>
            <a:ext cx="40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Hoy la gente de 60, como es su costumbre, está estrenando una edad que todavía NO TIENE NOMBRE, antes los de esa edad eran viejos y hoy ya no lo son, hoy están plenos física e intelectualmente, recuerdan la  juventud, pero sin nostalgias, porque la juventud también está llena de caídas y nostalgias y ellos lo saben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5715000" cy="428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395280" y="4437000"/>
          <a:ext cx="8353440" cy="10051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gente de 60 de hoy, celebra el sol cada mañana  y sonríe para sí misma muy a menudo...Quizás, por alguna razón secreta que sólo saben y  sabrán los de sesenta en el siglo XX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800" y="37486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645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I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63086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cariño para mis amigos sesent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691920"/>
            <a:ext cx="74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miramos con cuidado podemos detectar la aparición de una franja social que antes no existía: la gente que hoy tiene alrededor de sesenta añ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1280" y="188640"/>
            <a:ext cx="81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 una generación que ha pateado fuera del idioma la palabra "sexagenario", porque sencillamente no tiene entre sus planes actuales el hecho de envejec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822400" cy="6319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35280" y="405360"/>
            <a:ext cx="4592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trata de una verdadera novedad demográfica parecida a la aparición en su momento, de la "adolescencia", que también fue una franja social nueva que surgió a mediados del siglo veinte para dar identidad a una masa de niños desbordados en cuerpos creciditos, que no sabían hasta entonces dónde meterse, ni cómo vestirse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314820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te nuevo grupo humano que hoy ronda los sesenta ha llevado una vida razonablemente satisfactoria.  Son hombres y mujeres independientes  que trabajan desde hace mucho tiempo y han logrado cambiar el significado tétrico que tanta literatura que le dio durante  décadas  al concepto del trabaj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18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jos de las tristes oficinas, esta gente buscó y encontró hace mucho la  actividad que más le gustaba y se ganó la vida con eso. 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8915400" cy="605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-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puestamente debe de ser por esto que se sienten plenos...algunos ni sueñan con jubilarse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435640" y="836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ntro de ese universo de personas saludables, curiosas y activas, tienen un papel rutilan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16720" y="807120"/>
            <a:ext cx="243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udieron sobrevivir a la borrachera de poder que les dio su responsabilidad y en determinado momento de su juventud en el que los cambios eran tantos, pudo detenerse a reflexionar qué quería en real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940360" y="268920"/>
            <a:ext cx="29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gunos se fueron a vivir solos, otros estudiaron carreras, otros eligieron casarse tener hijos, otros fueron ingenieros, con titulo, y sin él, o crearon su propio "YO S.A.".  Pero cada uno hizo su voluntad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2:30:42Z</dcterms:created>
  <dc:creator>Marilin</dc:creator>
  <dc:description/>
  <dc:language>en-US</dc:language>
  <cp:lastModifiedBy>Marilin</cp:lastModifiedBy>
  <dcterms:modified xsi:type="dcterms:W3CDTF">2011-02-16T15:42:09Z</dcterms:modified>
  <cp:revision>3</cp:revision>
  <dc:subject/>
  <dc:title>Diapositiva 1</dc:title>
</cp:coreProperties>
</file>