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guitar%20electricainstrum02.wav" ContentType="audio/x-wav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B0F-6804-41CA-B4BF-3338576A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941-EF7D-4553-9F87-47FCD8D5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F965-1B1F-44F6-944B-8157F7E4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9C3D-5ED5-46B1-B0DF-CAB59BA2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76F0-AEFC-4E04-B289-523F3726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AA37-50C9-4B6C-9C12-F9EB78B6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88D1-2951-4A48-B2E4-66770A70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8030-6D80-4247-BADA-EC7C9852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F207-AC16-4B83-B5A8-0CE246E1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8421-0BB7-486B-B1BD-01537F80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CF72-894A-44B4-ADD3-9B827CA7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BF1-3C40-4866-B143-08FC6728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2CEE-B106-4B94-9C19-CBFD6F26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694D-A773-4B76-B332-A8CE2603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4336-8B39-48E1-AE21-CF19AF2D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24CF-61B7-45C7-8809-844C6AE3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306A-4F2F-49EB-A06F-B6923AED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943F-9F21-458F-B3DC-242A459A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59FB-612C-4B5B-A67F-B333DB2B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AB46-86E1-404C-9B7E-E0E51CCF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0943-CE80-464F-B2B1-763CFF73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0F4-1C4B-4447-BE70-C1761F9E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6CB3-02E4-465C-BEFA-A706EAC7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413-A526-47A7-B058-7E848072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E65E-7399-41F1-ABBD-68D62BA28065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1876-5303-41CF-89FE-0CAB7A23628C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uitar%20electricainstrum02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216000"/>
            <a:ext cx="9144000" cy="664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99640" y="915480"/>
            <a:ext cx="37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ESENTA y PICO, EN SIGLO XXI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9640" y="19656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nozcamos que no fue un asunto fácil y todavía lo van diseñando cotidianamen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2127240"/>
            <a:ext cx="387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ero algunas cosas ya pueden darse por sabidas, por ejemplo que no son personas detenidas en el tiempo;  la gente de sesenta  maneja la compu como si lo hubiera hecho toda la vida.  Se escribe, y se ve, con los hijos que están lejos y hasta se olvidan del viejo teléfono para contactar con sus amigos y les escriben en e-mail sus ideas y vivenci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788000" y="134136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or lo general están satisfechas de su estado civil y si no lo están, no se conforman y procuran cambiarl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6840360" cy="6840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0920" y="838080"/>
            <a:ext cx="194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aramente se deshacen en un  llanto sentimental.  A diferencia de los jóvenes; ellos conocen y  ponderan todos los riesgos.  Nadie se pone a llorar cuando pierde: sólo reflexiona y toma nota, a lo sumo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6840360" cy="6840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093080" y="634680"/>
            <a:ext cx="1552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La gente grande comparte la devoción por la juventud y sus formas superlativas, casi insolentes de belleza, pero no se sienten en  retirad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08000" y="52560"/>
            <a:ext cx="48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iten de otra forma, cultivan su propio estilo...Ellos no envidian la apariencia de jóvenes astros del deporte, o de los que lucen un traje Armani, ni ellos sueñan con tener la figura tuneada de un artist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130320"/>
            <a:ext cx="9144000" cy="7118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79280" y="2500920"/>
            <a:ext cx="225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 lugar de eso saben de la importancia de una mirada cómplice, de una frase inteligente o de una sonrisa iluminada por la experiencia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456080" cy="6201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9280" y="990000"/>
            <a:ext cx="40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Hoy la gente de 60, como es su costumbre, está estrenando una edad que todavía NO TIENE NOMBRE, antes los de esa edad eran viejos y hoy ya no lo son, hoy están plenos física e intelectualmente, recuerdan la  juventud, pero sin nostalgias, porque la juventud también está llena de caídas y nostalgias y ellos lo saben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5715000" cy="428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395280" y="4437000"/>
          <a:ext cx="8353440" cy="10051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a gente de 60 de hoy, celebra el sol cada mañana  y sonríe para sí misma muy a menudo...Quizás, por alguna razón secreta que sólo saben y  sabrán los de sesenta en el siglo XXI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800" y="37486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40720" y="645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RI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00360" y="630864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 cariño para mis amigos sesent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55640" y="691920"/>
            <a:ext cx="744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 miramos con cuidado podemos detectar la aparición de una franja social que antes no existía: la gente que hoy tiene alrededor de sesenta añ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11280" y="188640"/>
            <a:ext cx="81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 una generación que ha pateado fuera del idioma la palabra "sexagenario", porque sencillamente no tiene entre sus planes actuales el hecho de envejec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822400" cy="6319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635280" y="405360"/>
            <a:ext cx="4592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trata de una verdadera novedad demográfica parecida a la aparición en su momento, de la "adolescencia", que también fue una franja social nueva que surgió a mediados del siglo veinte para dar identidad a una masa de niños desbordados en cuerpos creciditos, que no sabían hasta entonces dónde meterse, ni cómo vestirse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3148200"/>
            <a:ext cx="48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ste nuevo grupo humano que hoy ronda los sesenta ha llevado una vida razonablemente satisfactoria.  Son hombres y mujeres independientes  que trabajan desde hace mucho tiempo y han logrado cambiar el significado tétrico que tanta literatura que le dio durante  décadas  al concepto del trabaj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0920" y="188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ejos de las tristes oficinas, esta gente buscó y encontró hace mucho la  actividad que más le gustaba y se ganó la vida con eso. 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800280"/>
            <a:ext cx="8915400" cy="6057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-36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upuestamente debe de ser por esto que se sienten plenos...algunos ni sueñan con jubilarse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435640" y="836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ntro de ese universo de personas saludables, curiosas y activas, tienen un papel rutilan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516720" y="807120"/>
            <a:ext cx="243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udieron sobrevivir a la borrachera de poder que les dio su responsabilidad y en determinado momento de su juventud en el que los cambios eran tantos, pudo detenerse a reflexionar qué quería en realid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940360" y="268920"/>
            <a:ext cx="295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lgunos se fueron a vivir solos, otros estudiaron carreras, otros eligieron casarse tener hijos, otros fueron ingenieros, con titulo, y sin él, o crearon su propio "YO S.A.".  Pero cada uno hizo su voluntad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2:30:42Z</dcterms:created>
  <dc:creator>Marilin</dc:creator>
  <dc:description/>
  <dc:language>en-US</dc:language>
  <cp:lastModifiedBy>Marilin</cp:lastModifiedBy>
  <dcterms:modified xsi:type="dcterms:W3CDTF">2011-02-16T15:42:09Z</dcterms:modified>
  <cp:revision>3</cp:revision>
  <dc:subject/>
  <dc:title>Diapositiva 1</dc:title>
</cp:coreProperties>
</file>