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Lapaloma.wav" ContentType="audio/x-wav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413-A728-478A-AAC2-EABB9808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308-3AA0-4CC1-A9F8-8E97DEDB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F79-E3AF-445A-9013-4F43C0B3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603-39F7-43DB-A098-12171D6B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C6E-B515-449E-8184-9A94681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272-97B1-407B-A0AD-00739925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A9F-E342-4775-BB8D-636D509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5F5-705E-4FAE-8952-7376FE9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8D8-EA87-46CB-A8D2-B5584A8F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062-FD52-40E8-8082-25E31DF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830-4399-47EE-B8B5-130E840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EC2-54DD-48D4-A6F9-BC3E413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E219-6FED-465B-B318-9B6B45A1C3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paloma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1523880"/>
            <a:ext cx="4952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Frases par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medit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 advTm="5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re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24280" y="762120"/>
            <a:ext cx="36766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, cuya sonrisa 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mbellece,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buen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sfigur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ma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b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76920" y="1066680"/>
            <a:ext cx="38192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pregunta 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nto durant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nco minuto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quél que no pregun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tonto siempr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533520"/>
            <a:ext cx="40384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iende más a la mira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l sab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al discur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l necio.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Dusseldo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066680"/>
            <a:ext cx="41338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er está permiti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vantarse es obligator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533520"/>
            <a:ext cx="2876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stiga a los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 envidi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aciéndoles e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ie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19520" y="457200"/>
            <a:ext cx="40100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dinero en el bolsil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es inteligent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tractivo y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cc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demás se canta bie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cc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Gran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33920" y="609480"/>
            <a:ext cx="503856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señalas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el dedo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cuerda que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s otros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es dedos te señalan a ti.</a:t>
            </a:r>
            <a:endParaRPr b="0" lang="en-US" sz="2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Ham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609480"/>
            <a:ext cx="316224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hable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ocura que tu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labras sea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es qu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 silencio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H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4419720"/>
            <a:ext cx="35719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la adversid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lama a tu puer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dos los amig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tán dormido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Ke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81480" y="380880"/>
            <a:ext cx="3086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la pobrez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tra por la puer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amor salt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or la ventan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95600" y="1812960"/>
            <a:ext cx="395280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fin de qu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as mej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urificate tod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s dí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horz"/>
    <p:sndAc>
      <p:stSnd>
        <p:snd r:embed="rId2" name="Lapalom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Li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43200" y="1295280"/>
            <a:ext cx="3286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isfruta hoy, 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ás tarde de lo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re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L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505320" y="685800"/>
            <a:ext cx="3200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hombre es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uro que el hierro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ás fuerte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 toro, y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ragil que una ros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Me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6200" y="533520"/>
            <a:ext cx="3181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que no pued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brellevar lo ma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vive para v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buen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Mosk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609480"/>
            <a:ext cx="30099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sabio no di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que sab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 el necio no sab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o que dic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19520" y="45720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hombre es bue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hace mejo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os otro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Pari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6200" y="914400"/>
            <a:ext cx="3305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 una locura amar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enos que se a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 locur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P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43200" y="1295280"/>
            <a:ext cx="325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ría a tus hijos y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abrás cuánt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bes a tus padr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alz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32860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ay tanto de bue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lo peor y tant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malo en l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, que es difici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denar a nadi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anto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0" y="685800"/>
            <a:ext cx="3695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amistad termin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onde la desconfianz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mpiez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257800" y="609480"/>
            <a:ext cx="343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felicidad es com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arco iri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se ve nunc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la casa propi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no sólo sobr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e7f2"/>
                    </a:gs>
                    <a:gs pos="100000">
                      <a:srgbClr val="fbeac7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ajen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ee7f2"/>
                  </a:gs>
                  <a:gs pos="100000">
                    <a:srgbClr val="fbeac7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91320" y="533520"/>
            <a:ext cx="269532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as flores le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dimos q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ngan perfume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los homb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ducació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67080" y="762120"/>
            <a:ext cx="405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generosidad consiste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n dar antes de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se nos pida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Turk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62520" y="609480"/>
            <a:ext cx="3867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herida causada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a lanza puede cur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ro la causada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lengua, es incurable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Vancou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533520"/>
            <a:ext cx="32288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paciencia en un 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omento de enojo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vitará cien dias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dolor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Vene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362320" y="685800"/>
            <a:ext cx="42004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tierra no es una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erencia de nuestros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dres, sino un préstamo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nuestros hijos.</a:t>
            </a:r>
            <a:endParaRPr b="0" lang="en-US" sz="24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alters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90920" y="838080"/>
            <a:ext cx="393372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buenas fuentes 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ocen en las grand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quías, los buen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igos, en las époc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sgraciada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2120" y="533520"/>
            <a:ext cx="42004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s lágrimas derramad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n amargas, pero má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rgas las que 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derraman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W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800600" y="53352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 dije al almendr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me hablara de Di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 comenzó a florecer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343400" y="609480"/>
            <a:ext cx="3610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ompas el silenci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 no es par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jorar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380880"/>
            <a:ext cx="2886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nadie le due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cabeza cuan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suela a otr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57200"/>
            <a:ext cx="3362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veces los mejor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adadores s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hogan, y l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enos jinet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aen del caballo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oeda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685800"/>
            <a:ext cx="39816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l amor, como a l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uenas cerámicas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uando se rompen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unque se reconstruy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e les notan l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icatric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ff33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ord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257800" y="4114800"/>
            <a:ext cx="31338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tes de iniciar l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bor de cambi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l mund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 tres vueltas p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 propia casa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00400" y="457200"/>
            <a:ext cx="547704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tes de que la luz del sol pue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llar a travé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 la ventana,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bes levanta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s presiana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66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Garamond"/>
              </a:rPr>
              <a:t>Br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533520"/>
            <a:ext cx="32385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quél a quien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mamos n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iene defectos;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i le odiáramo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tendría virtudes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35:54Z</dcterms:created>
  <dc:creator>M.E.M.</dc:creator>
  <dc:description>Frase para meditar</dc:description>
  <dc:language>en-US</dc:language>
  <cp:lastModifiedBy>Miguel</cp:lastModifiedBy>
  <dcterms:modified xsi:type="dcterms:W3CDTF">2008-11-08T08:01:12Z</dcterms:modified>
  <cp:revision>15</cp:revision>
  <dc:subject/>
  <dc:title>CIUDADES POR LA NOCHE</dc:title>
</cp:coreProperties>
</file>