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Lapaloma.wav" ContentType="audio/x-wav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B53-D609-426F-BC53-1CF55EF3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F23-F864-4D21-A243-71D1F7F8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A4E-AC87-4B2C-BC30-6B35C8FE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0AF-0E8D-403B-BE06-0C8D234D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338-EB17-47E4-B9B2-B29EB51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AEF-697A-4FB3-AE99-1D932D01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7D2-1A4F-4038-A807-C04FDEA2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187-245C-44F3-9FEF-FB918CE9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F1A-F93F-4A6F-BA05-5524EE31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258-3AFA-4730-B89B-F2B78666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DCD-902F-4B04-9850-1678886C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03F-0EF2-4F45-B468-6AC14832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CA5D-3AC3-413B-8724-BA9071AF56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paloma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1523880"/>
            <a:ext cx="4952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Frases par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medit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5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24280" y="762120"/>
            <a:ext cx="367668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quél, cuya sonrisa 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mbellece,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 bueno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quél que 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sfigura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 malo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Dub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76920" y="1066680"/>
            <a:ext cx="38192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quél que pregunta e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nto durant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nco minutos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quél que no pregun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 tonto siempre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Dub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533520"/>
            <a:ext cx="40384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tiende más a la mira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l sabi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al discurs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l necio.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Dussel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066680"/>
            <a:ext cx="41338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er está permiti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vantarse es obligatori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Frankf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533520"/>
            <a:ext cx="28767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stiga a los q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e envidia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aciéndoles e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ien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19520" y="457200"/>
            <a:ext cx="40100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cc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 dinero en el bolsill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cc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cc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es inteligente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cc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cc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tractivo y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cc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cc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demás se canta bien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cc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Gran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33920" y="609480"/>
            <a:ext cx="5038560" cy="247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señalas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 el dedo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cuerda que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s otros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es dedos te señalan a ti.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720" y="609480"/>
            <a:ext cx="3162240" cy="247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hable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rocura que tus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labras sea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jores qu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u silencio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H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4419720"/>
            <a:ext cx="35719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la adversid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lama a tu puer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dos los amig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tán dormido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Keu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81480" y="380880"/>
            <a:ext cx="30862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la pobrez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ntra por la puer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amor sal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r la ventan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95600" y="1812960"/>
            <a:ext cx="395280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fin de qu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as mejo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urificate tod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s día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horz"/>
    <p:sndAc>
      <p:stSnd>
        <p:snd r:embed="rId2" name="Lapalom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Li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43200" y="1295280"/>
            <a:ext cx="3286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isfruta hoy, e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ás tarde de lo q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re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L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505320" y="685800"/>
            <a:ext cx="32004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hombre es má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uro que el hierro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ás fuerte q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 toro, y má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ragil que una ros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Me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6200" y="533520"/>
            <a:ext cx="31813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que no pued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obrellevar lo mal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vive para v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 bueno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Mosk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609480"/>
            <a:ext cx="30099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sabio no di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 que sabe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 el necio no sab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 que dice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819520" y="45720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hombre es buen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hace mejor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los otro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Pari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6200" y="914400"/>
            <a:ext cx="3305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 una locura amar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enos que se a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 locur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P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743200" y="1295280"/>
            <a:ext cx="325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ría a tus hijos y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abrás cuánt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bes a tus padr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Salz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90720" y="380880"/>
            <a:ext cx="32860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ay tanto de buen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n lo peor y tant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malo en l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jor, que es difici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denar a nadie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Santo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0" y="685800"/>
            <a:ext cx="3695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amistad termi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onde la desconfianz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mpiez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257800" y="609480"/>
            <a:ext cx="34383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felicidad es com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arco iris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se ve nunc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n la casa propia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ino sólo sobr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ajen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91320" y="533520"/>
            <a:ext cx="269532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las flores le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edimos q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engan perfume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los hombr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ducación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267080" y="762120"/>
            <a:ext cx="4057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generosidad consiste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n dar antes de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se nos pida.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Turk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62520" y="609480"/>
            <a:ext cx="38671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herida causada po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a lanza puede cur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ero la causada po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lengua, es incurable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Vanco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533520"/>
            <a:ext cx="32288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paciencia en un 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omento de enojo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itará cien dias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dolor.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Vene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362320" y="685800"/>
            <a:ext cx="42004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tierra no es una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erencia de nuestros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dres, sino un préstamo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nuestros hijos.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Walters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90920" y="838080"/>
            <a:ext cx="393372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buenas fuentes s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ocen en las grand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quías, los buen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igos, en las époc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sgraciada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2120" y="533520"/>
            <a:ext cx="42004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s lágrimas derramad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on amargas, pero má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argas las que n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derraman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W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800600" y="533520"/>
            <a:ext cx="389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 dije al almendr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me hablara de Di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 comenzó a florecer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343400" y="609480"/>
            <a:ext cx="3610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ompas el silenci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i no es par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jorarlo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380880"/>
            <a:ext cx="2886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nadie le due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cabeza cuan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suela a otr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57200"/>
            <a:ext cx="33624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veces los mejor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adadores s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hogan, y l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uenos jinet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en del caballo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oedap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0200" y="685800"/>
            <a:ext cx="39816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l amor, como a l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uenas cerámicas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se rompen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unque se reconstruya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les notan l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catric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orde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257800" y="4114800"/>
            <a:ext cx="31338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tes de iniciar la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bor de cambi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mun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 tres vueltas po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u propia cas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rug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00400" y="457200"/>
            <a:ext cx="547704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tes de que la luz del sol pue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llar a travé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la ventana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bes levant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s presiana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ru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533520"/>
            <a:ext cx="32385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quél a quien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amos n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ene defectos;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i le odiáram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tendría virtud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35:54Z</dcterms:created>
  <dc:creator>M.E.M.</dc:creator>
  <dc:description>Frase para meditar</dc:description>
  <dc:language>en-US</dc:language>
  <cp:lastModifiedBy>Miguel</cp:lastModifiedBy>
  <dcterms:modified xsi:type="dcterms:W3CDTF">2008-11-08T08:01:12Z</dcterms:modified>
  <cp:revision>15</cp:revision>
  <dc:subject/>
  <dc:title>CIUDADES POR LA NOCHE</dc:title>
</cp:coreProperties>
</file>