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A5A-6195-42F5-BAFC-FB8954AA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504-AFB4-4EE5-9B8E-6F376C45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8AF-84F5-4AFE-9854-AA8A7DF0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AE-74A6-4A71-8613-4C035421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4CC-6384-4C8A-A8C3-74E449D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457-8E8F-453B-B92A-48A791A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DFF-E3A0-49A3-9007-F9F3B10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82B-7D93-47BD-B662-7CE5B619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958-C689-42BE-9AE2-22DEEF06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29A-E167-4666-BA88-1DC9853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6FB-1731-43DF-80DF-B4A454B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956-A35C-4642-9703-A638E32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5B55-F95C-44E9-B4DE-B4CA6D76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77148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ODRÍAS COMPARTIR UN FAVOR CONMI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960" y="2498760"/>
            <a:ext cx="8128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836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Danos hoy el pan nuestro de cada dí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perdona nuestras ofens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7960" y="1631880"/>
            <a:ext cx="8128080" cy="35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danos misericordi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para saber perdonar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92200" y="1460520"/>
            <a:ext cx="6159600" cy="393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a los que nos of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no nos dejes caer en tentació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y líbranos de to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4600" y="1268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M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924280"/>
            <a:ext cx="23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Gracia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62064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4400" spc="-1" strike="noStrike">
                <a:solidFill>
                  <a:srgbClr val="000000"/>
                </a:solidFill>
                <a:latin typeface="Garamond"/>
              </a:rPr>
              <a:t>Ahora, por tu bien envíala a otras diez o más perso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22560" y="2349360"/>
            <a:ext cx="3133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960" y="2498760"/>
            <a:ext cx="8128080" cy="3594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-360"/>
            <a:ext cx="8366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¿Sabes por qué?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n un rato más, diez personas habrán rezado por ti y habrás logrado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333360"/>
            <a:ext cx="77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La verdad a mi no me da nada de vergüenza no sé a TI.. Lee con mucha atención lo siguiente y con el corazón hazlo por 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026720"/>
            <a:ext cx="809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que muchas personas recen a Dios por otras persona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uego, piensa por un momento, y aprecia el poder de Dios en tu vida, por hacer lo que tu sabes que a Él le encanta, Ora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no tienes vergüenza de hacer esto, por favor, sigue las instruccione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1341360"/>
            <a:ext cx="6480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Jesucristo dijo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"Si te avergüenzas de mí, yo me avergonzare de ti ante mi Padre"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no tienes vergüenza, envía este Mensaje...solo si crees en ello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                           Si, amo a Dio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44280"/>
            <a:ext cx="7920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l es mi fuente de existencia y mi Salvado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l me mantiene funcionando día  y noch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n Él, nada soy, pero, con Él todo lo puedo, en Cristo que me da fuerza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                             Filipenses 4:13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                      Esta es la prueba más simpl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amas a Dios y no te avergüenzas de todas las cosas maravillosas que Él ha hecho por ti, envíalo a diez personas o MÁS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0000" y="18900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O te da vergüe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9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14828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620640"/>
            <a:ext cx="45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¡¡¡¡¡¡ GRACIAS  !!!!!!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07160" cy="42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76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Solo Repite: Padre nuest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76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que estás en los cielo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santificado sea tu nombr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58196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2720" y="54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venga a nosotros tu re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159240" cy="402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836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hágase tu voluntad aquí en la Tierr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159600" cy="420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como en el ciel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9:21:03Z</dcterms:created>
  <dc:creator> x</dc:creator>
  <dc:description/>
  <dc:language>en-US</dc:language>
  <cp:lastModifiedBy> </cp:lastModifiedBy>
  <dcterms:modified xsi:type="dcterms:W3CDTF">2006-01-10T20:00:59Z</dcterms:modified>
  <cp:revision>3</cp:revision>
  <dc:subject/>
  <dc:title>Diapositiva 1</dc:title>
</cp:coreProperties>
</file>