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4B6-ABF3-46D4-B6A4-52DDE832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65B-7747-4436-9843-8E6882CF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290-D335-4367-86BA-E77F785F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779-24F2-4465-98BC-D82457D3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04D-4E11-4EE0-8DBB-31EA083D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C71-FCCE-4D79-93E7-0BEA6878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4F8-C00E-48B2-8F5C-334F7F9A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C81-7CFA-4441-9E17-2EACFEC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B1A-1610-4F6E-B25C-4155F9B4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C34-C856-4D27-BC5A-C398B0C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780-A5AB-4C9E-95AC-D2EC00D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4F6-33B2-4C98-8A48-7A7515E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B05-DE13-424E-B287-D66B7C57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77148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ODRÍAS COMPARTIR UN FAVOR CONMI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960" y="2498760"/>
            <a:ext cx="81280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836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Danos hoy el pan nuestro de cada dí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perdona nuestras ofens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7960" y="1631880"/>
            <a:ext cx="8128080" cy="35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danos misericordi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para saber perdonar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92200" y="1460520"/>
            <a:ext cx="6159600" cy="393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a los que nos ofen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no nos dejes caer en tentació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y líbranos de to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14600" y="1268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MÉ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924280"/>
            <a:ext cx="23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Gracia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16000" y="62064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4400" spc="-1" strike="noStrike">
                <a:solidFill>
                  <a:srgbClr val="000000"/>
                </a:solidFill>
                <a:latin typeface="Garamond"/>
              </a:rPr>
              <a:t>Ahora, por tu bien envíala a otras diez o más perso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22560" y="2349360"/>
            <a:ext cx="3133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960" y="2498760"/>
            <a:ext cx="8128080" cy="3594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-360"/>
            <a:ext cx="8366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¿Sabes por qué?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En un rato más, diez personas habrán rezado por ti y habrás logrado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333360"/>
            <a:ext cx="77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La verdad a mi no me da nada de vergüenza no sé a TI.. Lee con mucha atención lo siguiente y con el corazón hazlo por 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1026720"/>
            <a:ext cx="809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que muchas personas recen a Dios por otras persona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uego, piensa por un momento, y aprecia el poder de Dios en tu vida, por hacer lo que tu sabes que a Él le encanta, Orar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 no tienes vergüenza de hacer esto, por favor, sigue las instruccione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1341360"/>
            <a:ext cx="6480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Jesucristo dijo,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"Si te avergüenzas de mí, yo me avergonzare de ti ante mi Padre"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 no tienes vergüenza, envía este Mensaje...solo si crees en ello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                           Si, amo a Dio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44280"/>
            <a:ext cx="7920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Él es mi fuente de existencia y mi Salvador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Él me mantiene funcionando día  y noch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n Él, nada soy, pero, con Él todo lo puedo, en Cristo que me da fuerza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                             Filipenses 4:13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                      Esta es la prueba más simple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 amas a Dios y no te avergüenzas de todas las cosas maravillosas que Él ha hecho por ti, envíalo a diez personas o MÁS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0000" y="18900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aramond"/>
              </a:rPr>
              <a:t>O te da vergüen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37497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148280" cy="489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68360" y="620640"/>
            <a:ext cx="45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¡¡¡¡¡¡ GRACIAS  !!!!!!!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07160" cy="4228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765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Solo Repite: Padre nuestr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765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que estás en los cielo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santificado sea tu nombr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58196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2720" y="54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venga a nosotros tu rei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159240" cy="402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836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hágase tu voluntad aquí en la Tierr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159600" cy="420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836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GT" sz="3200" spc="-1" strike="noStrike">
                <a:solidFill>
                  <a:srgbClr val="000000"/>
                </a:solidFill>
                <a:latin typeface="Garamond"/>
              </a:rPr>
              <a:t>como en el ciel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9:21:03Z</dcterms:created>
  <dc:creator> x</dc:creator>
  <dc:description/>
  <dc:language>en-US</dc:language>
  <cp:lastModifiedBy> </cp:lastModifiedBy>
  <dcterms:modified xsi:type="dcterms:W3CDTF">2006-01-10T20:00:59Z</dcterms:modified>
  <cp:revision>3</cp:revision>
  <dc:subject/>
  <dc:title>Diapositiva 1</dc:title>
</cp:coreProperties>
</file>