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gustavo%20santaolalla+iguazu.WAV" ContentType="audio/x-wav"/>
  <Override PartName="/ppt/media/image3.gif" ContentType="image/gif"/>
  <Override PartName="/ppt/media/image12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A12-D226-4BCF-98CD-A700745F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FB5-E079-4B2E-877B-AAF00F29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D40-9DC8-4C26-810A-F617FE41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2C0-4507-4823-9BFD-3C58CAD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4EC-F117-4337-9B03-51654F8A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019-30C9-42AB-8130-189B124D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3F8-9D01-42F3-B147-C4938AA2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19F-A87D-4D68-A6F3-5B2720E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7D9-71FA-498E-9B97-DF024CC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976-997A-4DDB-A69F-C1B564F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579-797A-4D32-A0EF-1253367B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BE6-2D9F-4DE5-A418-794503D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3DAF-B3A1-46A6-8AA5-BD9088885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audio" Target="../media/gustavo%20santaolalla+iguazu.WAV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371600"/>
            <a:ext cx="4647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EL SHOW DE L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MAN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429000" y="480060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629400" y="5105520"/>
            <a:ext cx="1295280" cy="590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2160" y="58276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7" name="gustavo%20santaolalla+iguaz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440"/>
            <a:ext cx="8229600" cy="685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9360"/>
            <a:ext cx="8686800" cy="683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16080"/>
            <a:ext cx="9144000" cy="62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5160"/>
            <a:ext cx="8153280" cy="679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uE</cp:lastModifiedBy>
  <dcterms:modified xsi:type="dcterms:W3CDTF">2009-03-05T05:29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