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gustavo%20santaolalla+iguazu.WAV" ContentType="audio/x-wav"/>
  <Override PartName="/ppt/media/image3.gif" ContentType="image/gif"/>
  <Override PartName="/ppt/media/image12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E88-700E-484A-9EBC-5FA732A5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8B5-AE31-4B5B-9EC9-D66F299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0AE-4404-4B81-A378-710623CC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630-E2C4-4B58-AD54-255F5D79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E86-47C1-4EDB-884D-DDAAF339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B85-C6CF-470E-9BA5-2BB60A8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9A9-170C-4106-9BA8-B587F5FB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4BF-8BEE-47B6-9800-66DD3ED3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4D3-B0CC-40BE-8FE5-D9B7671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0ED-DD27-4168-ADFF-29AFBFC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571-6C98-4FE9-9E6C-D286825C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1C4-3B5E-430F-9CFE-B13B77AF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1F28-47D9-4BAE-907F-5AC036F0B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audio" Target="../media/gustavo%20santaolalla+iguazu.WAV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371600"/>
            <a:ext cx="4647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EL SHOW DE L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MAN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429000" y="4800600"/>
            <a:ext cx="112392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629400" y="5105520"/>
            <a:ext cx="1295280" cy="59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2160" y="582768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7" name="gustavo%20santaolalla+iguaz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440"/>
            <a:ext cx="8229600" cy="685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9360"/>
            <a:ext cx="8686800" cy="683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5160"/>
            <a:ext cx="8153280" cy="6791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uE</cp:lastModifiedBy>
  <dcterms:modified xsi:type="dcterms:W3CDTF">2009-03-05T05:29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