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mor%20algo%20maravillosos%2096kb.wav" ContentType="audio/x-wav"/>
  <Override PartName="/ppt/media/image7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CB6-4B38-45E0-A3D7-18C41735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DE4-7596-4541-8065-359DD9EC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AA5-2099-4DD6-AD90-55C354F2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EB1-771F-4266-A71B-44EC0215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44E-BF91-4398-9C4A-74F2723C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61F-C1EB-40B5-B914-79FC0BE2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E4C-24FC-485A-8A3E-E5921328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107-7551-4F3C-A2BB-162981EC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103-DC1E-483A-BBE3-ACF1BA67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A3B-69CF-4520-B47D-0C99D277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031-3196-45D6-890E-F7153584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398-9276-4024-8F18-7A1564E0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B266-74C7-47CC-B9D8-9206F1CF9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or%20algo%20maravillosos%2096k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ande%20pequeña%20encim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0"/>
            <a:ext cx="84582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La única respuesta adecuada a la llegada del Reino es el am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El modo de ser y de actuar de Dios ha de ser el programa para todos.</a:t>
            </a:r>
            <a:br>
              <a:rPr sz="2000"/>
            </a:b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Un Dios compasivo está pidiendo a sus hijos e hijas </a:t>
            </a:r>
            <a:br>
              <a:rPr sz="2000"/>
            </a:b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una vida inspirada por la compa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Construir la vida tal como la quiere Dios sólo es posible </a:t>
            </a:r>
            <a:br>
              <a:rPr sz="2000"/>
            </a:b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si se hace del amor un imperativo absolu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99"/>
                </a:solidFill>
                <a:latin typeface="Comic Sans MS"/>
              </a:rPr>
              <a:t>José Antonio Pag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ffff99"/>
                </a:solidFill>
                <a:latin typeface="Comic Sans MS"/>
              </a:rPr>
              <a:t>Jesús: aproximación históric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279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Texto: Mateo 20, 1-16 // 25 Tiempo Ordinario –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Comentarios y presentación: Asun Gutiérre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Música: Amor, algo maravillos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Amor%20algo%20maravillosos%2096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IÑA%20ARCO%20IRIS%20camp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0"/>
            <a:ext cx="6172200" cy="1191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r eso, con el reino de los cielos sucede lo que con el dueño de una finca que salió muy de mañana a contratar obreros para su viña.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espués de contratar a los obreros por un denario al día, los envió a su viñ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xeltrans" descr=""/>
          <p:cNvPicPr/>
          <p:nvPr/>
        </p:nvPicPr>
        <p:blipFill>
          <a:blip r:embed="rId2"/>
          <a:stretch/>
        </p:blipFill>
        <p:spPr>
          <a:xfrm>
            <a:off x="0" y="301788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029200"/>
            <a:ext cx="899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Parábola exclusiva de Mateo. Muestra la situación de su comunidad,  donde los judíos, que se consideraban con todos los derechos y “titulares” de la promes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se preguntaban si debían aceptar a las personas gentiles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que se iban incorporando a la comu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Como todas las parábolas, cuestiona, incomoda y sorpre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viña%2078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3300"/>
                </a:solidFill>
                <a:latin typeface="Georgia"/>
              </a:rPr>
              <a:t>3</a:t>
            </a: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Salió a media mañana, vio a otros que estaban en la plaza sin trabajo,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Georgia"/>
              </a:rPr>
              <a:t>4</a:t>
            </a: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y les dijo: 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«Id también vosotros a la viña, y os daré lo que sea justo».</a:t>
            </a:r>
            <a:br>
              <a:rPr sz="1800"/>
            </a:br>
            <a:r>
              <a:rPr b="0" lang="en-US" sz="1800" spc="-1" strike="noStrike" baseline="30000">
                <a:solidFill>
                  <a:srgbClr val="003300"/>
                </a:solidFill>
                <a:latin typeface="Georgia"/>
              </a:rPr>
              <a:t>5</a:t>
            </a: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 Ellos fueron. Salió de nuevo a mediodía y a primera hora de la tarde e hizo lo mismo. </a:t>
            </a:r>
            <a:br>
              <a:rPr sz="1800"/>
            </a:br>
            <a:r>
              <a:rPr b="0" lang="en-US" sz="1800" spc="-1" strike="noStrike" baseline="30000">
                <a:solidFill>
                  <a:srgbClr val="003300"/>
                </a:solidFill>
                <a:latin typeface="Georgia"/>
              </a:rPr>
              <a:t>6</a:t>
            </a: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 Salió por fin a media tarde, encontró a otros que estaban sin trabajo y les dijo: «¿Por qué estáis aquí todo el día sin hacer nada?».</a:t>
            </a:r>
            <a:r>
              <a:rPr b="0" lang="en-US" sz="1800" spc="-1" strike="noStrike" baseline="30000">
                <a:solidFill>
                  <a:srgbClr val="003300"/>
                </a:solidFill>
                <a:latin typeface="Georgia"/>
              </a:rPr>
              <a:t>7</a:t>
            </a: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 Le contestaron: «Porque nadie nos ha contratado». Él les dijo: «Id también vosotros a la viña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76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Comic Sans MS"/>
              </a:rPr>
              <a:t>El único dueño de la viña tiene trabajo para tod@s y a todas horas.</a:t>
            </a:r>
            <a:br>
              <a:rPr sz="1800"/>
            </a:br>
            <a:r>
              <a:rPr b="0" lang="es-ES" sz="1800" spc="-1" strike="noStrike">
                <a:solidFill>
                  <a:srgbClr val="ffcc00"/>
                </a:solidFill>
                <a:latin typeface="Comic Sans MS"/>
              </a:rPr>
              <a:t>En la viña hay cabida y tarea para tod@s, sin ningún tipo de privilegios, diferencias ni excepción. </a:t>
            </a:r>
            <a:br>
              <a:rPr sz="1800"/>
            </a:br>
            <a:r>
              <a:rPr b="0" lang="es-ES" sz="1800" spc="-1" strike="noStrike">
                <a:solidFill>
                  <a:srgbClr val="ffcc00"/>
                </a:solidFill>
                <a:latin typeface="Comic Sans MS"/>
              </a:rPr>
              <a:t>La viña  -comunidad de Jesús- en la que sólo pueden trabajar unas pocas personas, en la que exista cualquier tipo de discriminación, tiene poco que ver con la viña que Jesús quiere y presenta en la parábo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VIÑA%20cepas%20NOCH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Al atardecer, el dueño de la viña dijo a su administrador: «Llama a los obreros y págales el jornal, empezando por los últimos hasta los  primeros».</a:t>
            </a:r>
            <a:br>
              <a:rPr sz="2000"/>
            </a:b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9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Vinieron los de media tarde y cobraron un denario cada u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5288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Cada persona tiene su hora, su día, su edad...,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de ver y aceptar su encuentro con Jesús.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l dueño de la viña no paga por trabajo realizado, ni por horas,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ni por trabajar a destajo, sino por la disponibilidad, por la actitud,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la apertura y acogida a su invit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VIÑAS%20Álav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99"/>
                </a:solidFill>
                <a:latin typeface="Georgia"/>
              </a:rPr>
              <a:t>10</a:t>
            </a:r>
            <a:r>
              <a:rPr b="0" lang="en-US" sz="2000" spc="-1" strike="noStrike">
                <a:solidFill>
                  <a:srgbClr val="ffff99"/>
                </a:solidFill>
                <a:latin typeface="Georgia"/>
              </a:rPr>
              <a:t> Cuando llegaron los primeros, pensaban que cobrarían más; pero también ellos cobraron un denario cada uno.</a:t>
            </a:r>
            <a:br>
              <a:rPr sz="2000"/>
            </a:br>
            <a:r>
              <a:rPr b="0" lang="en-US" sz="2000" spc="-1" strike="noStrike" baseline="30000">
                <a:solidFill>
                  <a:srgbClr val="ffff99"/>
                </a:solidFill>
                <a:latin typeface="Georgia"/>
              </a:rPr>
              <a:t>11</a:t>
            </a:r>
            <a:r>
              <a:rPr b="0" lang="en-US" sz="2000" spc="-1" strike="noStrike">
                <a:solidFill>
                  <a:srgbClr val="ffff99"/>
                </a:solidFill>
                <a:latin typeface="Georgia"/>
              </a:rPr>
              <a:t> Al recibirlo, se quejaban del dueño,</a:t>
            </a:r>
            <a:r>
              <a:rPr b="0" lang="en-US" sz="2000" spc="-1" strike="noStrike" baseline="30000">
                <a:solidFill>
                  <a:srgbClr val="ffff99"/>
                </a:solidFill>
                <a:latin typeface="Georgia"/>
              </a:rPr>
              <a:t>12</a:t>
            </a:r>
            <a:r>
              <a:rPr b="0" lang="en-US" sz="2000" spc="-1" strike="noStrike">
                <a:solidFill>
                  <a:srgbClr val="ffff99"/>
                </a:solidFill>
                <a:latin typeface="Georgia"/>
              </a:rPr>
              <a:t> diciendo: 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Georgia"/>
              </a:rPr>
              <a:t>«Estos últimos han trabajado sólo un rato y les has pagado igual que a nosotros, que hemos soportado el peso del día y del calor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0194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únicas personas  que protestan son las que saben desde el principio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 que van a ganar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o se quejan de haber padecido una injusticia -recibieron el denario acordado-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 quejan de lo que reciben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enten envidia de que tod@s sean tratad@s igual que ellos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o soportan la falta de distinción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 que les molesta no es recibir una paga insuficiente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sino el comprobar que el Señor es bueno con tod@s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 la actitud de las personas que se creen justas, con méritos y derechos ante Dios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se relacionan con Él en términos mercantilistas, intentando comprar SU salv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ano%20generosid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cc00"/>
                </a:solidFill>
                <a:latin typeface="Georgia"/>
              </a:rPr>
              <a:t>13</a:t>
            </a:r>
            <a:r>
              <a:rPr b="0" lang="en-US" sz="2000" spc="-1" strike="noStrike">
                <a:solidFill>
                  <a:srgbClr val="ffcc00"/>
                </a:solidFill>
                <a:latin typeface="Georgia"/>
              </a:rPr>
              <a:t> Pero él respondió a uno de ellos: «Amigo, no te hago ninguna injusticia. ¿No quedamos en un denario? </a:t>
            </a:r>
            <a:r>
              <a:rPr b="0" lang="en-US" sz="2000" spc="-1" strike="noStrike" baseline="30000">
                <a:solidFill>
                  <a:srgbClr val="ffcc00"/>
                </a:solidFill>
                <a:latin typeface="Georgia"/>
              </a:rPr>
              <a:t>14 </a:t>
            </a:r>
            <a:r>
              <a:rPr b="0" lang="en-US" sz="2000" spc="-1" strike="noStrike">
                <a:solidFill>
                  <a:srgbClr val="ffcc00"/>
                </a:solidFill>
                <a:latin typeface="Georgia"/>
              </a:rPr>
              <a:t>Toma lo tuyo y vete. Si yo quiero dar a este último lo mismo que a ti,</a:t>
            </a:r>
            <a:r>
              <a:rPr b="0" lang="en-US" sz="2000" spc="-1" strike="noStrike" baseline="30000">
                <a:solidFill>
                  <a:srgbClr val="ffcc00"/>
                </a:solidFill>
                <a:latin typeface="Georgia"/>
              </a:rPr>
              <a:t>15 </a:t>
            </a:r>
            <a:r>
              <a:rPr b="0" lang="en-US" sz="2000" spc="-1" strike="noStrike">
                <a:solidFill>
                  <a:srgbClr val="ffcc00"/>
                </a:solidFill>
                <a:latin typeface="Georgia"/>
              </a:rPr>
              <a:t>¿no puedo hacer lo que quiera con lo mí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7680" y="4156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3745080"/>
            <a:ext cx="8991720" cy="3111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 parábola va al corazón del mensaje de Jesús: el amor libre y gratuito del Pa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y la forma de actuar de las personas que se creen justas ante Él. </a:t>
            </a:r>
            <a:br>
              <a:rPr sz="1800"/>
            </a:b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texto no trata de dar una lección de justicia social</a:t>
            </a:r>
            <a:r>
              <a:rPr b="1" lang="es-ES_tradnl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n las relaciones laborales</a:t>
            </a:r>
            <a:r>
              <a:rPr b="1" lang="es-ES_tradnl" sz="1800" spc="-1" strike="noStrike">
                <a:solidFill>
                  <a:srgbClr val="000066"/>
                </a:solidFill>
                <a:latin typeface="Comic Sans MS"/>
              </a:rPr>
              <a:t>, 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ino de presentarnos, una vez más, el retrato de un Dios que es bondad y misericordia. Sobresale el valor de la justicia –se paga el salario acordado- y el de la generosidad –se da más de lo esperado-. ¿Están presentes esos valores en mi vida y en mi relación con l@s demás?</a:t>
            </a:r>
            <a:br>
              <a:rPr sz="1800"/>
            </a:b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No es una invitación a "llegar tarde" o a trabajar menos, sino a evitar la tentación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de proyectar sobre Dios nuestros cálculos y nuestras medidas. </a:t>
            </a:r>
            <a:br>
              <a:rPr sz="1800"/>
            </a:b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os caminos y los planes de Dios son distintos de los nuestros y siempre sorprendentes (Primera lectur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nterrogació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304920"/>
            <a:ext cx="739116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eorgia"/>
              </a:rPr>
              <a:t>¿O es que tienes envidia porque yo soy bueno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668760"/>
            <a:ext cx="9144000" cy="33858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 bondad de Dios desborda  la justicia.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ios es bondad,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ura gratuidad, pura gracia más allá de todo interés, de toda ley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No actúa según nuestros méritos, ni nuestra lógica, sino según su bondad.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Jesús, y el ejemplo que nos da con su propia vida, nos enseña e invita a vivir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 con un corazón generoso y bondadoso en nuestra relación con l@s demás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¿Tiendo a poner barreras a la generosidad y bondad de Dios?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¿Agradezco la bondad de Dios y la contagio?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¿Soy propens@ a los celos y a la envidia?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¿Pienso que merezco más premio y recompensa que l@s demás?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¿Alabo y valoro las acciones y cualidades de las personas?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ontra todas las apariencias, sólo la bondad y la gratuidad pueden mover al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sta%20atletism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609480"/>
            <a:ext cx="7925040" cy="8254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00"/>
                </a:solidFill>
                <a:latin typeface="Georgia"/>
              </a:rPr>
              <a:t>16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Así los últimos serán primeros, y los primeros, últi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68760"/>
            <a:ext cx="9144000" cy="2288520"/>
          </a:xfrm>
          <a:prstGeom prst="rect">
            <a:avLst/>
          </a:pr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os últimos y los primeros” nos puede dar una pista de la diferencia entre nuestras maneras de juzgar y valorar y la manera de juzgar y valorar de Dios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s el cambio radical de situación que trae consigo la llegada del Rei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que propone un nuevo modelo y sistema de relación y convivencia humana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basado, no en el rendimiento y la correspondiente compensación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sino en la gratuidad, la bondad y el am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¿Quiénes son l@s últim@s en nuestra sociedad, en nuestro entorno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 la Iglesia? ¿Qué hago para que sean l@s primer@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uva%20racimos%20100_157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762120" y="228600"/>
            <a:ext cx="2019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80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 tu maner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80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838080"/>
            <a:ext cx="8991720" cy="582372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aliste, Señor, en la madrugada de la historia a buscar obreros para tu viñ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dejaste la plaza vacía –sin paro-, ofreciendo a todos trabajo y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-salario, dignidad y justicia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aliste a media mañana, saliste a mediodía y a primera hora de la tarde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olviste a recorrerla ent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aliste, por fin, cuando el sol declinaba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a los que nadie había contratado te los llevaste a tu viña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que se te revolvieron las entrañas viendo tanto trabajo en tu hacienda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iendo a  tantos parados que querían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-salario, dignidad y justicia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estaban condenados todo el día a no hacer 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l anochecer cumpliste tu palabra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todos diste salario digno y jus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gún el corazón y las necesidades te dictab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ienes menos se lo esperaban fueron los primeros en ver sus manos llenas;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aunque algunos murmuraron, no cambiaste tu política evangél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ñor, sé, como siempre, justo y generoso, compasivo y rico en misericord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emigo de prejuicios y clases, y espléndido en tus d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Gracias por darme trabajo y vida, dignidad y justicia a tu manera... no a la m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ataneo BT"/>
              </a:rPr>
              <a:t>                                                                                                </a:t>
            </a:r>
            <a:r>
              <a:rPr b="0" lang="es-ES" sz="1600" spc="-1" strike="noStrike">
                <a:solidFill>
                  <a:srgbClr val="ffff00"/>
                </a:solidFill>
                <a:latin typeface="Cataneo BT"/>
              </a:rPr>
              <a:t>Ulibarri F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6:41:12Z</dcterms:created>
  <dc:creator>Asun Gutiérrez</dc:creator>
  <dc:description/>
  <dc:language>en-US</dc:language>
  <cp:lastModifiedBy> </cp:lastModifiedBy>
  <dcterms:modified xsi:type="dcterms:W3CDTF">2011-09-11T16:02:14Z</dcterms:modified>
  <cp:revision>65</cp:revision>
  <dc:subject>jeasam@gmail.com</dc:subject>
  <dc:title>25 Tiempo Ordinario -A-</dc:title>
</cp:coreProperties>
</file>