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2433-2E76-4E25-80C8-F92B8AECD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592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8CD7-DF60-4AEE-98EB-49C9EA10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4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B948-ED94-426B-B895-6090E8689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88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88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4B99-9AD1-4853-A37C-335261411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3E98-51B4-487B-B728-30F5797E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BBCE-B31C-4C10-8BF1-1A955894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ECF3-9746-4656-90EE-3275E98C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E4F2-F3A7-41FD-B2B3-9F9AF3B3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FF66-EB3B-4EDD-8C74-BAF59B3A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089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581A-B6BC-46AC-8431-43AB7E0E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9134-D0D8-46D5-AC8B-BF96DF4D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429E-0C22-46AF-AE77-49C485F4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4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5527-30CC-47F2-80CD-D0F0871D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A825-A0AA-4C1A-BCE5-A77D44FB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592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2B42-16D1-4EE4-8D02-E3EDEA00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4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4EE0-90A5-485C-B630-A7709FFF5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88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88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2E4F-CCB3-4EB2-85FE-90939EDB3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7E57-03EE-46DA-BAE1-7E4CCB5C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B033-702D-4008-BAC6-C48F1E3E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B487-48CB-4F6D-8AA1-840ADCD9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089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7F7D-B7EA-45A7-BAE5-9C8430BD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D0B2-7F94-4537-83B3-DC86BDA3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4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315E-02AF-407E-B04F-D7FDA6BA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9C40-C40B-46A1-BE41-755065AE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c8"/>
            </a:gs>
            <a:gs pos="50000">
              <a:srgbClr val="0099ff"/>
            </a:gs>
            <a:gs pos="100000">
              <a:srgbClr val="0064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245280"/>
            <a:ext cx="22842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2845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1D4447-40E7-4CBA-89F5-65CF5936656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c8"/>
            </a:gs>
            <a:gs pos="50000">
              <a:srgbClr val="0099ff"/>
            </a:gs>
            <a:gs pos="100000">
              <a:srgbClr val="0064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09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560" y="6245280"/>
            <a:ext cx="22842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2845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1EAFA-8E9F-4E98-8907-D7238A1E6EC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c8"/>
            </a:gs>
            <a:gs pos="50000">
              <a:srgbClr val="0099ff"/>
            </a:gs>
            <a:gs pos="100000">
              <a:srgbClr val="0064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11280" y="692280"/>
            <a:ext cx="78483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doni MT Black"/>
                <a:ea typeface="Arial"/>
              </a:rPr>
              <a:t>Una bonita historia de las que terminan  con un final muy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Bodoni MT Black"/>
                <a:ea typeface="Arial"/>
              </a:rPr>
              <a:t>            interesante..</a:t>
            </a:r>
            <a:r>
              <a:rPr b="0" lang="en-GB" sz="3600" spc="-1" strike="noStrike">
                <a:solidFill>
                  <a:srgbClr val="ffcc00"/>
                </a:solidFill>
                <a:latin typeface="Bodoni MT Black"/>
                <a:ea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cc00"/>
                </a:solidFill>
                <a:latin typeface="Bodoni MT Black"/>
                <a:ea typeface="Arial"/>
              </a:rPr>
              <a:t>PERO NO LEAS EL FINAL HASTA QUE ACABES!!!</a:t>
            </a:r>
            <a:r>
              <a:rPr b="0" lang="en-GB" sz="1800" spc="-1" strike="noStrike">
                <a:solidFill>
                  <a:srgbClr val="ff603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c8"/>
            </a:gs>
            <a:gs pos="50000">
              <a:srgbClr val="0099ff"/>
            </a:gs>
            <a:gs pos="100000">
              <a:srgbClr val="0064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33526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Todos supieron al instante que la hechicera había dicho una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Gran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verdad y que el joven rey Arturo estaría a salvo. Y así fue: al oír la respuesta, el monarca vecino le devolvió la libertad.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533520"/>
            <a:ext cx="792468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Arial"/>
              </a:rPr>
              <a:t>Se anunció la boda y la vieja bruja, con su sabiduría infernal,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Arial"/>
              </a:rPr>
              <a:t>dijo: Lo que realmente quiere la mujer es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Arial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Bodoni MT Black"/>
                <a:ea typeface="Arial"/>
              </a:rPr>
              <a:t>"Ser la soberana de su propia</a:t>
            </a:r>
            <a:r>
              <a:rPr b="0" lang="en-GB" sz="3200" spc="-1" strike="noStrike">
                <a:solidFill>
                  <a:srgbClr val="ffff00"/>
                </a:solidFill>
                <a:latin typeface="Bodoni MT Black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Bodoni MT Black"/>
                <a:ea typeface="Arial"/>
              </a:rPr>
              <a:t>vida".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c8"/>
            </a:gs>
            <a:gs pos="50000">
              <a:srgbClr val="0099ff"/>
            </a:gs>
            <a:gs pos="100000">
              <a:srgbClr val="0064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14400" y="457200"/>
            <a:ext cx="792468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Arial"/>
              </a:rPr>
              <a:t>Pero menuda boda fue aquella... asistió la corte en pleno y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Arial"/>
              </a:rPr>
              <a:t>nadie se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Arial"/>
              </a:rPr>
              <a:t>sintió mas desgarrado entre el alivio y la angustia, que el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Arial"/>
              </a:rPr>
              <a:t>propio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Arial"/>
              </a:rPr>
              <a:t>Arturo.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9718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Gawain se mostró cortés, gentil y respetuoso.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90720" y="4114800"/>
            <a:ext cx="761976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Bodoni MT Black"/>
                <a:ea typeface="Arial"/>
              </a:rPr>
              <a:t>La bruja, se comportó fatal, comiendo directamente del plato</a:t>
            </a:r>
            <a:r>
              <a:rPr b="0" lang="en-GB" sz="3200" spc="-1" strike="noStrike">
                <a:solidFill>
                  <a:srgbClr val="ffff00"/>
                </a:solidFill>
                <a:latin typeface="Bodoni MT Black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Bodoni MT Black"/>
                <a:ea typeface="Arial"/>
              </a:rPr>
              <a:t>sin usarlos cubiertos, emitió ruidos y olores espantosos.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c8"/>
            </a:gs>
            <a:gs pos="50000">
              <a:srgbClr val="0099ff"/>
            </a:gs>
            <a:gs pos="100000">
              <a:srgbClr val="0064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71640" y="333360"/>
            <a:ext cx="792468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Arial"/>
              </a:rPr>
              <a:t>Llegó la noche de bodas. Cuando Gawain, ya preparado para ir al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Arial"/>
              </a:rPr>
              <a:t>lecho nupcial, aguardaba a que su esposa se reuniera con él.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357336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Ella apareció con el aspecto de la doncella más hermosa que unhombre desearía ver...Gawain quedó estupefacto y le preguntó qué había sucedido.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c8"/>
            </a:gs>
            <a:gs pos="50000">
              <a:srgbClr val="0099ff"/>
            </a:gs>
            <a:gs pos="100000">
              <a:srgbClr val="0064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16000" y="189000"/>
            <a:ext cx="784872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Arial"/>
              </a:rPr>
              <a:t>La joven respondió que como había sido cortés con ella, la mitad del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Arial"/>
              </a:rPr>
              <a:t>tiempo se presentaría con su aspecto horrible y la otra mitad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Arial"/>
              </a:rPr>
              <a:t>con su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Arial"/>
              </a:rPr>
              <a:t>aspecto atract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¿Cuál prefería para el día y cuál para la noch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Bodoni MT Black"/>
                <a:ea typeface="Arial"/>
              </a:rPr>
              <a:t>¡Qué pregunta cruel...! Gawain se apresuro a hacer cálculos...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c8"/>
            </a:gs>
            <a:gs pos="50000">
              <a:srgbClr val="0099ff"/>
            </a:gs>
            <a:gs pos="100000">
              <a:srgbClr val="0064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47600" y="304920"/>
            <a:ext cx="786780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Bodoni MT Black"/>
                <a:ea typeface="Arial"/>
              </a:rPr>
              <a:t>¿Quería tener durante el día a una joven adorable para</a:t>
            </a:r>
            <a:r>
              <a:rPr b="0" lang="en-GB" sz="2800" spc="-1" strike="noStrike">
                <a:solidFill>
                  <a:srgbClr val="ffcc00"/>
                </a:solidFill>
                <a:latin typeface="Bodoni MT Black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cc00"/>
                </a:solidFill>
                <a:latin typeface="Bodoni MT Black"/>
                <a:ea typeface="Arial"/>
              </a:rPr>
              <a:t>exhibirla</a:t>
            </a:r>
            <a:r>
              <a:rPr b="0" lang="en-GB" sz="2800" spc="-1" strike="noStrike">
                <a:solidFill>
                  <a:srgbClr val="ffcc00"/>
                </a:solidFill>
                <a:latin typeface="Bodoni MT Black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cc00"/>
                </a:solidFill>
                <a:latin typeface="Bodoni MT Black"/>
                <a:ea typeface="Arial"/>
              </a:rPr>
              <a:t>ante sus amigos y por las noches en la privacidad de su alcoba</a:t>
            </a:r>
            <a:r>
              <a:rPr b="0" lang="en-GB" sz="2800" spc="-1" strike="noStrike">
                <a:solidFill>
                  <a:srgbClr val="ffcc00"/>
                </a:solidFill>
                <a:latin typeface="Bodoni MT Black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cc00"/>
                </a:solidFill>
                <a:latin typeface="Bodoni MT Black"/>
                <a:ea typeface="Arial"/>
              </a:rPr>
              <a:t>a una</a:t>
            </a:r>
            <a:r>
              <a:rPr b="0" lang="en-GB" sz="2800" spc="-1" strike="noStrike">
                <a:solidFill>
                  <a:srgbClr val="ffcc00"/>
                </a:solidFill>
                <a:latin typeface="Bodoni MT Black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cc00"/>
                </a:solidFill>
                <a:latin typeface="Bodoni MT Black"/>
                <a:ea typeface="Arial"/>
              </a:rPr>
              <a:t>bruja espantosa? ¿O prefería tener de día a una bruja y a una</a:t>
            </a:r>
            <a:r>
              <a:rPr b="0" lang="en-GB" sz="2800" spc="-1" strike="noStrike">
                <a:solidFill>
                  <a:srgbClr val="ffcc00"/>
                </a:solidFill>
                <a:latin typeface="Bodoni MT Black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cc00"/>
                </a:solidFill>
                <a:latin typeface="Bodoni MT Black"/>
                <a:ea typeface="Arial"/>
              </a:rPr>
              <a:t>joven</a:t>
            </a:r>
            <a:r>
              <a:rPr b="0" lang="en-GB" sz="2800" spc="-1" strike="noStrike">
                <a:solidFill>
                  <a:srgbClr val="ffcc00"/>
                </a:solidFill>
                <a:latin typeface="Bodoni MT Black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cc00"/>
                </a:solidFill>
                <a:latin typeface="Bodoni MT Black"/>
                <a:ea typeface="Arial"/>
              </a:rPr>
              <a:t>hermosa en los momentos íntimos de su vida conyugal...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Bodoni MT Black"/>
                <a:ea typeface="Arial"/>
              </a:rPr>
              <a:t>¿Usted qué hubiera preferido... qué hubiera elegi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doni MT Black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Bodoni MT Black"/>
                <a:ea typeface="Arial"/>
              </a:rPr>
              <a:t>La elección que hizo Gawain está más adelante, pero antes de</a:t>
            </a:r>
            <a:r>
              <a:rPr b="0" lang="en-GB" sz="2800" spc="-1" strike="noStrike">
                <a:solidFill>
                  <a:srgbClr val="ffff00"/>
                </a:solidFill>
                <a:latin typeface="Bodoni MT Black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Bodoni MT Black"/>
                <a:ea typeface="Arial"/>
              </a:rPr>
              <a:t>leerla</a:t>
            </a:r>
            <a:r>
              <a:rPr b="0" lang="en-GB" sz="2800" spc="-1" strike="noStrike">
                <a:solidFill>
                  <a:srgbClr val="ffff00"/>
                </a:solidFill>
                <a:latin typeface="Bodoni MT Black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Bodoni MT Black"/>
                <a:ea typeface="Arial"/>
              </a:rPr>
              <a:t>tome su decisión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c8"/>
            </a:gs>
            <a:gs pos="50000">
              <a:srgbClr val="0099ff"/>
            </a:gs>
            <a:gs pos="100000">
              <a:srgbClr val="0064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4360" y="549360"/>
            <a:ext cx="79246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El noble Gawain replicó que la dejaría elegir por sí mis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Bodoni MT Black"/>
                <a:ea typeface="Arial"/>
              </a:rPr>
              <a:t>Al oír esto, ella le anunció que sería una hermosa dama de día</a:t>
            </a:r>
            <a:r>
              <a:rPr b="0" lang="en-GB" sz="3200" spc="-1" strike="noStrike">
                <a:solidFill>
                  <a:srgbClr val="ffff00"/>
                </a:solidFill>
                <a:latin typeface="Bodoni MT Black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Bodoni MT Black"/>
                <a:ea typeface="Arial"/>
              </a:rPr>
              <a:t>y</a:t>
            </a:r>
            <a:r>
              <a:rPr b="0" lang="en-GB" sz="3200" spc="-1" strike="noStrike">
                <a:solidFill>
                  <a:srgbClr val="ffff00"/>
                </a:solidFill>
                <a:latin typeface="Bodoni MT Black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Bodoni MT Black"/>
                <a:ea typeface="Arial"/>
              </a:rPr>
              <a:t>de noche, porque el la había respetado y le había permitido ser</a:t>
            </a:r>
            <a:r>
              <a:rPr b="0" lang="en-GB" sz="3200" spc="-1" strike="noStrike">
                <a:solidFill>
                  <a:srgbClr val="ffff00"/>
                </a:solidFill>
                <a:latin typeface="Bodoni MT Black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Bodoni MT Black"/>
                <a:ea typeface="Arial"/>
              </a:rPr>
              <a:t>dueña de su vida.</a:t>
            </a:r>
            <a:r>
              <a:rPr b="0" lang="en-GB" sz="2400" spc="-1" strike="noStrike">
                <a:solidFill>
                  <a:srgbClr val="ffff00"/>
                </a:solidFill>
                <a:latin typeface="Bodoni MT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4653000"/>
            <a:ext cx="79246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Bodoni MT Black"/>
                <a:ea typeface="Arial"/>
              </a:rPr>
              <a:t>¿Cuál es la Moraleja?</a:t>
            </a:r>
            <a:r>
              <a:rPr b="0" lang="en-GB" sz="3200" spc="-1" strike="noStrike">
                <a:solidFill>
                  <a:srgbClr val="b7e7ff"/>
                </a:solidFill>
                <a:latin typeface="Bodoni MT Black"/>
                <a:ea typeface="Arial"/>
              </a:rPr>
              <a:t> La Moraleja esta más adelante, pero antes de</a:t>
            </a:r>
            <a:r>
              <a:rPr b="0" lang="en-GB" sz="3200" spc="-1" strike="noStrike">
                <a:solidFill>
                  <a:srgbClr val="b7e7ff"/>
                </a:solidFill>
                <a:latin typeface="Bodoni MT Black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b7e7ff"/>
                </a:solidFill>
                <a:latin typeface="Bodoni MT Black"/>
                <a:ea typeface="Arial"/>
              </a:rPr>
              <a:t>leerla piensa en ello....</a:t>
            </a:r>
            <a:r>
              <a:rPr b="0" lang="en-GB" sz="1600" spc="-1" strike="noStrike">
                <a:solidFill>
                  <a:srgbClr val="b7e7ff"/>
                </a:solidFill>
                <a:latin typeface="Bodoni MT Black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c8"/>
            </a:gs>
            <a:gs pos="50000">
              <a:srgbClr val="0099ff"/>
            </a:gs>
            <a:gs pos="100000">
              <a:srgbClr val="0064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11280" y="62064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Bodoni MT Black"/>
                <a:ea typeface="Arial"/>
              </a:rPr>
              <a:t>LA MORALEJA ES QUE NO IMPORTA SI LA MUJER ES BONITA O FEA,</a:t>
            </a:r>
            <a:r>
              <a:rPr b="0" lang="en-GB" sz="4000" spc="-1" strike="noStrike">
                <a:solidFill>
                  <a:srgbClr val="ffcc00"/>
                </a:solidFill>
                <a:latin typeface="Bodoni MT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28880" y="3774960"/>
            <a:ext cx="7034040" cy="18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Bodoni MT Black"/>
                <a:ea typeface="Arial"/>
              </a:rPr>
              <a:t>........EN EL FONDO SIEMPRE SERÁ UNA BRUJA.......</a:t>
            </a:r>
            <a:r>
              <a:rPr b="0" lang="en-GB" sz="4400" spc="-1" strike="noStrike">
                <a:solidFill>
                  <a:srgbClr val="ffffff"/>
                </a:solidFill>
                <a:latin typeface="Bodoni MT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c8"/>
            </a:gs>
            <a:gs pos="50000">
              <a:srgbClr val="0099ff"/>
            </a:gs>
            <a:gs pos="100000">
              <a:srgbClr val="0064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484360" y="692280"/>
            <a:ext cx="48243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458200" cy="6400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44520" y="1870200"/>
            <a:ext cx="7299360" cy="32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5400" spc="-1" strike="noStrike">
                <a:solidFill>
                  <a:srgbClr val="b7e7ff"/>
                </a:solidFill>
                <a:latin typeface="Bodoni MT Black"/>
                <a:ea typeface="Arial"/>
              </a:rPr>
              <a:t>¡Brujas!!!,</a:t>
            </a:r>
            <a:br>
              <a:rPr sz="5400"/>
            </a:br>
            <a:br>
              <a:rPr sz="5400"/>
            </a:br>
            <a:r>
              <a:rPr b="0" lang="en-GB" sz="5400" spc="-1" strike="noStrike">
                <a:solidFill>
                  <a:srgbClr val="b7e7ff"/>
                </a:solidFill>
                <a:latin typeface="Bodoni MT Black"/>
                <a:ea typeface="Arial"/>
              </a:rPr>
              <a:t> ¡Que son </a:t>
            </a:r>
            <a:br>
              <a:rPr sz="5400"/>
            </a:br>
            <a:r>
              <a:rPr b="0" lang="en-GB" sz="5400" spc="-1" strike="noStrike">
                <a:solidFill>
                  <a:srgbClr val="b7e7ff"/>
                </a:solidFill>
                <a:latin typeface="Bodoni MT Black"/>
                <a:ea typeface="Arial"/>
              </a:rPr>
              <a:t>todas unas </a:t>
            </a:r>
            <a:r>
              <a:rPr b="0" lang="en-GB" sz="6000" spc="-1" strike="noStrike">
                <a:solidFill>
                  <a:srgbClr val="b7e7ff"/>
                </a:solidFill>
                <a:latin typeface="Bodoni MT Black"/>
                <a:ea typeface="Arial"/>
              </a:rPr>
              <a:t>BRUJAS!!!</a:t>
            </a:r>
            <a:r>
              <a:rPr b="0" lang="en-GB" sz="3600" spc="-1" strike="noStrike">
                <a:solidFill>
                  <a:srgbClr val="ffcc00"/>
                </a:solidFill>
                <a:latin typeface="Bodoni MT Blac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dur="indefinite" fill="hold">
                      <p:stCondLst>
                        <p:cond delay="indefinite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2" name="chime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c8"/>
            </a:gs>
            <a:gs pos="50000">
              <a:srgbClr val="0099ff"/>
            </a:gs>
            <a:gs pos="100000">
              <a:srgbClr val="0064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685800"/>
            <a:ext cx="7543800" cy="59436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comic"/>
              </a:rPr>
              <a:t>Te ha gustad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comic"/>
              </a:rPr>
              <a:t>No lo guardes!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comic"/>
              </a:rPr>
              <a:t>Reenvíalo a todos tus amig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comic"/>
              </a:rPr>
              <a:t> </a:t>
            </a:r>
            <a:r>
              <a:rPr b="1" lang="en-GB" sz="2400" spc="-1" strike="noStrike">
                <a:solidFill>
                  <a:srgbClr val="4d4d4d"/>
                </a:solidFill>
                <a:latin typeface="comic"/>
              </a:rPr>
              <a:t>o una o ot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comic"/>
              </a:rPr>
              <a:t>bru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comic"/>
              </a:rPr>
              <a:t>Ya veraz que te sentirás mej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c8"/>
            </a:gs>
            <a:gs pos="50000">
              <a:srgbClr val="0099ff"/>
            </a:gs>
            <a:gs pos="100000">
              <a:srgbClr val="0064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11280" y="1567800"/>
            <a:ext cx="82296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Bodoni MT Black"/>
                <a:ea typeface="Arial"/>
              </a:rPr>
              <a:t>El joven rey Arturo fue sorprendido y apresado por el monarca del</a:t>
            </a:r>
            <a:r>
              <a:rPr b="0" lang="en-GB" sz="4400" spc="-1" strike="noStrike">
                <a:solidFill>
                  <a:srgbClr val="ffcc00"/>
                </a:solidFill>
                <a:latin typeface="Bodoni MT Black"/>
                <a:ea typeface="Times New Roman"/>
              </a:rPr>
              <a:t> </a:t>
            </a:r>
            <a:r>
              <a:rPr b="0" lang="en-GB" sz="4400" spc="-1" strike="noStrike">
                <a:solidFill>
                  <a:srgbClr val="ffcc00"/>
                </a:solidFill>
                <a:latin typeface="Bodoni MT Black"/>
                <a:ea typeface="Arial"/>
              </a:rPr>
              <a:t>reino vecino mientras cazaba furtivamente en sus bosqu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c8"/>
            </a:gs>
            <a:gs pos="50000">
              <a:srgbClr val="0099ff"/>
            </a:gs>
            <a:gs pos="100000">
              <a:srgbClr val="0064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533520"/>
            <a:ext cx="8001000" cy="49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Bodoni MT Black"/>
                <a:ea typeface="Arial"/>
              </a:rPr>
              <a:t>El rey pudo haberlo matado en el acto, pues tal era el castigo</a:t>
            </a:r>
            <a:br>
              <a:rPr sz="3600"/>
            </a:br>
            <a:r>
              <a:rPr b="0" lang="en-GB" sz="3600" spc="-1" strike="noStrike">
                <a:solidFill>
                  <a:srgbClr val="ffcc00"/>
                </a:solidFill>
                <a:latin typeface="Bodoni MT Black"/>
                <a:ea typeface="Arial"/>
              </a:rPr>
              <a:t>para</a:t>
            </a:r>
            <a:r>
              <a:rPr b="0" lang="en-GB" sz="3600" spc="-1" strike="noStrike">
                <a:solidFill>
                  <a:srgbClr val="ffcc00"/>
                </a:solidFill>
                <a:latin typeface="Bodoni MT Black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cc00"/>
                </a:solidFill>
                <a:latin typeface="Bodoni MT Black"/>
                <a:ea typeface="Arial"/>
              </a:rPr>
              <a:t>quienes violaban las leyes de la propiedad,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Pero se conmovió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ante la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juventud y la simpatía de Arturo y le ofreció la libertad,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siempre y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cuando en el plazo de un año hallara la respuesta a una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pregunta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difíc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c8"/>
            </a:gs>
            <a:gs pos="50000">
              <a:srgbClr val="0099ff"/>
            </a:gs>
            <a:gs pos="100000">
              <a:srgbClr val="0064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295280" y="3352680"/>
            <a:ext cx="64008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doni MT Black"/>
                <a:ea typeface="Arial"/>
              </a:rPr>
              <a:t>Semejante pregunta dejaría perplejo hasta al hombre más sabio y al joven Arturo le pareció imposible contestarla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990720"/>
            <a:ext cx="791856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Bodoni MT Black"/>
                <a:ea typeface="Arial"/>
              </a:rPr>
              <a:t>La pregunta era: 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Bodoni MT Black"/>
                <a:ea typeface="Arial"/>
              </a:rPr>
              <a:t>¿Qué quiere realmente la muj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c8"/>
            </a:gs>
            <a:gs pos="50000">
              <a:srgbClr val="0099ff"/>
            </a:gs>
            <a:gs pos="100000">
              <a:srgbClr val="0064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52480" y="457200"/>
            <a:ext cx="61722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1720" indent="-531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Arial"/>
              </a:rPr>
              <a:t>Con todo, aquello era mejor que morir ahorcado, de modo que regresó a su reino y empezó a interrogar a la gente.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A la princesa, a la reina, las prostitutas, a los monjes, a los sabios y al bufón de la corte... En suma, a todos, pero nadie le pudo dar una respuesta convincente.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c8"/>
            </a:gs>
            <a:gs pos="50000">
              <a:srgbClr val="0099ff"/>
            </a:gs>
            <a:gs pos="100000">
              <a:srgbClr val="0064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43160" y="914400"/>
            <a:ext cx="6886440" cy="46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Arial"/>
              </a:rPr>
              <a:t>   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Arial"/>
              </a:rPr>
              <a:t>¡Eso si!, todos le aconsejaron que consultara a la vieja bruja, pues solo ella sabría la respuesta.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El precio sería alto, ya que la vieja bruja era famosa en todo el reino por el precio exorbitante que cobraba por sus servicio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c8"/>
            </a:gs>
            <a:gs pos="50000">
              <a:srgbClr val="0099ff"/>
            </a:gs>
            <a:gs pos="100000">
              <a:srgbClr val="0064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042920" y="134136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   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Arial"/>
              </a:rPr>
              <a:t>Llegó el último día del año convenido y Arturo no tuvo más remedio que consultar a la hechicera.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Ella accedió a darle una respuesta satisfactoria, a condición de que primero aceptara el preci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c8"/>
            </a:gs>
            <a:gs pos="50000">
              <a:srgbClr val="0099ff"/>
            </a:gs>
            <a:gs pos="100000">
              <a:srgbClr val="0064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26920" y="3429000"/>
            <a:ext cx="7772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El joven Arturo la miró horrorizado: era jorobada y feísima, tenía un solo diente, despedía un hedor que daba náuseas, hacía ruidos obscenos.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765000"/>
            <a:ext cx="815328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Arial"/>
              </a:rPr>
              <a:t>Ella quería casarse con Gawain, el caballero más noble de la Mesa Redonda y</a:t>
            </a: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Times New Roman"/>
              </a:rPr>
              <a:t> el más íntimo amigo de Arturo.</a:t>
            </a:r>
            <a:r>
              <a:rPr b="0" lang="en-GB" sz="3200" spc="-1" strike="noStrike">
                <a:solidFill>
                  <a:srgbClr val="006600"/>
                </a:solidFill>
                <a:latin typeface="Bodoni MT Black"/>
                <a:ea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c8"/>
            </a:gs>
            <a:gs pos="50000">
              <a:srgbClr val="0099ff"/>
            </a:gs>
            <a:gs pos="100000">
              <a:srgbClr val="0064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55640" y="228600"/>
            <a:ext cx="799308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Arial"/>
              </a:rPr>
              <a:t>Nunca se había topado con una criatura tan repugnante. Se</a:t>
            </a:r>
            <a:br>
              <a:rPr sz="3200"/>
            </a:br>
            <a:r>
              <a:rPr b="0" lang="en-GB" sz="3200" spc="-1" strike="noStrike">
                <a:solidFill>
                  <a:srgbClr val="ffcc00"/>
                </a:solidFill>
                <a:latin typeface="Bodoni MT Black"/>
                <a:ea typeface="Arial"/>
              </a:rPr>
              <a:t> acobardó ante la perspectiva de pedirle a su amigo de toda la vida queasumiera por él esa carga terrible.</a:t>
            </a:r>
            <a:r>
              <a:rPr b="0" lang="en-GB" sz="3200" spc="-1" strike="noStrike">
                <a:solidFill>
                  <a:srgbClr val="006600"/>
                </a:solidFill>
                <a:latin typeface="Bodoni MT Black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581280"/>
            <a:ext cx="82296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No obstante, al enterarse del pac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 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propuesto, Gawain afirmó que no era un sacrificio excesivo a cambio de 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 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  <a:ea typeface="Arial"/>
              </a:rPr>
              <a:t>vida de su compañero y la preservación de la Mesa Redonda.</a:t>
            </a:r>
            <a:r>
              <a:rPr b="0" lang="en-GB" sz="3200" spc="-1" strike="noStrike">
                <a:solidFill>
                  <a:srgbClr val="ffffff"/>
                </a:solidFill>
                <a:latin typeface="Bodoni MT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ODWIN EMERSON ALARCON MANRIQUE</dc:creator>
  <dc:description/>
  <dc:language>en-US</dc:language>
  <cp:lastModifiedBy>GODWIN EMERSON ALARCON MANRIQUE</cp:lastModifiedBy>
  <cp:revision>0</cp:revision>
  <dc:subject/>
  <dc:title>Diapositiva 1</dc:title>
</cp:coreProperties>
</file>