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A3D-76BB-4D3D-A421-48F88B1F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A41-D77D-4F21-B77C-330E017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9B0-F01B-4464-875B-8E7B7C78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75B-9D90-4187-BFF9-F210A8A4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0E3-57BD-4FE6-A2C3-12D286A7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AC2-224B-4B22-A3B2-23DB893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DB5-950C-443C-85A2-BF19CFC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336A-6E5A-4181-8E55-EFFA4D26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1377-CE95-43E5-9FEE-F53EC759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CC41-4BF1-4293-A281-11BE2999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F01A-65B3-424D-870D-C61261F0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B3B-E950-4078-8154-18417556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0678-260C-472B-BA50-3E1D810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BF30-4F57-43D6-BC3D-E2C6D09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67A-F84A-4332-94FC-A62243CA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5600-BC4D-4D69-89BE-6AC3FE0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0601-C160-4AF9-B8F1-ECF3944A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D80-95A8-42A3-BCDB-2725BFEB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A59-AEBF-4A8C-8C7D-C4AC014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8AF-A0B1-49DE-B35D-E43C3AD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319-F951-49DA-BF70-28A2C09E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8A0-8FA6-4171-9BF4-EDE40C0C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160-220B-4130-8047-4D1FE03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B10-09E2-428C-BE9B-286BBF7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98418-BAA3-4A04-B2D6-693E70AA870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5DDDA-F622-432F-B7B5-46E61EA5DE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692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doni MT Black"/>
                <a:ea typeface="Arial"/>
              </a:rPr>
              <a:t>Una bonita historia de las que terminan  con un final muy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Bodoni MT Black"/>
                <a:ea typeface="Arial"/>
              </a:rPr>
              <a:t>            interesante..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PERO NO LEAS EL FINAL HASTA QUE ACABES!!!</a:t>
            </a:r>
            <a:r>
              <a:rPr b="0" lang="en-GB" sz="1800" spc="-1" strike="noStrike">
                <a:solidFill>
                  <a:srgbClr val="ff603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Todos supieron al instante que la hechicera había dicho un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Gran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verdad y que el joven rey Arturo estaría a salvo. Y así fue: al oír la respuesta, el monarca vecino le devolvió la libertad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33520"/>
            <a:ext cx="79246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Se anunció la boda y la vieja bruja, con su sabiduría infernal,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dijo: Lo que realmente quiere la mujer es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"Ser la soberana de su propia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vida"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457200"/>
            <a:ext cx="79246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Pero menuda boda fue aquella... asistió la corte en pleno y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nadie se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sintió mas desgarrado entre el alivio y la angustia, que el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propio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Arturo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9718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Gawain se mostró cortés, gentil y respetuoso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114800"/>
            <a:ext cx="76197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La bruja, se comportó fatal, comiendo directamente del plato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sin usarlos cubiertos, emitió ruidos y olores espantosos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33360"/>
            <a:ext cx="79246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legó la noche de bodas. Cuando Gawain, ya preparado para ir al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echo nupcial, aguardaba a que su esposa se reuniera con él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7336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la apareció con el aspecto de la doncella más hermosa que unhombre desearía ver...Gawain quedó estupefacto y le preguntó qué había sucedido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189000"/>
            <a:ext cx="78487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a joven respondió que como había sido cortés con ella, la mitad del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tiempo se presentaría con su aspecto horrible y la otra mitad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con su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aspecto atrac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¿Cuál prefería para el día y cuál para la noc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¡Qué pregunta cruel...! Gawain se apresuro a hacer cálculos..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7600" y="304920"/>
            <a:ext cx="7867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¿Quería tener durante el día a una joven adorable par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exhibirl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ante sus amigos y por las noches en la privacidad de su alcob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a un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bruja espantosa? ¿O prefería tener de día a una bruja y a un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joven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hermosa en los momentos íntimos de su vida conyugal..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Bodoni MT Black"/>
                <a:ea typeface="Arial"/>
              </a:rPr>
              <a:t>¿Usted qué hubiera preferido... qué hubiera elegi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Arial"/>
              </a:rPr>
              <a:t>La elección que hizo Gawain está más adelante, pero antes de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Arial"/>
              </a:rPr>
              <a:t>leerla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Arial"/>
              </a:rPr>
              <a:t>tome su decisió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549360"/>
            <a:ext cx="7924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 noble Gawain replicó que la dejaría elegir por sí mi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Al oír esto, ella le anunció que sería una hermosa dama de día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y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de noche, porque el la había respetado y le había permitido ser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dueña de su vida.</a:t>
            </a:r>
            <a:r>
              <a:rPr b="0" lang="en-GB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65300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Bodoni MT Black"/>
                <a:ea typeface="Arial"/>
              </a:rPr>
              <a:t>¿Cuál es la Moraleja?</a:t>
            </a:r>
            <a:r>
              <a:rPr b="0" lang="en-GB" sz="3200" spc="-1" strike="noStrike">
                <a:solidFill>
                  <a:srgbClr val="b7e7ff"/>
                </a:solidFill>
                <a:latin typeface="Bodoni MT Black"/>
                <a:ea typeface="Arial"/>
              </a:rPr>
              <a:t> La Moraleja esta más adelante, pero antes de</a:t>
            </a:r>
            <a:r>
              <a:rPr b="0" lang="en-GB" sz="3200" spc="-1" strike="noStrike">
                <a:solidFill>
                  <a:srgbClr val="b7e7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b7e7ff"/>
                </a:solidFill>
                <a:latin typeface="Bodoni MT Black"/>
                <a:ea typeface="Arial"/>
              </a:rPr>
              <a:t>leerla piensa en ello....</a:t>
            </a:r>
            <a:r>
              <a:rPr b="0" lang="en-GB" sz="1600" spc="-1" strike="noStrike">
                <a:solidFill>
                  <a:srgbClr val="b7e7ff"/>
                </a:solidFill>
                <a:latin typeface="Bodoni MT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6206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Bodoni MT Black"/>
                <a:ea typeface="Arial"/>
              </a:rPr>
              <a:t>LA MORALEJA ES QUE NO IMPORTA SI LA MUJER ES BONITA O FEA,</a:t>
            </a:r>
            <a:r>
              <a:rPr b="0" lang="en-GB" sz="40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8880" y="3774960"/>
            <a:ext cx="703404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doni MT Black"/>
                <a:ea typeface="Arial"/>
              </a:rPr>
              <a:t>........EN EL FONDO SIEMPRE SERÁ UNA BRUJA.......</a:t>
            </a:r>
            <a:r>
              <a:rPr b="0" lang="en-GB" sz="44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84360" y="692280"/>
            <a:ext cx="4824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4520" y="1870200"/>
            <a:ext cx="729936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b7e7ff"/>
                </a:solidFill>
                <a:latin typeface="Bodoni MT Black"/>
                <a:ea typeface="Arial"/>
              </a:rPr>
              <a:t>¡Brujas!!!,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b7e7ff"/>
                </a:solidFill>
                <a:latin typeface="Bodoni MT Black"/>
                <a:ea typeface="Arial"/>
              </a:rPr>
              <a:t> ¡Que son </a:t>
            </a:r>
            <a:br>
              <a:rPr sz="5400"/>
            </a:br>
            <a:r>
              <a:rPr b="0" lang="en-GB" sz="5400" spc="-1" strike="noStrike">
                <a:solidFill>
                  <a:srgbClr val="b7e7ff"/>
                </a:solidFill>
                <a:latin typeface="Bodoni MT Black"/>
                <a:ea typeface="Arial"/>
              </a:rPr>
              <a:t>todas unas </a:t>
            </a:r>
            <a:r>
              <a:rPr b="0" lang="en-GB" sz="6000" spc="-1" strike="noStrike">
                <a:solidFill>
                  <a:srgbClr val="b7e7ff"/>
                </a:solidFill>
                <a:latin typeface="Bodoni MT Black"/>
                <a:ea typeface="Arial"/>
              </a:rPr>
              <a:t>BRUJAS!!!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685800"/>
            <a:ext cx="7543800" cy="5943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Te ha gust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No lo guardes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Reenvíalo a todos tu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 </a:t>
            </a: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o una o o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bru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Ya veraz que te sentirás me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15678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Bodoni MT Black"/>
                <a:ea typeface="Arial"/>
              </a:rPr>
              <a:t>El joven rey Arturo fue sorprendido y apresado por el monarca del</a:t>
            </a:r>
            <a:r>
              <a:rPr b="0" lang="en-GB" sz="44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ffcc00"/>
                </a:solidFill>
                <a:latin typeface="Bodoni MT Black"/>
                <a:ea typeface="Arial"/>
              </a:rPr>
              <a:t>reino vecino mientras cazaba furtivamente en sus bosqu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010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El rey pudo haberlo matado en el acto, pues tal era el castigo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para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quienes violaban las leyes de la propiedad,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Pero se conmovió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ante l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juventud y la simpatía de Arturo y le ofreció la libertad,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siempre y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cuando en el plazo de un año hallara la respuesta a un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pregunt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difí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33526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doni MT Black"/>
                <a:ea typeface="Arial"/>
              </a:rPr>
              <a:t>Semejante pregunta dejaría perplejo hasta al hombre más sabio y al joven Arturo le pareció imposible contestarla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90720"/>
            <a:ext cx="7918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La pregunta era: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Bodoni MT Black"/>
                <a:ea typeface="Arial"/>
              </a:rPr>
              <a:t>¿Qué quiere realmente la muj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457200"/>
            <a:ext cx="6172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Con todo, aquello era mejor que morir ahorcado, de modo que regresó a su reino y empezó a interrogar a la gente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A la princesa, a la reina, las prostitutas, a los monjes, a los sabios y al bufón de la corte... En suma, a todos, pero nadie le pudo dar una respuesta convincente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3160" y="914400"/>
            <a:ext cx="688644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¡Eso si!, todos le aconsejaron que consultara a la vieja bruja, pues solo ella sabría la respuesta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 precio sería alto, ya que la vieja bruja era famosa en todo el reino por el precio exorbitante que cobraba por sus servici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34136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legó el último día del año convenido y Arturo no tuvo más remedio que consultar a la hechicera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la accedió a darle una respuesta satisfactoria, a condición de que primero aceptara el prec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 joven Arturo la miró horrorizado: era jorobada y feísima, tenía un solo diente, despedía un hedor que daba náuseas, hacía ruidos obscenos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765000"/>
            <a:ext cx="81532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Ella quería casarse con Gawain, el caballero más noble de la Mesa Redonda y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 el más íntimo amigo de Arturo.</a:t>
            </a:r>
            <a:r>
              <a:rPr b="0" lang="en-GB" sz="3200" spc="-1" strike="noStrike">
                <a:solidFill>
                  <a:srgbClr val="006600"/>
                </a:solidFill>
                <a:latin typeface="Bodoni MT Black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228600"/>
            <a:ext cx="79930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Nunca se había topado con una criatura tan repugnante. Se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 acobardó ante la perspectiva de pedirle a su amigo de toda la vida queasumiera por él esa carga terrible.</a:t>
            </a:r>
            <a:r>
              <a:rPr b="0" lang="en-GB" sz="3200" spc="-1" strike="noStrike">
                <a:solidFill>
                  <a:srgbClr val="006600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812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No obstante, al enterarse del pa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 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propuesto, Gawain afirmó que no era un sacrificio excesivo a cambio de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 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vida de su compañero y la preservación de la Mesa Redonda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DWIN EMERSON ALARCON MANRIQUE</dc:creator>
  <dc:description/>
  <dc:language>en-US</dc:language>
  <cp:lastModifiedBy>GODWIN EMERSON ALARCON MANRIQUE</cp:lastModifiedBy>
  <cp:revision>0</cp:revision>
  <dc:subject/>
  <dc:title>Diapositiva 1</dc:title>
</cp:coreProperties>
</file>