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935967-C748-4654-B609-B194546F5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9FCE30-1DF6-46E6-8A2D-B4D7F431E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494912-9AA9-4107-A4AB-B4E73EE79B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B43640-1ED4-4081-A322-F07E8B4719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E4310D-25C2-4DE2-B531-63F67156FA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644165-23EC-4031-9F7D-397187C2A0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0D636D-2784-44EF-93FB-384387CEA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C6E934-C0B9-4DEB-B159-CE16DAD28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A24B3-1025-4569-9098-DA6D71AE28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7855AF-E113-49E0-8ABE-01B0014563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9149E-3443-425D-8EB6-38DC68BD7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714-D2FB-4460-BB21-4149D14F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6C5-69ED-4C14-B2B8-0248ADCA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505-A446-43A8-991B-AD6E8ED9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F34-A528-4D23-A3E6-54393EF7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632-3E82-4EED-A755-882C8AB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4FF-220B-442C-A924-7CADED6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CCC-F65B-452C-87DA-BEF2EA85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432-FEAB-44B5-8C81-3BDB833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E85-D76E-4B24-9B75-E7C5536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2F3-F1AF-49E3-9C09-B205CF1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D32-740C-48A5-8450-120E3167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B5C-4DA6-4696-A149-B8EDE40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CAD5E4-35E9-449B-8396-E90073767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"/>
          <p:cNvSpPr txBox="1"/>
          <p:nvPr/>
        </p:nvSpPr>
        <p:spPr>
          <a:xfrm rot="20353800">
            <a:off x="1447560" y="1557000"/>
            <a:ext cx="7696080" cy="182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5948000"/>
                </a:gradFill>
                <a:latin typeface="Impact"/>
              </a:rPr>
              <a:t>Hecho con T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5948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havez22222"/>
          <p:cNvPicPr/>
          <p:nvPr/>
        </p:nvPicPr>
        <p:blipFill>
          <a:blip r:embed="rId1"/>
          <a:stretch/>
        </p:blipFill>
        <p:spPr>
          <a:xfrm>
            <a:off x="542880" y="404640"/>
            <a:ext cx="805824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Hecho con Are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707070"/>
                    </a:gs>
                  </a:gsLst>
                  <a:lin ang="5400000"/>
                </a:gradFill>
                <a:latin typeface="Impact"/>
              </a:rPr>
              <a:t>Hecho con Plan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70707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07070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Impact"/>
              </a:rPr>
              <a:t>Hecho con Hie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07070"/>
                  </a:gs>
                  <a:gs pos="100000">
                    <a:srgbClr val="ffff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1447920" y="1219320"/>
            <a:ext cx="76960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Impact"/>
              </a:rPr>
              <a:t>Hechos con Mier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ff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26:20Z</dcterms:created>
  <dc:creator>a</dc:creator>
  <dc:description/>
  <dc:language>en-US</dc:language>
  <cp:lastModifiedBy>Jesus</cp:lastModifiedBy>
  <dcterms:modified xsi:type="dcterms:W3CDTF">2007-11-12T16:05:58Z</dcterms:modified>
  <cp:revision>3</cp:revision>
  <dc:subject/>
  <dc:title>Diapositiva 1</dc:title>
</cp:coreProperties>
</file>