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FEC79-822E-43B8-9E6B-E44223BA0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34C744-B5FF-42ED-AE32-82D9EC593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9900D5-5F8F-4C5C-9A73-6190A7869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EB5ADC-A121-41E0-A98E-E890E3552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23A31A-B4E7-4541-B208-5C3B60945B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12E3CD-0672-4830-AE7A-07177B4CE0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1645F-4931-41FF-BDAA-06B1E0BCF2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CEAE3-BAD1-40E5-8D50-6A420FFCF9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A94AFD-85CD-4F24-85D7-C33C71E41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862203-610C-45E2-BBE0-84F71D46F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C45B84-C2D5-4EF4-9C5A-B105FD52FB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555-8247-41F0-B565-E4EE4896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168-031E-45F1-95EF-19A1826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EF2-3AD4-4A6B-9D80-066BF482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26-A4DC-43CB-B814-F8EC909C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67C-A7DB-4BE6-82AE-CA0E5CF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407-9F34-44D2-B506-F9B7C49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556-9041-453F-89D7-EEDDE97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A23-3460-4B8C-8BDC-B694E00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564-1A9F-4732-AF14-C89AB41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599-3E25-4C86-AF78-D163F43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611-80EE-49D6-8D6E-2EC7F5A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850-38B7-4133-9837-900DEB2E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B1599-401A-48C4-9096-6EE5CE7884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"/>
          <p:cNvSpPr txBox="1"/>
          <p:nvPr/>
        </p:nvSpPr>
        <p:spPr>
          <a:xfrm rot="20353800">
            <a:off x="1447560" y="1557000"/>
            <a:ext cx="7696080" cy="182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5948000"/>
                </a:gradFill>
                <a:latin typeface="Impact"/>
              </a:rPr>
              <a:t>Hecho con T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5948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havez22222"/>
          <p:cNvPicPr/>
          <p:nvPr/>
        </p:nvPicPr>
        <p:blipFill>
          <a:blip r:embed="rId1"/>
          <a:stretch/>
        </p:blipFill>
        <p:spPr>
          <a:xfrm>
            <a:off x="542880" y="404640"/>
            <a:ext cx="805824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Hecho con Are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707070"/>
                    </a:gs>
                  </a:gsLst>
                  <a:lin ang="5400000"/>
                </a:gradFill>
                <a:latin typeface="Impact"/>
              </a:rPr>
              <a:t>Hecho con Plan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70707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07070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Impact"/>
              </a:rPr>
              <a:t>Hecho con Hi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07070"/>
                  </a:gs>
                  <a:gs pos="100000">
                    <a:srgbClr val="ffff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Hechos con Mier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26:20Z</dcterms:created>
  <dc:creator>a</dc:creator>
  <dc:description/>
  <dc:language>en-US</dc:language>
  <cp:lastModifiedBy>Jesus</cp:lastModifiedBy>
  <dcterms:modified xsi:type="dcterms:W3CDTF">2007-11-12T16:05:58Z</dcterms:modified>
  <cp:revision>3</cp:revision>
  <dc:subject/>
  <dc:title>Diapositiva 1</dc:title>
</cp:coreProperties>
</file>