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7CD-3E81-4B04-9537-5B4EEC0E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001-BE3E-473D-A356-D47097A9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13D-D3D2-484A-90E5-DFE01A84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7E1-F0DD-480E-8742-26DB1067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8F5-A2D8-47EB-8416-1BF7A885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F80-5BAF-43B9-A588-9711A60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126-4D83-4EA2-8143-A593C26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03B-2D33-4E8D-B6E5-90ECF5A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4E9-6782-4008-AFE3-595D5F6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E30-5D48-4EB3-89BC-E59818FE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13B-0B4B-4B07-9111-B286999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29E-BA0E-452C-BFB6-42B06F3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F4A-3162-4A38-8242-68C580381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141720" y="260280"/>
            <a:ext cx="28605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ventajas del nudismo saltan a la vist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657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todo sube, lo único que baja es la ropa interi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y que trabajar ocho horas y dormir ocho horas, pero no las mism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japoneses no miran, sospech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uál es el animal que después de muerto da muchas vuelta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pollo as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57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un médico se equivoca, lo mejor es echarle tierra al asu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úsica japonesa es una tortura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co siempre dice la última pala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657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os aviones el tiempo se pasa vola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mosquitos mueren entre aplaus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padre vendió la farmacia porque no había más remed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o quien ha comido ajo puede darnos una palabra de al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japoneses quieren abrirle los ojos al mu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eglar los problemas económicos es fácil, lo único que se necesita es din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fruta el día hasta que un imbécil te lo arru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os los unos “sobre” los otr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amistad es como la mahonesa: cuesta un huevo y hay que tratar que no se co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lo bien y no mires con qu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 curioso que se le denomine sexo oral a la práctica sexual en la que menos se puede habl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canas ya no se respetan, se tiñ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mago hizo un gesto y desapareció el hambre, hizo otro gesto y desapareció la injusticia, hizo otro gesto y desapareció la guerra. El político hizo un gesto y desapareció el m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igamo: idiota al cuadr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657600"/>
            <a:ext cx="7162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ir es como dormir, pero sin levantarse a orin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inactividad sexual es peligrosa, produce cuern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9920" y="3657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y en día la fidelidad solo se ve en los equipos de son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y estudiantes que les apena ir al hipódromo y ver que hasta los caballos logran terminar su carr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negocio más expuesto a la quiebra es el de la cristal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matrimonio es como las libretas de ahorro: de tanto meter y sacar se pierde el inter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diabético no puede ir de luna de mi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25:06Z</dcterms:created>
  <dc:creator/>
  <dc:description/>
  <dc:language>en-US</dc:language>
  <cp:lastModifiedBy>MICROSOFT</cp:lastModifiedBy>
  <dcterms:modified xsi:type="dcterms:W3CDTF">2008-09-21T15:48:35Z</dcterms:modified>
  <cp:revision>6</cp:revision>
  <dc:subject/>
  <dc:title>WOODY ALLEN</dc:title>
</cp:coreProperties>
</file>