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F8E9-E8E2-42DB-8FD1-02A285230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1644-ABD1-4660-BF18-69444150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6A1F-742C-447F-A5BE-A25D2A465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76E1-4A70-474E-B584-48B7E04A2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E557-11A9-49CD-84CA-7532DD7D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FFEC-808A-44F5-BC3D-454C7D12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9262-C822-4203-B482-58B01F5B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7505-A90D-40BA-9124-52E09813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1740-B241-4968-BF51-800F4418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FF76-1AB9-4223-9DB9-47F10145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4948-0C91-4473-91BB-FB0F6B3C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AE37-B7A6-4228-8236-96DC3EFD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3771-51C6-444B-8F07-15F1FC460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141720" y="260280"/>
            <a:ext cx="2860560" cy="338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7920" y="3657600"/>
            <a:ext cx="6248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s ventajas del nudismo saltan a la vist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365760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ando todo sube, lo único que baja es la ropa interio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3657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y que trabajar ocho horas y dormir ocho horas, pero no las misma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57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s japoneses no miran, sospecha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Cuál es el animal que después de muerto da muchas vueltas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l pollo asad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36576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ando un médico se equivoca, lo mejor es echarle tierra al asunt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81080" y="3657600"/>
            <a:ext cx="5181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música japonesa es una tortura chin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3657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eco siempre dice la última palabr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480" y="3657600"/>
            <a:ext cx="5639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 los aviones el tiempo se pasa voland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3657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s mosquitos mueren entre aplaus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657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 padre vendió la farmacia porque no había más remedi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657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o quien ha comido ajo puede darnos una palabra de alient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920" y="3657600"/>
            <a:ext cx="6248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s japoneses quieren abrirle los ojos al mund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3657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eglar los problemas económicos es fácil, lo único que se necesita es diner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3657600"/>
            <a:ext cx="6248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fruta el día hasta que un imbécil te lo arruin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657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os los unos “sobre” los otr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3657240"/>
            <a:ext cx="76197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 amistad es como la mahonesa: cuesta un huevo y hay que tratar que no se cor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zlo bien y no mires con qui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 curioso que se le denomine sexo oral a la práctica sexual en la que menos se puede habla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3657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s canas ya no se respetan, se tiñ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l mago hizo un gesto y desapareció el hambre, hizo otro gesto y desapareció la injusticia, hizo otro gesto y desapareció la guerra. El político hizo un gesto y desapareció el mag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Bigamo: idiota al cuadrad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3657600"/>
            <a:ext cx="71625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ir es como dormir, pero sin levantarse a orina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657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inactividad sexual es peligrosa, produce cuern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99920" y="365760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y en día la fidelidad solo se ve en los equipos de sonid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57240"/>
            <a:ext cx="8458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y estudiantes que les apena ir al hipódromo y ver que hasta los caballos logran terminar su carrer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657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negocio más expuesto a la quiebra es el de la cristalerí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657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matrimonio es como las libretas de ahorro: de tanto meter y sacar se pierde el interé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1080" y="3657600"/>
            <a:ext cx="5181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diabético no puede ir de luna de mie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22:25:06Z</dcterms:created>
  <dc:creator/>
  <dc:description/>
  <dc:language>en-US</dc:language>
  <cp:lastModifiedBy>MICROSOFT</cp:lastModifiedBy>
  <dcterms:modified xsi:type="dcterms:W3CDTF">2008-09-21T15:48:35Z</dcterms:modified>
  <cp:revision>6</cp:revision>
  <dc:subject/>
  <dc:title>WOODY ALLEN</dc:title>
</cp:coreProperties>
</file>