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4.jpeg" ContentType="image/jpeg"/>
  <Override PartName="/ppt/media/jose%20luis%20perales%20-%20que%20canten%20los%20ni%C3%B1os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9FC-01FF-411F-A773-FB200787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C28-22D4-4326-8815-1DEB8936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DF4-5AFF-4EF6-8CAA-0B33BBC7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BE6-FC63-4927-B841-D7ACDEA4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2ED-4830-42DF-83FD-BF986B00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DAD-1BD2-4E0A-BEB2-BDABB387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4C7-550A-4CBE-8ADB-D55880B8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5E8-887D-4D77-B83C-20D0D641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7F0-EB32-461A-A794-EDB491EC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A07-15A3-4CF7-846E-E764FF7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62E-D330-4DD3-90AC-5375DE3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320-515D-4E00-AB55-D106312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724F-B69A-4ACA-BF44-855185BFF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se%20luis%20perales%20-%20que%20canten%20los%20ni&#241;o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66680" y="533520"/>
            <a:ext cx="7086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 los años vamos perdiendo la inocencia, que no es otra cosa que la sabiduría que nos regaló Di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jose%20luis%20perales%20-%20que%20canten%20los%20ni%C3%B1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140360" y="620640"/>
            <a:ext cx="43192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día que las partes de la obra fueron repartidas, yo estaba en la escu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mie salió corriendo con los ojos brilla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 orgullo y emo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Adivina qué mamá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gritó y luego dijo las palabras que permanecerán como una lección para 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 sido elegid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laudir y animar".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age001"/>
          <p:cNvPicPr/>
          <p:nvPr/>
        </p:nvPicPr>
        <p:blipFill>
          <a:blip r:embed="rId1"/>
          <a:stretch/>
        </p:blipFill>
        <p:spPr>
          <a:xfrm>
            <a:off x="611280" y="836640"/>
            <a:ext cx="32907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4067280" y="1125360"/>
            <a:ext cx="4535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niño de 10 años estaba parado frente a una tienda de zapatos en el camino, descalzo apuntando a través de la ventana y temblando de frío. Una señora se acercó al niño y le dijo: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Mi pequeño amigo, ¿qué estas mirando con tanto interés en esa ventana?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Le estaba pidiendo a Dios que me diera un par de zapatos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fue la respuesta d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031"/>
          <p:cNvPicPr/>
          <p:nvPr/>
        </p:nvPicPr>
        <p:blipFill>
          <a:blip r:embed="rId1"/>
          <a:stretch/>
        </p:blipFill>
        <p:spPr>
          <a:xfrm>
            <a:off x="1042920" y="1197000"/>
            <a:ext cx="249552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572000" y="907920"/>
            <a:ext cx="38876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señora lo tomó de la mano y entraron a la tienda. Le pidió al empleado media docena de pares de calcetines para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guntó si podía darle un recipiente con agua y una toalla. El empleado le trajo lo que pidió. Ella llevó al niño a la parte trasera de la tienda le lavó los pies y se los sec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niño+y+perro"/>
          <p:cNvPicPr/>
          <p:nvPr/>
        </p:nvPicPr>
        <p:blipFill>
          <a:blip r:embed="rId1"/>
          <a:stretch/>
        </p:blipFill>
        <p:spPr>
          <a:xfrm>
            <a:off x="826920" y="1052640"/>
            <a:ext cx="32752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539640" y="3860640"/>
            <a:ext cx="82090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ra entonces el empleado llegó con los calcet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señora le puso un par al niño y le compró un par de zapatos. Juntó el resto de los calcetines y se los dió al niño. Le acarició la cabeza y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¡No hay duda pequeño am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te sientes mas cómodo ahora!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foto_zapatos"/>
          <p:cNvPicPr/>
          <p:nvPr/>
        </p:nvPicPr>
        <p:blipFill>
          <a:blip r:embed="rId1"/>
          <a:stretch/>
        </p:blipFill>
        <p:spPr>
          <a:xfrm>
            <a:off x="3132000" y="692280"/>
            <a:ext cx="3008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900000" y="4221000"/>
            <a:ext cx="727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uando ella daba la vuelta para irse, el niño le agarró la mano y mirándola con lágrimas en los ojos, le pregunt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¿Es usted la esposa de Dios?".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niño"/>
          <p:cNvPicPr/>
          <p:nvPr/>
        </p:nvPicPr>
        <p:blipFill>
          <a:blip r:embed="rId1"/>
          <a:stretch/>
        </p:blipFill>
        <p:spPr>
          <a:xfrm>
            <a:off x="2411280" y="1197000"/>
            <a:ext cx="431028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684360" y="4149720"/>
            <a:ext cx="774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cuerda decir "Gracias"... Gracias Señor, por la persona que me envió este mensaje, porque me invita a la reflexión,y por la oportunidad que me das de compartirlo con otras perso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sobre todo, por darme amigos tan especiales y maravillosos con quien compartir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little_helpers"/>
          <p:cNvPicPr/>
          <p:nvPr/>
        </p:nvPicPr>
        <p:blipFill>
          <a:blip r:embed="rId1"/>
          <a:stretch/>
        </p:blipFill>
        <p:spPr>
          <a:xfrm>
            <a:off x="2124000" y="549360"/>
            <a:ext cx="496728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EBE01"/>
          <p:cNvPicPr/>
          <p:nvPr/>
        </p:nvPicPr>
        <p:blipFill>
          <a:blip r:embed="rId1"/>
          <a:stretch/>
        </p:blipFill>
        <p:spPr>
          <a:xfrm>
            <a:off x="1692360" y="765000"/>
            <a:ext cx="5543640" cy="369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971640" y="486900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¡Que pases un grandioso dí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BABY4"/>
          <p:cNvPicPr/>
          <p:nvPr/>
        </p:nvPicPr>
        <p:blipFill>
          <a:blip r:embed="rId1"/>
          <a:stretch/>
        </p:blipFill>
        <p:spPr>
          <a:xfrm>
            <a:off x="542880" y="209520"/>
            <a:ext cx="8058240" cy="643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468360" y="4724280"/>
            <a:ext cx="8064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 autor y orador Leo Buscaglia se le solicitó un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fuera parte del jurado en un con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pósito del concurso era encont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 niño mas cariñ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OHH_Baby_jpg"/>
          <p:cNvPicPr/>
          <p:nvPr/>
        </p:nvPicPr>
        <p:blipFill>
          <a:blip r:embed="rId1"/>
          <a:stretch/>
        </p:blipFill>
        <p:spPr>
          <a:xfrm>
            <a:off x="1979640" y="836640"/>
            <a:ext cx="483696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611280" y="443700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l ganador fue un niño de 4 años, vecino de un anciano cuya esposa había fallecido re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l niño, al ver al anciano llorar en el patio de su casa, se acercó y se sentó en su reg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ic13971"/>
          <p:cNvPicPr/>
          <p:nvPr/>
        </p:nvPicPr>
        <p:blipFill>
          <a:blip r:embed="rId1"/>
          <a:stretch/>
        </p:blipFill>
        <p:spPr>
          <a:xfrm>
            <a:off x="3276720" y="836640"/>
            <a:ext cx="2627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539640" y="472428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uando su mamá le preguntó qué le había di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l vecino, el niño le contestó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"Nada, sólo le ayudé a llorar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1196416262_extras_noticia_foton_5_1"/>
          <p:cNvPicPr/>
          <p:nvPr/>
        </p:nvPicPr>
        <p:blipFill>
          <a:blip r:embed="rId1"/>
          <a:stretch/>
        </p:blipFill>
        <p:spPr>
          <a:xfrm>
            <a:off x="2771640" y="83664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859280" y="1197000"/>
            <a:ext cx="360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maestra Debbie Moon estaba estudiando con su grupo de primer grado la pintura de un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la pintura había un niño que tenía el cabello de color diferente al del resto de los miembros de l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livia jpg"/>
          <p:cNvPicPr/>
          <p:nvPr/>
        </p:nvPicPr>
        <p:blipFill>
          <a:blip r:embed="rId1"/>
          <a:stretch/>
        </p:blipFill>
        <p:spPr>
          <a:xfrm>
            <a:off x="1042920" y="1125360"/>
            <a:ext cx="310680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427640" y="981000"/>
            <a:ext cx="40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 de los niño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upo sugirió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niño de la pin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a adop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onces, una niña del grupo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"Yo sé todo de adopciones porque yo soy adoptad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¿Qué significa ser adoptado?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guntó otro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Olivia2"/>
          <p:cNvPicPr/>
          <p:nvPr/>
        </p:nvPicPr>
        <p:blipFill>
          <a:blip r:embed="rId1"/>
          <a:stretch/>
        </p:blipFill>
        <p:spPr>
          <a:xfrm>
            <a:off x="900000" y="1197000"/>
            <a:ext cx="3014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755640" y="4508640"/>
            <a:ext cx="72010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Significa“ 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dijo la niña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que tu creces en el corazón de tu mamá en lugar de crecer  en su vientre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bebe"/>
          <p:cNvPicPr/>
          <p:nvPr/>
        </p:nvPicPr>
        <p:blipFill>
          <a:blip r:embed="rId1"/>
          <a:srcRect l="0" t="16381" r="-3458" b="12607"/>
          <a:stretch/>
        </p:blipFill>
        <p:spPr>
          <a:xfrm>
            <a:off x="2050920" y="836640"/>
            <a:ext cx="4897440" cy="3535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826920" y="4437000"/>
            <a:ext cx="7201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mie estaba intentando conseguir una p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una obra en la escu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mamá contaba que el niño había puesto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razón en ello y ella temía que no fuera eleg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image007"/>
          <p:cNvPicPr/>
          <p:nvPr/>
        </p:nvPicPr>
        <p:blipFill>
          <a:blip r:embed="rId1"/>
          <a:stretch/>
        </p:blipFill>
        <p:spPr>
          <a:xfrm>
            <a:off x="2195640" y="907920"/>
            <a:ext cx="449568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02:07Z</dcterms:created>
  <dc:creator>humor</dc:creator>
  <dc:description/>
  <dc:language>en-US</dc:language>
  <cp:lastModifiedBy>Coop. de Ahorro y Credito Crnl. Hidalgo </cp:lastModifiedBy>
  <dcterms:modified xsi:type="dcterms:W3CDTF">2009-09-24T02:12:03Z</dcterms:modified>
  <cp:revision>2</cp:revision>
  <dc:subject/>
  <dc:title>Diapositiva 1</dc:title>
</cp:coreProperties>
</file>