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4.jpeg" ContentType="image/jpeg"/>
  <Override PartName="/ppt/media/jose%20luis%20perales%20-%20que%20canten%20los%20ni%C3%B1os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F83-696E-4AD6-9A9A-BD85BB3E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0FA-52D9-40F9-BB5D-5D30E313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3BC-28FB-4371-9653-962926A7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706-3D38-4576-A5AC-CA2D9354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119-2995-403B-B8BD-5E231AD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67F-8571-48A7-84DF-D698209E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E48-7B1B-4E06-963B-6EA1F6A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950-6107-409C-A878-ED846E32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727-1729-4246-B257-CC90C970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B42-7782-4B0C-8E72-ADF2BB83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69F-1871-48FA-968B-FF1E275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ECD-F672-499C-91E7-FDADF127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0B89-77D9-4DC8-8745-D98F009AC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se%20luis%20perales%20-%20que%20canten%20los%20ni&#241;o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066680" y="533520"/>
            <a:ext cx="7086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 los años vamos perdiendo la inocencia, que no es otra cosa que la sabiduría que nos regaló Di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jose%20luis%20perales%20-%20que%20canten%20los%20ni%C3%B1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4140360" y="620640"/>
            <a:ext cx="43192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día que las partes de la obra fueron repartidas, yo estaba en la escu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amie salió corriendo con los ojos brillan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 orgullo y emo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Adivina qué mamá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gritó y luego dijo las palabras que permanecerán como una lección para 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e sido elegido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plaudir y animar".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image001"/>
          <p:cNvPicPr/>
          <p:nvPr/>
        </p:nvPicPr>
        <p:blipFill>
          <a:blip r:embed="rId1"/>
          <a:stretch/>
        </p:blipFill>
        <p:spPr>
          <a:xfrm>
            <a:off x="611280" y="836640"/>
            <a:ext cx="329076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4067280" y="1125360"/>
            <a:ext cx="4535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n niño de 10 años estaba parado frente a una tienda de zapatos en el camino, descalzo apuntando a través de la ventana y temblando de frío. Una señora se acercó al niño y le dijo: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Mi pequeño amigo, ¿qué estas mirando con tanto interés en esa ventana?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Le estaba pidiendo a Dios que me diera un par de zapatos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fue la respuesta d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031"/>
          <p:cNvPicPr/>
          <p:nvPr/>
        </p:nvPicPr>
        <p:blipFill>
          <a:blip r:embed="rId1"/>
          <a:stretch/>
        </p:blipFill>
        <p:spPr>
          <a:xfrm>
            <a:off x="1042920" y="1197000"/>
            <a:ext cx="249552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572000" y="907920"/>
            <a:ext cx="38876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señora lo tomó de la mano y entraron a la tienda. Le pidió al empleado media docena de pares de calcetines para 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guntó si podía darle un recipiente con agua y una toalla. El empleado le trajo lo que pidió. Ella llevó al niño a la parte trasera de la tienda le lavó los pies y se los sec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niño+y+perro"/>
          <p:cNvPicPr/>
          <p:nvPr/>
        </p:nvPicPr>
        <p:blipFill>
          <a:blip r:embed="rId1"/>
          <a:stretch/>
        </p:blipFill>
        <p:spPr>
          <a:xfrm>
            <a:off x="826920" y="1052640"/>
            <a:ext cx="32752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539640" y="3860640"/>
            <a:ext cx="820908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ara entonces el empleado llegó con los calcet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señora le puso un par al niño y le compró un par de zapatos. Juntó el resto de los calcetines y se los dió al niño. Le acarició la cabeza y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¡No hay duda pequeño ami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ue te sientes mas cómodo ahora!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foto_zapatos"/>
          <p:cNvPicPr/>
          <p:nvPr/>
        </p:nvPicPr>
        <p:blipFill>
          <a:blip r:embed="rId1"/>
          <a:stretch/>
        </p:blipFill>
        <p:spPr>
          <a:xfrm>
            <a:off x="3132000" y="692280"/>
            <a:ext cx="30085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900000" y="4221000"/>
            <a:ext cx="7272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uando ella daba la vuelta para irse, el niño le agarró la mano y mirándola con lágrimas en los ojos, le pregunt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¿Es usted la esposa de Dios?".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niño"/>
          <p:cNvPicPr/>
          <p:nvPr/>
        </p:nvPicPr>
        <p:blipFill>
          <a:blip r:embed="rId1"/>
          <a:stretch/>
        </p:blipFill>
        <p:spPr>
          <a:xfrm>
            <a:off x="2411280" y="1197000"/>
            <a:ext cx="4310280" cy="2584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684360" y="4149720"/>
            <a:ext cx="7740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cuerda decir "Gracias"... Gracias Señor, por la persona que me envió este mensaje, porque me invita a la reflexión,y por la oportunidad que me das de compartirlo con otras person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 sobre todo, por darme amigos tan especiales y maravillosos con quien compartir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little_helpers"/>
          <p:cNvPicPr/>
          <p:nvPr/>
        </p:nvPicPr>
        <p:blipFill>
          <a:blip r:embed="rId1"/>
          <a:stretch/>
        </p:blipFill>
        <p:spPr>
          <a:xfrm>
            <a:off x="2124000" y="549360"/>
            <a:ext cx="496728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BEBE01"/>
          <p:cNvPicPr/>
          <p:nvPr/>
        </p:nvPicPr>
        <p:blipFill>
          <a:blip r:embed="rId1"/>
          <a:stretch/>
        </p:blipFill>
        <p:spPr>
          <a:xfrm>
            <a:off x="1692360" y="765000"/>
            <a:ext cx="5543640" cy="369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971640" y="486900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¡Que pases un grandioso dí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BABY4"/>
          <p:cNvPicPr/>
          <p:nvPr/>
        </p:nvPicPr>
        <p:blipFill>
          <a:blip r:embed="rId1"/>
          <a:stretch/>
        </p:blipFill>
        <p:spPr>
          <a:xfrm>
            <a:off x="542880" y="209520"/>
            <a:ext cx="8058240" cy="6438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468360" y="4724280"/>
            <a:ext cx="8064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 autor y orador Leo Buscaglia se le solicitó un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ue fuera parte del jurado en un con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l propósito del concurso era encont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 niño mas cariñ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OHH_Baby_jpg"/>
          <p:cNvPicPr/>
          <p:nvPr/>
        </p:nvPicPr>
        <p:blipFill>
          <a:blip r:embed="rId1"/>
          <a:stretch/>
        </p:blipFill>
        <p:spPr>
          <a:xfrm>
            <a:off x="1979640" y="836640"/>
            <a:ext cx="4836960" cy="3492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611280" y="443700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l ganador fue un niño de 4 años, vecino de un anciano cuya esposa había fallecido reci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l niño, al ver al anciano llorar en el patio de su casa, se acercó y se sentó en su reg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pic13971"/>
          <p:cNvPicPr/>
          <p:nvPr/>
        </p:nvPicPr>
        <p:blipFill>
          <a:blip r:embed="rId1"/>
          <a:stretch/>
        </p:blipFill>
        <p:spPr>
          <a:xfrm>
            <a:off x="3276720" y="836640"/>
            <a:ext cx="2627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539640" y="472428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uando su mamá le preguntó qué le había di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l vecino, el niño le contestó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"Nada, sólo le ayudé a llorar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1196416262_extras_noticia_foton_5_1"/>
          <p:cNvPicPr/>
          <p:nvPr/>
        </p:nvPicPr>
        <p:blipFill>
          <a:blip r:embed="rId1"/>
          <a:stretch/>
        </p:blipFill>
        <p:spPr>
          <a:xfrm>
            <a:off x="2771640" y="836640"/>
            <a:ext cx="3541680" cy="354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4859280" y="1197000"/>
            <a:ext cx="360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maestra Debbie Moon estaba estudiando con su grupo de primer grado la pintura de un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 la pintura había un niño que tenía el cabello de color diferente al del resto de los miembros de l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Olivia jpg"/>
          <p:cNvPicPr/>
          <p:nvPr/>
        </p:nvPicPr>
        <p:blipFill>
          <a:blip r:embed="rId1"/>
          <a:stretch/>
        </p:blipFill>
        <p:spPr>
          <a:xfrm>
            <a:off x="1042920" y="1125360"/>
            <a:ext cx="310680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427640" y="981000"/>
            <a:ext cx="403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o de los niño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upo sugirió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niño de la pin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a adop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onces, una niña del grupo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"Yo sé todo de adopciones porque yo soy adoptada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¿Qué significa ser adoptado?"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guntó otro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Olivia2"/>
          <p:cNvPicPr/>
          <p:nvPr/>
        </p:nvPicPr>
        <p:blipFill>
          <a:blip r:embed="rId1"/>
          <a:stretch/>
        </p:blipFill>
        <p:spPr>
          <a:xfrm>
            <a:off x="900000" y="1197000"/>
            <a:ext cx="3014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755640" y="4508640"/>
            <a:ext cx="72010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Significa“ -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dijo la niña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"que tu creces en el corazón de tu mamá en lugar de crecer  en su vientre"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bebe"/>
          <p:cNvPicPr/>
          <p:nvPr/>
        </p:nvPicPr>
        <p:blipFill>
          <a:blip r:embed="rId1"/>
          <a:srcRect l="0" t="16381" r="-3458" b="12607"/>
          <a:stretch/>
        </p:blipFill>
        <p:spPr>
          <a:xfrm>
            <a:off x="2050920" y="836640"/>
            <a:ext cx="4897440" cy="3535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826920" y="4437000"/>
            <a:ext cx="7201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Jamie estaba intentando conseguir una p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 una obra en la escu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mamá contaba que el niño había puesto 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razón en ello y ella temía que no fuera eleg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image007"/>
          <p:cNvPicPr/>
          <p:nvPr/>
        </p:nvPicPr>
        <p:blipFill>
          <a:blip r:embed="rId1"/>
          <a:stretch/>
        </p:blipFill>
        <p:spPr>
          <a:xfrm>
            <a:off x="2195640" y="907920"/>
            <a:ext cx="4495680" cy="3189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22:02:07Z</dcterms:created>
  <dc:creator>humor</dc:creator>
  <dc:description/>
  <dc:language>en-US</dc:language>
  <cp:lastModifiedBy>Coop. de Ahorro y Credito Crnl. Hidalgo </cp:lastModifiedBy>
  <dcterms:modified xsi:type="dcterms:W3CDTF">2009-09-24T02:12:03Z</dcterms:modified>
  <cp:revision>2</cp:revision>
  <dc:subject/>
  <dc:title>Diapositiva 1</dc:title>
</cp:coreProperties>
</file>