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7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13.gif" ContentType="image/gif"/>
  <Override PartName="/ppt/media/image2.png" ContentType="image/png"/>
  <Override PartName="/ppt/media/KennyG%20(musique)Melody.wav" ContentType="audio/x-wav"/>
  <Override PartName="/ppt/media/image16.gif" ContentType="image/gif"/>
  <Override PartName="/ppt/media/image3.gif" ContentType="image/gif"/>
  <Override PartName="/ppt/media/image1.gif" ContentType="image/gif"/>
  <Override PartName="/ppt/media/image4.png" ContentType="image/png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AD68-FD81-4BCC-9E63-B15BDB51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221-831A-4C84-9EC0-8C91127F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863-D10E-4BF9-8ABA-B30F166F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DC0F-7160-4135-A6A5-6E871E5B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EB7-C5DE-47FE-AFC6-93B02FF7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9178-E98E-4785-A173-75D5F98D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D6D3-6202-4BAE-8709-89096360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A6DE-6F86-453C-95FA-7F17D731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0DB6-213B-4011-A651-4B6EFC89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87F7-F062-41E4-848F-6C6B3A45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4E4-194F-4D0B-A3B0-7FCA9E87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9D77-60E8-43B8-A2F7-45DBB4B7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8FE8-AF95-4C8E-B477-91624EAF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8AAE-058B-47B3-A609-E396F428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17E9-3D36-48E6-B5F1-4CDA4820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BF6E-6FFA-46A3-9551-03A23197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31BC-9D32-4580-AB9B-5E8FF37E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774E-B0CA-411A-A54D-9205373C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932-D2C6-48F9-B26D-185C5E49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241-631E-4148-8A67-1D6CFCC6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507-2919-4CAA-BF1D-73762258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98F-28A6-444B-9E4B-4BE143E2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3CC-97BC-4B4A-929C-12FE1573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2A1-ABA7-4DA0-A2AE-867A781D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F50D-4511-40CE-9732-34CF4D0031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d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ef6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ef6f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def6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72C0-63A5-4A65-940A-0841BAB4B089}" type="slidenum">
              <a:rPr b="1" lang="fr-FR" sz="2600" spc="-1" strike="noStrike">
                <a:solidFill>
                  <a:srgbClr val="def6f1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KennyG%20(musique)Melody.wav"/><Relationship Id="rId4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hyperlink" Target="http://www.icone-gif.com/gif/electromenager/frigo/frigo001.gif" TargetMode="External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hyperlink" Target="http://gifalapelle.site.voila.fr/objets/objets/140.gif" TargetMode="External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11280" y="836640"/>
            <a:ext cx="1609920" cy="2062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43280" y="2637000"/>
            <a:ext cx="45007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ligraph421 BT"/>
              </a:rPr>
              <a:t>Yo me siento totalmente identifica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ligraph421 BT"/>
              </a:rPr>
              <a:t>No se si vosotr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96000" y="4387680"/>
            <a:ext cx="1938240" cy="1613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KennyG%20(musique)Melod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408720" cy="1143000"/>
          </a:xfrm>
          <a:prstGeom prst="rect">
            <a:avLst/>
          </a:prstGeom>
          <a:solidFill>
            <a:srgbClr val="ffff99"/>
          </a:solidFill>
          <a:ln w="889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Monotype Corsiva"/>
              </a:rPr>
              <a:t>¿</a:t>
            </a: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Qué es tener </a:t>
            </a:r>
            <a:r>
              <a:rPr b="1" lang="fr-FR" sz="4000" spc="-1" strike="noStrike">
                <a:solidFill>
                  <a:srgbClr val="cc0000"/>
                </a:solidFill>
                <a:latin typeface="Monotype Corsiva"/>
              </a:rPr>
              <a:t>D</a:t>
            </a: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1" lang="fr-FR" sz="4000" spc="-1" strike="noStrike">
                <a:solidFill>
                  <a:srgbClr val="cc0000"/>
                </a:solidFill>
                <a:latin typeface="Monotype Corsiva"/>
              </a:rPr>
              <a:t>A</a:t>
            </a: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1" lang="fr-FR" sz="4000" spc="-1" strike="noStrike">
                <a:solidFill>
                  <a:srgbClr val="cc0000"/>
                </a:solidFill>
                <a:latin typeface="Monotype Corsiva"/>
              </a:rPr>
              <a:t>D</a:t>
            </a: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.</a:t>
            </a:r>
            <a:r>
              <a:rPr b="1" lang="fr-FR" sz="4000" spc="-1" strike="noStrike">
                <a:solidFill>
                  <a:srgbClr val="cc0000"/>
                </a:solidFill>
                <a:latin typeface="Monotype Corsiva"/>
              </a:rPr>
              <a:t>E. </a:t>
            </a: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?</a:t>
            </a: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815840"/>
            <a:ext cx="82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Monotype Corsiva"/>
              </a:rPr>
              <a:t>Me temo que muchos  cuarentones, cincuentones y más... de entre nosotros se reconocerán ...como yo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3255840"/>
            <a:ext cx="73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Monotype Corsiva"/>
              </a:rPr>
              <a:t>Recientemente, me han diagnosticado D.A.D.E.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560" y="4365000"/>
            <a:ext cx="86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D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éficit de </a:t>
            </a: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A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tención </a:t>
            </a: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D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ebida a la </a:t>
            </a: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E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da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409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Monotype Corsiva"/>
              </a:rPr>
              <a:t>Veamos cómo se manifiest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8200" y="4005360"/>
            <a:ext cx="1585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502920" y="96480"/>
            <a:ext cx="360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cido lavar mi coche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427040" y="671040"/>
            <a:ext cx="94726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Cuando voy hacia el garaje, veo que hay correo en la mes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 entrada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126440" y="1742400"/>
            <a:ext cx="75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cido revisar el correo antes de lavar el coche.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1479600" y="2772000"/>
            <a:ext cx="9695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jo las llaves del coche sobre la mesa, echo a la papelera,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está debajo de la mesa, todo el correo publicitario y veo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la papelera está llena.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1188000" y="4266000"/>
            <a:ext cx="7919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cido entonces dejar las facturas sobre la mes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vaciar primero la papelera.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1676160" y="5461200"/>
            <a:ext cx="10996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Pero, entonces pienso que como voy a pasar junto al buzón de corre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cuando saque a la basura la papelera, puedo primero prepar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el pago de las facturas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740720" y="692280"/>
            <a:ext cx="720720" cy="593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Gif Anime - Auto - Autos - Gifs Animes"/>
          <p:cNvPicPr/>
          <p:nvPr/>
        </p:nvPicPr>
        <p:blipFill>
          <a:blip r:embed="rId2"/>
          <a:stretch/>
        </p:blipFill>
        <p:spPr>
          <a:xfrm>
            <a:off x="5562720" y="0"/>
            <a:ext cx="1008000" cy="830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924680" y="4038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8001000" y="5715000"/>
            <a:ext cx="808200" cy="934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7308720" y="1700280"/>
            <a:ext cx="1081080" cy="620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7740720" y="27082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1359000" y="218520"/>
            <a:ext cx="87775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Preparo mi talonario sobre la mesa, pero veo que no 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queda mas que un cheque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219320"/>
            <a:ext cx="896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Mi otro talonario está en mi despacho. Voy allí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encuentro sobre la mesa la lata de Coca que había empezado a beber.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1506240" y="2419560"/>
            <a:ext cx="10016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Voy a buscar mi talonario, pero, antes de nada, es necesari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quite de ahí esta Coca, antes de que se caiga accidentalmente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437120" y="3499200"/>
            <a:ext cx="9359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Veo que está templada, por lo que decido meterla en el fr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para enfriarla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331280" y="4507200"/>
            <a:ext cx="9423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Me dirijo a la cocina con la Coca. El florero sobre la encim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me llama la atención: Las flores necesitan agua!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1386720" y="5718600"/>
            <a:ext cx="9244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jo la Coca en la encimera y encuentro mis gafas para 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(que buscaba desde esta mañana) 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740720" y="1484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705720" y="6019920"/>
            <a:ext cx="306360" cy="576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40720" y="3284640"/>
            <a:ext cx="849240" cy="1047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7524720" y="450864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-1341000" y="273240"/>
            <a:ext cx="8651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Pienso que es mejor llevarlas a mi despacho, pero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voy a poner agua a las flores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1306440" y="1381320"/>
            <a:ext cx="9056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jo las gafas en la encimera , lleno una jarra con agua y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 repente, veo el mando a distancia de la TV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46640" y="2327400"/>
            <a:ext cx="524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Alguien lo ha dejado en la cocina.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1273320" y="3067200"/>
            <a:ext cx="893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Pienso que, esta noche, para ver la TV, lo voy a buscar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todos los sitios y no me acordaré que está en la coc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1117440" y="4292280"/>
            <a:ext cx="7645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Decido entonces llevarlo al salón, que es su sit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pero antes voy a añadir agua al florero</a:t>
            </a:r>
            <a:r>
              <a:rPr b="1" lang="fr-FR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271880" y="5588640"/>
            <a:ext cx="872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Echo agua al florero pero vierto la mayor parte al suelo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439040" y="4508640"/>
            <a:ext cx="1704960" cy="2060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740720" y="1484280"/>
            <a:ext cx="792000" cy="762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6000" y="2924280"/>
            <a:ext cx="1584000" cy="1117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7667640" y="228600"/>
            <a:ext cx="14763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1178280" y="273240"/>
            <a:ext cx="801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Entoces, pongo el mando en la mesa y voy a busc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un trapo para limpiar el estropicio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1024200" y="1267200"/>
            <a:ext cx="7253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A continuación vuelvo a la puerta, tratand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acordarme de qué quería hacer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77360" y="2205000"/>
            <a:ext cx="368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Al final del día 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669240" y="282168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</a:t>
            </a: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el coche no está lavado,</a:t>
            </a: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827280" y="3685320"/>
            <a:ext cx="579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</a:t>
            </a: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las facturas no están pagadas,</a:t>
            </a: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409040" y="4550400"/>
            <a:ext cx="9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</a:t>
            </a: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hay una Coca templada en la encimera de la cocina,</a:t>
            </a: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77040" y="5393160"/>
            <a:ext cx="664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-</a:t>
            </a: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las flores no tienen agua suficiente</a:t>
            </a: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,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-796320" y="-29160"/>
            <a:ext cx="54507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-no tengo mi nuevo talonario,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1137600" y="619920"/>
            <a:ext cx="81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-no encuentro el mando a distancia de la TV,</a:t>
            </a:r>
            <a:r>
              <a:rPr b="1" lang="fr-FR" sz="3200" spc="-1" strike="noStrike">
                <a:solidFill>
                  <a:srgbClr val="0033cc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796320" y="1297800"/>
            <a:ext cx="5301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-no sé dónde están mis gafas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303200" y="1976040"/>
            <a:ext cx="82562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-y no consigo acordarme de qué he hecho 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las llaves del coche.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6684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Además, me doy cuenta de que hoy no he hecho nad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no comprendo nada, pues no he 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onotype Corsiva"/>
              </a:rPr>
              <a:t>en todo el día  y estoy completamente reventado.!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360" y="4436640"/>
            <a:ext cx="84927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Me doy cuenta que hay un serio problema y 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necesario que alguien me ayude, per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Monotype Corsiva"/>
              </a:rPr>
              <a:t>primero, voy a ocuparme de mis mails.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92200" y="5876280"/>
            <a:ext cx="61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Monotype Corsiva"/>
              </a:rPr>
              <a:t>¿Me quereis hacer un favor ?</a:t>
            </a:r>
            <a:r>
              <a:rPr b="1" lang="fr-FR" sz="3600" spc="-1" strike="noStrike">
                <a:solidFill>
                  <a:srgbClr val="cc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3400" y="87480"/>
            <a:ext cx="907632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Monotype Corsiva"/>
              </a:rPr>
              <a:t>Envia este mensaje a todos los que conozcas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Monotype Corsiva"/>
              </a:rPr>
              <a:t>pues yo ya no me acuerdo 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Monotype Corsiva"/>
              </a:rPr>
              <a:t>quienes se lo he enviado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120" y="2083680"/>
            <a:ext cx="9093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No te rías. Si todavía no es tu cas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Monotype Corsiva"/>
              </a:rPr>
              <a:t>lo será cualquier día.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7960" y="4057920"/>
            <a:ext cx="85507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0000"/>
                </a:solidFill>
                <a:latin typeface="Monotype Corsiva"/>
              </a:rPr>
              <a:t>LA VEJEZ ES INEVITABLE.</a:t>
            </a:r>
            <a:br>
              <a:rPr sz="4000"/>
            </a:br>
            <a:r>
              <a:rPr b="1" lang="fr-FR" sz="4000" spc="-1" strike="noStrike">
                <a:solidFill>
                  <a:srgbClr val="cc0000"/>
                </a:solidFill>
                <a:latin typeface="Monotype Corsiva"/>
              </a:rPr>
              <a:t>LA MADUREZ ES UNA OPCION</a:t>
            </a:r>
            <a:br>
              <a:rPr sz="4000"/>
            </a:br>
            <a:r>
              <a:rPr b="1" lang="fr-FR" sz="4000" spc="-1" strike="noStrike">
                <a:solidFill>
                  <a:srgbClr val="cc0000"/>
                </a:solidFill>
                <a:latin typeface="Monotype Corsiva"/>
              </a:rPr>
              <a:t> REIRSE DE UNO ES UNA TERAPIA</a:t>
            </a:r>
            <a:r>
              <a:rPr b="1" lang="fr-FR" sz="4400" spc="-1" strike="noStrike">
                <a:solidFill>
                  <a:srgbClr val="cc0000"/>
                </a:solidFill>
                <a:latin typeface="Monotype Corsiva"/>
              </a:rPr>
              <a:t>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1:50:02Z</dcterms:created>
  <dc:creator>LEMAIRE MICHEL</dc:creator>
  <dc:description/>
  <dc:language>en-US</dc:language>
  <cp:lastModifiedBy>CASA</cp:lastModifiedBy>
  <dcterms:modified xsi:type="dcterms:W3CDTF">2009-02-04T23:56:09Z</dcterms:modified>
  <cp:revision>19</cp:revision>
  <dc:subject/>
  <dc:title>D.A.D.A </dc:title>
</cp:coreProperties>
</file>