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7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13.gif" ContentType="image/gif"/>
  <Override PartName="/ppt/media/image2.png" ContentType="image/png"/>
  <Override PartName="/ppt/media/KennyG%20(musique)Melody.wav" ContentType="audio/x-wav"/>
  <Override PartName="/ppt/media/image16.gif" ContentType="image/gif"/>
  <Override PartName="/ppt/media/image3.gif" ContentType="image/gif"/>
  <Override PartName="/ppt/media/image1.gif" ContentType="image/gif"/>
  <Override PartName="/ppt/media/image4.png" ContentType="image/png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BCD-D99E-4B48-BA17-A6CFC3E6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A01-AFE2-4A57-97D5-E6FAB004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F33-F8AF-4C9E-8E90-6E79E81F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77F-FB84-40A1-81B1-6AB9F9FE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0C5-983F-489A-8B1A-0C39B285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4089-050C-440B-8687-5FADDC58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195E-9891-4D9C-B75D-6F8C2E6F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7C8F-7E46-4857-B6AF-F0F707B0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0D5F-2627-4826-91C8-C3B0CFFC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C411-AEDA-4A6A-B063-6DAD5C69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C91-22C9-415D-966C-FD85784E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25D6-1F0F-4D25-B3FE-C6D9B8CF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8A3C-058E-462F-AA10-66A4C0E6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7570-9787-4002-8AA0-8FBD36D4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CB8C-CCA4-4A76-8244-A3655396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508B-39C3-4E3E-875C-B715D293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CBD1-20DA-47D8-A217-30D62709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F1EB-49A0-4062-8AF5-74842AD2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864-6AB3-4D79-8EE3-CAE229BC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92A-5BDB-4B8D-9BBC-7536DBFC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D09-B918-4137-8BD0-EF823745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EEF-93A6-49AD-92CB-8FDC2B81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69A-B573-4D95-A2E8-0506FB1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255-626A-489D-B185-E9AE5E7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955-9517-46CC-94F8-0B13E0774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d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6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1C28-E7DE-4C22-93CD-E32F7B3DC88C}" type="slidenum">
              <a:rPr b="1" lang="fr-FR" sz="2600" spc="-1" strike="noStrike">
                <a:solidFill>
                  <a:srgbClr val="def6f1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KennyG%20(musique)Melody.wav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hyperlink" Target="http://www.icone-gif.com/gif/electromenager/frigo/frigo001.gif" TargetMode="External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hyperlink" Target="http://gifalapelle.site.voila.fr/objets/objets/140.gif" TargetMode="External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1609920" cy="2062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43280" y="2637000"/>
            <a:ext cx="4500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ligraph421 BT"/>
              </a:rPr>
              <a:t>Yo me siento totalmente identific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ligraph421 BT"/>
              </a:rPr>
              <a:t>No se si vosotr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96000" y="4387680"/>
            <a:ext cx="1938240" cy="1613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KennyG%20(musique)Melod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8720" cy="1143000"/>
          </a:xfrm>
          <a:prstGeom prst="rect">
            <a:avLst/>
          </a:prstGeom>
          <a:solidFill>
            <a:srgbClr val="ffff99"/>
          </a:solidFill>
          <a:ln w="889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¿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Qué es tener </a:t>
            </a: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D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A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D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E. 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?</a:t>
            </a: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815840"/>
            <a:ext cx="82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Me temo que muchos  cuarentones, cincuentones y más... de entre nosotros se reconocerán ...como yo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3255840"/>
            <a:ext cx="73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Monotype Corsiva"/>
              </a:rPr>
              <a:t>Recientemente, me han diagnosticado D.A.D.E.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560" y="4365000"/>
            <a:ext cx="86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D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éficit de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A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tención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D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ebida a la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E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da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409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Veamos cómo se manifiest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8200" y="4005360"/>
            <a:ext cx="1585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502920" y="96480"/>
            <a:ext cx="360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cido lavar mi coche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427040" y="671040"/>
            <a:ext cx="9472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Cuando voy hacia el garaje, veo que hay correo en la mes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 entrada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126440" y="1742400"/>
            <a:ext cx="75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cido revisar el correo antes de lavar el coche.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479600" y="2772000"/>
            <a:ext cx="9695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jo las llaves del coche sobre la mesa, echo a la papelera,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stá debajo de la mesa, todo el correo publicitario y ve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la papelera está llena.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1188000" y="4266000"/>
            <a:ext cx="7919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cido entonces dejar las facturas sobre la mes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vaciar primero la papelera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1676160" y="5461200"/>
            <a:ext cx="10996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ero, entonces pienso que como voy a pasar junto al buzón de corre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cuando saque a la basura la papelera, puedo primero prepa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l pago de las facturas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740720" y="692280"/>
            <a:ext cx="720720" cy="593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Gif Anime - Auto - Autos - Gifs Animes"/>
          <p:cNvPicPr/>
          <p:nvPr/>
        </p:nvPicPr>
        <p:blipFill>
          <a:blip r:embed="rId2"/>
          <a:stretch/>
        </p:blipFill>
        <p:spPr>
          <a:xfrm>
            <a:off x="5562720" y="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924680" y="4038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001000" y="5715000"/>
            <a:ext cx="808200" cy="934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308720" y="1700280"/>
            <a:ext cx="1081080" cy="620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740720" y="2708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359000" y="218520"/>
            <a:ext cx="87775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reparo mi talonario sobre la mesa, pero veo que no 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queda mas que un cheque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19320"/>
            <a:ext cx="896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Mi otro talonario está en mi despacho. Voy allí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ncuentro sobre la mesa la lata de Coca que había empezado a beber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1506240" y="2419560"/>
            <a:ext cx="10016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Voy a buscar mi talonario, pero, antes de nada, es necesari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quite de ahí esta Coca, antes de que se caiga accidentalmente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437120" y="3499200"/>
            <a:ext cx="935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Veo que está templada, por lo que decido meterla en el fr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ara enfriarla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331280" y="4507200"/>
            <a:ext cx="9423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Me dirijo a la cocina con la Coca. El florero sobre la encim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me llama la atención: Las flores necesitan agua!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386720" y="5718600"/>
            <a:ext cx="924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jo la Coca en la encimera y encuentro mis gafas para 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(que buscaba desde esta mañana) 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740720" y="1484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705720" y="6019920"/>
            <a:ext cx="306360" cy="576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40720" y="3284640"/>
            <a:ext cx="849240" cy="104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7524720" y="4508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1341000" y="273240"/>
            <a:ext cx="865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ienso que es mejor llevarlas a mi despacho, pero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voy a poner agua a las flores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1306440" y="1381320"/>
            <a:ext cx="9056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jo las gafas en la encimera , lleno una jarra con agua y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 repente, veo el mando a distancia de la TV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46640" y="2327400"/>
            <a:ext cx="52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Alguien lo ha dejado en la cocina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1273320" y="3067200"/>
            <a:ext cx="893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ienso que, esta noche, para ver la TV, lo voy a buscar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todos los sitios y no me acordaré que está en la coc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1117440" y="4292280"/>
            <a:ext cx="7645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cido entonces llevarlo al salón, que es su sit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ero antes voy a añadir agua al florero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271880" y="5588640"/>
            <a:ext cx="87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cho agua al florero pero vierto la mayor parte al suelo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439040" y="4508640"/>
            <a:ext cx="1704960" cy="2060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740720" y="1484280"/>
            <a:ext cx="792000" cy="762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2924280"/>
            <a:ext cx="1584000" cy="1117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667640" y="228600"/>
            <a:ext cx="14763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1178280" y="273240"/>
            <a:ext cx="801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ntoces, pongo el mando en la mesa y voy a bus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un trapo para limpiar el estropicio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1024200" y="1267200"/>
            <a:ext cx="7253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A continuación vuelvo a la puerta, tratand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acordarme de qué quería hacer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7360" y="2205000"/>
            <a:ext cx="368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Al final del día 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669240" y="28216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</a:t>
            </a: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el coche no está lavado,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827280" y="3685320"/>
            <a:ext cx="579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</a:t>
            </a: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las facturas no están pagadas,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409040" y="4550400"/>
            <a:ext cx="9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</a:t>
            </a: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hay una Coca templada en la encimera de la cocina,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77040" y="5393160"/>
            <a:ext cx="664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</a:t>
            </a: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las flores no tienen agua suficiente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,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796320" y="-29160"/>
            <a:ext cx="54507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-no tengo mi nuevo talonario,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137600" y="61992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-no encuentro el mando a distancia de la TV,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796320" y="1297800"/>
            <a:ext cx="5301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-no sé dónde están mis gafas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303200" y="1976040"/>
            <a:ext cx="8256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-y no consigo acordarme de qué he hecho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las llaves del coche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68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Además, me doy cuenta de que hoy no he hecho nad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no comprendo nada, pues no he 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n todo el día  y estoy completamente reventado.!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360" y="4436640"/>
            <a:ext cx="84927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Me doy cuenta que hay un serio problema y 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necesario que alguien me ayude, per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primero, voy a ocuparme de mis mails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92200" y="5876280"/>
            <a:ext cx="61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Monotype Corsiva"/>
              </a:rPr>
              <a:t>¿Me quereis hacer un favor ?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3400" y="87480"/>
            <a:ext cx="907632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Monotype Corsiva"/>
              </a:rPr>
              <a:t>Envia este mensaje a todos los que conozca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Monotype Corsiva"/>
              </a:rPr>
              <a:t>pues yo ya no me acuerdo 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Monotype Corsiva"/>
              </a:rPr>
              <a:t>quienes se lo he enviad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120" y="2083680"/>
            <a:ext cx="9093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No te rías. Si todavía no es tu ca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lo será cualquier día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7960" y="4057920"/>
            <a:ext cx="8550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LA VEJEZ ES INEVITABLE.</a:t>
            </a:r>
            <a:br>
              <a:rPr sz="4000"/>
            </a:b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LA MADUREZ ES UNA OPCION</a:t>
            </a:r>
            <a:br>
              <a:rPr sz="4000"/>
            </a:b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 REIRSE DE UNO ES UNA TERAPIA</a:t>
            </a: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1:50:02Z</dcterms:created>
  <dc:creator>LEMAIRE MICHEL</dc:creator>
  <dc:description/>
  <dc:language>en-US</dc:language>
  <cp:lastModifiedBy>CASA</cp:lastModifiedBy>
  <dcterms:modified xsi:type="dcterms:W3CDTF">2009-02-04T23:56:09Z</dcterms:modified>
  <cp:revision>19</cp:revision>
  <dc:subject/>
  <dc:title>D.A.D.A </dc:title>
</cp:coreProperties>
</file>