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12.jpeg" ContentType="image/jpeg"/>
  <Override PartName="/ppt/media/image1.wmf" ContentType="image/x-wmf"/>
  <Override PartName="/ppt/media/image2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0FB-1DC5-427F-A4E4-AC3BFB03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3DD-DA8A-40F2-9DE7-C2E373A3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E06-6005-40D4-9243-5E2DEAD0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061-33DD-4B24-B757-FAD7C5DD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F44-A3EB-4090-B3D9-3F67C75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F58-BA65-4101-8897-9C511D7C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227-FFEF-48BA-B522-9840AADE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D7B-B850-48C9-AA59-95940C80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9FF-C20F-48E0-B9A1-FDF2DF3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13D-5F67-458A-B107-855CF11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79D-DF09-476F-9160-4189B7B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CC4-152E-44C8-9013-ED0D255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BC32-9A9B-48F3-A1B0-8265A7E78C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0"/>
            <a:ext cx="198144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d27d00"/>
              </a:gs>
              <a:gs pos="100000">
                <a:srgbClr val="007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8195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e400"/>
                </a:solidFill>
                <a:latin typeface="Arial"/>
              </a:rPr>
              <a:t>PRESENT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0560" y="152280"/>
          <a:ext cx="756288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52280"/>
                    <a:ext cx="756288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4359240"/>
            <a:ext cx="9144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e400"/>
                </a:solidFill>
                <a:latin typeface="Arial"/>
              </a:rPr>
              <a:t>Entendiend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e400"/>
                </a:solidFill>
                <a:latin typeface="Arial"/>
              </a:rPr>
              <a:t>la Diabe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a00"/>
            </a:gs>
            <a:gs pos="100000">
              <a:srgbClr val="001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31840" y="189000"/>
            <a:ext cx="5042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Y qué es la diabe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s una enfermedad que aparece cuando el organismo produce poca o nada de insul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2100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Y sin la insulina la glucosa no entra en las cél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35772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ientras las células mueren por falta de azúcar y energía, la sangre se transforma en un melado, lleno de glucosa que no puede entrar en las cél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9144000" cy="8859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Y el cuerpo entero se enferm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808360"/>
            <a:ext cx="5508720" cy="404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3915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930400">
            <a:off x="1766880" y="4627440"/>
            <a:ext cx="1517400" cy="459720"/>
          </a:xfrm>
          <a:prstGeom prst="rect">
            <a:avLst/>
          </a:prstGeom>
          <a:solidFill>
            <a:srgbClr val="00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8000" y="60213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856400">
            <a:off x="-75240" y="41842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s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06320"/>
            <a:ext cx="9144000" cy="10688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l páncreas es el órgano responsable por la producción de insu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070600"/>
            <a:ext cx="5977080" cy="1373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anto más azúcar la gente consume, el páncreas tiene que trabajar mucho má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852640"/>
            <a:ext cx="3240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280" y="2060640"/>
            <a:ext cx="8964720" cy="1556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La cantidad de insulina producida va a depender de la cantidad de azúcar que se cons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813120"/>
            <a:ext cx="4140360" cy="30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73915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0930400">
            <a:off x="1549800" y="5108400"/>
            <a:ext cx="1070640" cy="337320"/>
          </a:xfrm>
          <a:prstGeom prst="rect">
            <a:avLst/>
          </a:prstGeom>
          <a:solidFill>
            <a:srgbClr val="00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96200" y="62611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test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856400">
            <a:off x="-5040" y="47797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síc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5000"/>
            <a:ext cx="9144000" cy="764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Y NO SE ENGAÑE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429000"/>
            <a:ext cx="2160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628640"/>
            <a:ext cx="9144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ntro del organism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pas, arroz, pan, bizcocho, harina, pizza, dulces, helados, vino, cervez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- todo esto... y mucho má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s lo mismo que azúc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4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Y por qué el páncreas deja de producir insul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141720"/>
            <a:ext cx="9144000" cy="2946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ff00"/>
                </a:solidFill>
                <a:latin typeface="Arial"/>
              </a:rPr>
              <a:t>PORQUE SE CANSA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17440" y="76320"/>
            <a:ext cx="2374920" cy="6781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843280" y="1773360"/>
            <a:ext cx="63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Hay que confiar en que la gente haga ejercicio para ayudar a consumir la glucos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50000">
              <a:srgbClr val="cc3300"/>
            </a:gs>
            <a:gs pos="100000">
              <a:srgbClr val="5e17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1320" y="-2341440"/>
            <a:ext cx="6919920" cy="9226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440" y="24670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forme la gente va engordando son necesarias cantidades mayores de insulina para colocar la glucosa dentro de las célu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440" y="488304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Hasta llegar al momento en que el páncreas no consigue producir ya más tanta insulin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8600"/>
            <a:ext cx="9144000" cy="1556280"/>
          </a:xfrm>
          <a:prstGeom prst="rect">
            <a:avLst/>
          </a:prstGeom>
          <a:solidFill>
            <a:srgbClr val="cc3300"/>
          </a:solidFill>
          <a:ln cap="sq" w="12600">
            <a:solidFill>
              <a:srgbClr val="ff99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Tener esperanza que la gente no engorde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314360"/>
            <a:ext cx="9144000" cy="41158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00"/>
                </a:solidFill>
                <a:latin typeface="Arial"/>
              </a:rPr>
              <a:t>La diabetes comienza muchos años antes de que el azúcar aumente en la sangr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836640"/>
            <a:ext cx="9144000" cy="210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omienza en cualquier edad, cuando la gente hace las tres peores elecci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90760"/>
            <a:ext cx="914400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299120"/>
            <a:ext cx="914400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no realizar actividad fí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307120"/>
            <a:ext cx="914400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alimentarse de forma inadecu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14400" y="582480"/>
            <a:ext cx="914400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A través de los años y de los errores, la insulina va 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aumentando</a:t>
            </a: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 en la sang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Pero su capacidad de colocar la glucosa dentro de las células va 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disminuyendo</a:t>
            </a: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hasta que no funciona ma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17640" y="692280"/>
            <a:ext cx="9144000" cy="3054960"/>
          </a:xfrm>
          <a:prstGeom prst="rect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En este momento, quien aumenta la sangre es la </a:t>
            </a:r>
            <a:r>
              <a:rPr b="1" lang="pt-BR" sz="6600" spc="-1" strike="noStrike">
                <a:solidFill>
                  <a:srgbClr val="ffffff"/>
                </a:solidFill>
                <a:latin typeface="Arial"/>
              </a:rPr>
              <a:t>glucosa</a:t>
            </a: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000" y="3933720"/>
            <a:ext cx="8856720" cy="305424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Y la diabetes, que por largos años nos ha estado acecha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7720" y="2666880"/>
            <a:ext cx="8209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La primera es 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azucar, que dentro del organ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es llamado </a:t>
            </a:r>
            <a:r>
              <a:rPr b="1" i="1" lang="pt-BR" sz="6000" spc="-1" strike="noStrike">
                <a:solidFill>
                  <a:srgbClr val="ffffff"/>
                </a:solidFill>
                <a:latin typeface="Arial"/>
              </a:rPr>
              <a:t>glucos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</a:rPr>
              <a:t>El cuerpo se alimenta, principalmente, de dos substancia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019920"/>
            <a:ext cx="9144000" cy="76428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Viene en los alimento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1547640" cy="50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476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9972720" cy="7508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00720" y="1197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La gente fue creando un mounstro sin darse cuent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-34920" y="0"/>
          <a:ext cx="194292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4920" y="0"/>
                    <a:ext cx="19429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4221000"/>
            <a:ext cx="9144000" cy="359784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46752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TIENE COMO EVITARL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93880" y="-1251000"/>
            <a:ext cx="4038840" cy="3357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303720" y="382680"/>
            <a:ext cx="2819160" cy="838080"/>
          </a:xfrm>
          <a:prstGeom prst="leftRightArrow">
            <a:avLst>
              <a:gd name="adj1" fmla="val 50000"/>
              <a:gd name="adj2" fmla="val 66965"/>
            </a:avLst>
          </a:prstGeom>
          <a:solidFill>
            <a:srgbClr val="cc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Verdana"/>
              </a:rPr>
              <a:t>Cinta me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600" y="1890720"/>
            <a:ext cx="9144000" cy="2698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DIABET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-390600"/>
            <a:ext cx="9144000" cy="7341120"/>
            <a:chOff x="0" y="-390600"/>
            <a:chExt cx="9144000" cy="7341120"/>
          </a:xfrm>
        </p:grpSpPr>
        <p:sp>
          <p:nvSpPr>
            <p:cNvPr id="192" name=""/>
            <p:cNvSpPr/>
            <p:nvPr/>
          </p:nvSpPr>
          <p:spPr>
            <a:xfrm>
              <a:off x="0" y="5394240"/>
              <a:ext cx="9144000" cy="1556280"/>
            </a:xfrm>
            <a:prstGeom prst="rect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7000"/>
              </a:solidFill>
              <a:miter/>
            </a:ln>
            <a:effectLst>
              <a:outerShdw dist="107932" dir="189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OME LAS DECISIONES CORRECTAS!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219000">
              <a:off x="3932280" y="385920"/>
              <a:ext cx="395280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325520" y="-390600"/>
              <a:ext cx="2238480" cy="60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3203640" y="0"/>
            <a:ext cx="3095640" cy="8859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46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95640" y="271440"/>
            <a:ext cx="5329440" cy="4741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0" y="4221000"/>
            <a:ext cx="9109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iabetes se está convirtiendo también en una enfermedad en los niños, porque ellos estan sedentarios, engordando y comiendo muchos alimentos industri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6200" y="1182600"/>
            <a:ext cx="347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Inclusive para los niño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686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0440" y="21337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33"/>
                </a:solidFill>
                <a:latin typeface="Arial"/>
              </a:rPr>
              <a:t>LA SALUD ES EL MAYOR BENEFICIO DE 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9211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da91"/>
                </a:solidFill>
                <a:latin typeface="Arial"/>
              </a:rPr>
              <a:t>Copyright 2005 , RHVIDA CONSULTORIA EN SALUD &amp; SALUD OCUPACIONAL LTDA - Todos los derechos reservados. Ninguna parte de este informe podrá ser reproducido o modificado, sobre cualquier forma o por cualquier medio, electrónico o mecánico, incluyendo fotocopias, grabaciones o cualquier otro medio de almacenar y recuperar información, sin autorización previa por escr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44280"/>
          <a:ext cx="5612040" cy="18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4280"/>
                    <a:ext cx="561204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0" y="0"/>
            <a:ext cx="2286000" cy="838080"/>
          </a:xfrm>
          <a:prstGeom prst="rect">
            <a:avLst/>
          </a:prstGeom>
          <a:solidFill>
            <a:srgbClr val="006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2004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da91"/>
                </a:solidFill>
                <a:latin typeface="Arial"/>
              </a:rPr>
              <a:t>Dra. Maria Aparecida S. Me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da91"/>
                </a:solidFill>
                <a:latin typeface="Arial"/>
              </a:rPr>
              <a:t>rhvida@rhvida.com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201080" y="2798640"/>
          <a:ext cx="194292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01080" y="2798640"/>
                    <a:ext cx="19429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61760" y="76320"/>
            <a:ext cx="73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La segunda sustanc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lang="pt-BR" sz="7200" spc="-1" strike="noStrike">
                <a:solidFill>
                  <a:srgbClr val="ffffff"/>
                </a:solidFill>
                <a:latin typeface="Arial"/>
              </a:rPr>
              <a:t>oxígeno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852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Está en el aire que l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gente respira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809640"/>
            <a:ext cx="9144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El azucar (glucosa) y el oxígeno son transportados por la sangre y distribuidos para todos los organos y células del cuerp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391520" y="0"/>
          <a:ext cx="175248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144440"/>
            <a:ext cx="91440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Y las células transforman el azúcar y el oxígeno 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968640"/>
            <a:ext cx="7921440" cy="155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ff00"/>
                </a:solidFill>
                <a:latin typeface="Arial"/>
              </a:rPr>
              <a:t>E N E R G I 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2320"/>
            <a:ext cx="9144000" cy="111744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Energía para qué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27240"/>
            <a:ext cx="9144000" cy="764280"/>
          </a:xfrm>
          <a:prstGeom prst="rect">
            <a:avLst/>
          </a:pr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Vivir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0" y="2220840"/>
            <a:ext cx="9144000" cy="135504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b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Decidir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(correcto, equivocado, somos huma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76840"/>
            <a:ext cx="9144000" cy="27248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7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aminar, amar, tener hij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sentir hambre, estar alegre o triste, trabajar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Necesitamos de energía  para to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omenzar, terminar, empezar de nue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164360" y="115920"/>
          <a:ext cx="194328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115920"/>
                    <a:ext cx="1943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199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0" y="44280"/>
          <a:ext cx="1752480" cy="56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280"/>
                    <a:ext cx="17524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6000" y="1052640"/>
            <a:ext cx="64584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1773360"/>
            <a:ext cx="64620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1268280"/>
            <a:ext cx="646200" cy="648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gluc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476280"/>
            <a:ext cx="64620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empus Sans ITC"/>
              </a:rPr>
              <a:t>azu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3429000"/>
            <a:ext cx="646200" cy="64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gli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27240" y="4581360"/>
            <a:ext cx="646200" cy="648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mpus Sans ITC"/>
              </a:rPr>
              <a:t>gli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636600">
            <a:off x="3203640" y="2357280"/>
            <a:ext cx="5761080" cy="488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636600">
            <a:off x="6877080" y="3377880"/>
            <a:ext cx="2176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ul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t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636600">
            <a:off x="6829200" y="4637160"/>
            <a:ext cx="196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Transpor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gluco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57240" y="434880"/>
            <a:ext cx="7221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Para que todo esto suceda, el azúcar que está en la sangre necesita pasar dentro de las cél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omo el azúcar no consigue pasar por si mismo, el organismo utiliza un “transportador” llamado INSUL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ffff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844720" y="-1179360"/>
            <a:ext cx="10153440" cy="8929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36360" y="1773360"/>
            <a:ext cx="3528720" cy="3384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Tempus Sans ITC"/>
              </a:rPr>
              <a:t>energí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03640" y="1700280"/>
            <a:ext cx="2952720" cy="3600360"/>
            <a:chOff x="3203640" y="1700280"/>
            <a:chExt cx="2952720" cy="3600360"/>
          </a:xfrm>
        </p:grpSpPr>
        <p:sp>
          <p:nvSpPr>
            <p:cNvPr id="103" name=""/>
            <p:cNvSpPr/>
            <p:nvPr/>
          </p:nvSpPr>
          <p:spPr>
            <a:xfrm>
              <a:off x="5148360" y="292428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48360" y="170028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48360" y="429264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203640" y="2205000"/>
              <a:ext cx="1944720" cy="1224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203640" y="3428640"/>
              <a:ext cx="1944720" cy="1368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76360" y="3429000"/>
              <a:ext cx="1871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78920" y="2781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8623440" y="0"/>
            <a:ext cx="502920" cy="6858000"/>
          </a:xfrm>
          <a:prstGeom prst="can">
            <a:avLst>
              <a:gd name="adj" fmla="val 3611"/>
            </a:avLst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8233560" y="227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sang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04160" y="1413000"/>
            <a:ext cx="252360" cy="2664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875800" y="5950080"/>
            <a:ext cx="252360" cy="2664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20000" y="5950080"/>
            <a:ext cx="252720" cy="2664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0000" y="3573360"/>
            <a:ext cx="252720" cy="2667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12360" y="4581360"/>
            <a:ext cx="252360" cy="2667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0" y="6357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ce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300720" y="189000"/>
            <a:ext cx="2252880" cy="2089080"/>
            <a:chOff x="6300720" y="189000"/>
            <a:chExt cx="2252880" cy="2089080"/>
          </a:xfrm>
        </p:grpSpPr>
        <p:sp>
          <p:nvSpPr>
            <p:cNvPr id="119" name=""/>
            <p:cNvSpPr/>
            <p:nvPr/>
          </p:nvSpPr>
          <p:spPr>
            <a:xfrm>
              <a:off x="7381800" y="189000"/>
              <a:ext cx="1008000" cy="1008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8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empus Sans ITC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300720" y="836640"/>
              <a:ext cx="21621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453440" y="907920"/>
              <a:ext cx="110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sul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td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020000" y="2060640"/>
              <a:ext cx="1439640" cy="169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93080" y="1989000"/>
              <a:ext cx="1439640" cy="169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181080" y="836640"/>
            <a:ext cx="550872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 insulina es una sustancia producida por el organismo y tiene como fin colocar la glucosa dentro de las células, para que éstas puedan producir la energía necesaria para l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7680" y="0"/>
            <a:ext cx="3298680" cy="2127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18320" y="0"/>
            <a:ext cx="504720" cy="22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1754280"/>
            <a:ext cx="345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0" y="6647040"/>
            <a:ext cx="145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 RHVIDA S/C Ltda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2440" y="658332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rhvida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92160" y="1882440"/>
            <a:ext cx="6872760" cy="6269760"/>
            <a:chOff x="2792160" y="1882440"/>
            <a:chExt cx="6872760" cy="626976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 rot="946200">
              <a:off x="3347640" y="2573280"/>
              <a:ext cx="576108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rot="946200">
              <a:off x="6939000" y="3552840"/>
              <a:ext cx="21762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Insulin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Ltda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946200">
              <a:off x="6939000" y="4941360"/>
              <a:ext cx="1960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Arial"/>
                </a:rPr>
                <a:t>Transport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Arial"/>
                </a:rPr>
                <a:t>d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Arial"/>
                </a:rPr>
                <a:t>gluc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62200" y="189000"/>
            <a:ext cx="5041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Y qué es la insul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5:45:38Z</dcterms:created>
  <dc:creator>RHVIDA </dc:creator>
  <dc:description/>
  <dc:language>en-US</dc:language>
  <cp:lastModifiedBy>sirb4n</cp:lastModifiedBy>
  <dcterms:modified xsi:type="dcterms:W3CDTF">2005-09-14T12:56:48Z</dcterms:modified>
  <cp:revision>261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95824012</vt:r8>
  </property>
  <property fmtid="{D5CDD505-2E9C-101B-9397-08002B2CF9AE}" pid="3" name="_AuthorEmail">
    <vt:lpwstr>lduran@phelpsdodgeca.com</vt:lpwstr>
  </property>
  <property fmtid="{D5CDD505-2E9C-101B-9397-08002B2CF9AE}" pid="4" name="_AuthorEmailDisplayName">
    <vt:lpwstr>Durán, Luis</vt:lpwstr>
  </property>
  <property fmtid="{D5CDD505-2E9C-101B-9397-08002B2CF9AE}" pid="5" name="_EmailSubject">
    <vt:lpwstr>PRESENTACION ENTENDIENDO LA DIABETES</vt:lpwstr>
  </property>
  <property fmtid="{D5CDD505-2E9C-101B-9397-08002B2CF9AE}" pid="6" name="_ReviewingToolsShownOnce">
    <vt:lpwstr/>
  </property>
</Properties>
</file>