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14.jpeg" ContentType="image/jpeg"/>
  <Override PartName="/ppt/media/image41.jpeg" ContentType="image/jpeg"/>
  <Override PartName="/ppt/media/image54.png" ContentType="image/png"/>
  <Override PartName="/ppt/media/image13.jpeg" ContentType="image/jpeg"/>
  <Override PartName="/ppt/media/image40.jpeg" ContentType="image/jpeg"/>
  <Override PartName="/ppt/media/image44.png" ContentType="image/png"/>
  <Override PartName="/ppt/media/image2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Andre%20Rieu-Valsa_Nova-SF-2.wav" ContentType="audio/x-wav"/>
  <Override PartName="/ppt/media/image26.jpeg" ContentType="image/jpeg"/>
  <Override PartName="/ppt/media/image42.png" ContentType="image/png"/>
  <Override PartName="/ppt/media/image5.jpeg" ContentType="image/jpeg"/>
  <Override PartName="/ppt/media/image25.jpeg" ContentType="image/jpeg"/>
  <Override PartName="/ppt/media/image2.png" ContentType="image/png"/>
  <Override PartName="/ppt/media/image29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37.jpeg" ContentType="image/jpeg"/>
  <Override PartName="/ppt/media/image30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43.png" ContentType="image/png"/>
  <Override PartName="/ppt/media/image45.jpeg" ContentType="image/jpeg"/>
  <Override PartName="/ppt/media/image8.jpeg" ContentType="image/jpeg"/>
  <Override PartName="/ppt/media/image39.jpeg" ContentType="image/jpeg"/>
  <Override PartName="/ppt/media/image46.png" ContentType="image/png"/>
  <Override PartName="/ppt/media/image48.png" ContentType="image/png"/>
  <Override PartName="/ppt/media/image11.png" ContentType="image/png"/>
  <Override PartName="/ppt/media/image32.jpeg" ContentType="image/jpeg"/>
  <Override PartName="/ppt/media/image51.png" ContentType="image/png"/>
  <Override PartName="/ppt/media/image31.jpeg" ContentType="image/jpeg"/>
  <Override PartName="/ppt/media/image4.jpeg" ContentType="image/jpeg"/>
  <Override PartName="/ppt/media/image53.png" ContentType="image/png"/>
  <Override PartName="/ppt/media/image35.jpeg" ContentType="image/jpeg"/>
  <Override PartName="/ppt/media/image10.png" ContentType="image/png"/>
  <Override PartName="/ppt/media/image47.png" ContentType="image/png"/>
  <Override PartName="/ppt/media/image9.png" ContentType="image/png"/>
  <Override PartName="/ppt/media/image7.jpeg" ContentType="image/jpeg"/>
  <Override PartName="/ppt/media/image3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69E7-16E7-4377-AA19-1186DDCE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C7E7-621E-4FEF-BB69-FDA5BFD8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C30E-512D-4F25-B3A0-B254FF59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6DAB-9A82-4605-98A1-78829F2A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1524-624C-4938-AD52-1F5C2C6D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CD89-D819-4FBC-BC6F-3EF8B092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B23B-A4A8-4CC5-941D-C9AF80F4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E164-06A7-44A7-B72A-B635B6B0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60FB-8F95-46FF-A6BD-4C3B6C97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7658-0E6A-40D0-AEE7-0B46939B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63AF-C13D-4377-AC6E-657E2D27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6BE4-6492-4C26-B9AA-D92C4421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9E16-B64C-4115-9185-944629CD4AA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audio" Target="../media/Andre%20Rieu-Valsa_Nova-SF-2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5176800" cy="31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6000" spc="-1" strike="noStrike">
                <a:solidFill>
                  <a:srgbClr val="a9a9a9"/>
                </a:solidFill>
                <a:latin typeface="Lucida Sans Unicode"/>
              </a:rPr>
              <a:t>Ron Mueck</a:t>
            </a:r>
            <a:r>
              <a:rPr b="0" lang="pt-BR" sz="6000" spc="-1" strike="noStrike">
                <a:solidFill>
                  <a:srgbClr val="a9a9a9"/>
                </a:solidFill>
                <a:latin typeface="Lucida Sans Unicode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Escultor australiano procedente de la producción de efectos especiales para el cine y especializado en modelado de figuras humanas hiperrealis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Nació en Melbourne, Austrália, en 1958.</a:t>
            </a:r>
            <a:r>
              <a:rPr b="0" lang="pt-BR" sz="2000" spc="-1" strike="noStrike">
                <a:solidFill>
                  <a:srgbClr val="a4a4a4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1" descr=""/>
          <p:cNvPicPr/>
          <p:nvPr/>
        </p:nvPicPr>
        <p:blipFill>
          <a:blip r:embed="rId1"/>
          <a:stretch/>
        </p:blipFill>
        <p:spPr>
          <a:xfrm>
            <a:off x="6575400" y="0"/>
            <a:ext cx="2206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99960" y="361800"/>
            <a:ext cx="4772160" cy="612792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53966" dir="2700000" blurRad="0" rotWithShape="0">
              <a:srgbClr val="b1b1b1"/>
            </a:outerShdw>
          </a:effectLst>
        </p:spPr>
      </p:pic>
      <p:sp>
        <p:nvSpPr>
          <p:cNvPr id="66" name=""/>
          <p:cNvSpPr/>
          <p:nvPr/>
        </p:nvSpPr>
        <p:spPr>
          <a:xfrm>
            <a:off x="5867280" y="2624040"/>
            <a:ext cx="276696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“</a:t>
            </a: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Mujer embarazada” – </a:t>
            </a: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1997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2,52 m de al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295280" y="331920"/>
            <a:ext cx="6553440" cy="491472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53966" dir="2700000" blurRad="0" rotWithShape="0">
              <a:srgbClr val="b1b1b1"/>
            </a:outerShdw>
          </a:effectLst>
        </p:spPr>
      </p:pic>
      <p:sp>
        <p:nvSpPr>
          <p:cNvPr id="68" name=""/>
          <p:cNvSpPr/>
          <p:nvPr/>
        </p:nvSpPr>
        <p:spPr>
          <a:xfrm>
            <a:off x="120600" y="5581800"/>
            <a:ext cx="88660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Miren bien los detalles, principalmente el cabello y la expre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De acuerdo con la crítica alemana, uno de los más fascinantes trabajos sobre la belleza de la maternidad. Ella se encuentra exhausta y vulner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untitled18zy" descr=""/>
          <p:cNvPicPr/>
          <p:nvPr/>
        </p:nvPicPr>
        <p:blipFill>
          <a:blip r:embed="rId2"/>
          <a:stretch/>
        </p:blipFill>
        <p:spPr>
          <a:xfrm>
            <a:off x="547560" y="747720"/>
            <a:ext cx="8047080" cy="536112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990720" y="152280"/>
            <a:ext cx="7377120" cy="553248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73" name=""/>
          <p:cNvSpPr/>
          <p:nvPr/>
        </p:nvSpPr>
        <p:spPr>
          <a:xfrm>
            <a:off x="2971800" y="5867280"/>
            <a:ext cx="3651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“</a:t>
            </a: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Mujer vieja en la cama”,</a:t>
            </a: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38080" y="380880"/>
            <a:ext cx="7653600" cy="574056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53966" dir="2700000" blurRad="0" rotWithShape="0">
              <a:srgbClr val="b1b1b1"/>
            </a:outerShdw>
          </a:effectLst>
        </p:spPr>
      </p:pic>
      <p:sp>
        <p:nvSpPr>
          <p:cNvPr id="75" name=""/>
          <p:cNvSpPr/>
          <p:nvPr/>
        </p:nvSpPr>
        <p:spPr>
          <a:xfrm>
            <a:off x="3505320" y="6232680"/>
            <a:ext cx="26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“</a:t>
            </a: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En la cama”,</a:t>
            </a: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 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914400" y="730080"/>
            <a:ext cx="7315200" cy="488340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53966" dir="2700000" blurRad="0" rotWithShape="0">
              <a:srgbClr val="b1b1b1"/>
            </a:outerShdw>
          </a:effectLst>
        </p:spPr>
      </p:pic>
      <p:sp>
        <p:nvSpPr>
          <p:cNvPr id="77" name=""/>
          <p:cNvSpPr/>
          <p:nvPr/>
        </p:nvSpPr>
        <p:spPr>
          <a:xfrm>
            <a:off x="324000" y="588636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Foto que nos dá una noción más concreta de la dimensión de la escult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62120" y="888840"/>
            <a:ext cx="7619760" cy="508032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3520" y="420840"/>
            <a:ext cx="3662280" cy="514332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53966" dir="2700000" blurRad="0" rotWithShape="0">
              <a:srgbClr val="b1b1b1"/>
            </a:outerShdw>
          </a:effectLst>
        </p:spPr>
      </p:pic>
      <p:pic>
        <p:nvPicPr>
          <p:cNvPr id="80" name="" descr=""/>
          <p:cNvPicPr/>
          <p:nvPr/>
        </p:nvPicPr>
        <p:blipFill>
          <a:blip r:embed="rId3">
            <a:lum contrast="18000"/>
          </a:blip>
          <a:srcRect l="9118" t="0" r="5246" b="0"/>
          <a:stretch/>
        </p:blipFill>
        <p:spPr>
          <a:xfrm>
            <a:off x="5199120" y="1373040"/>
            <a:ext cx="3367080" cy="502632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53966" dir="2700000" blurRad="0" rotWithShape="0">
              <a:srgbClr val="b1b1b1"/>
            </a:outerShdw>
          </a:effectLst>
        </p:spPr>
      </p:pic>
      <p:sp>
        <p:nvSpPr>
          <p:cNvPr id="81" name=""/>
          <p:cNvSpPr/>
          <p:nvPr/>
        </p:nvSpPr>
        <p:spPr>
          <a:xfrm>
            <a:off x="2905200" y="5910120"/>
            <a:ext cx="20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a9a9a9"/>
                </a:solidFill>
                <a:latin typeface="Lucida Sans Unicode"/>
              </a:rPr>
              <a:t> “</a:t>
            </a:r>
            <a:r>
              <a:rPr b="0" lang="pt-BR" sz="2400" spc="-1" strike="noStrike">
                <a:solidFill>
                  <a:srgbClr val="a9a9a9"/>
                </a:solidFill>
                <a:latin typeface="Lucida Sans Unicode"/>
              </a:rPr>
              <a:t>Pinocchi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31800" y="285840"/>
            <a:ext cx="4390920" cy="625140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53966" dir="2700000" blurRad="0" rotWithShape="0">
              <a:srgbClr val="b1b1b1"/>
            </a:outerShdw>
          </a:effectLst>
        </p:spPr>
      </p:pic>
      <p:sp>
        <p:nvSpPr>
          <p:cNvPr id="44" name=""/>
          <p:cNvSpPr/>
          <p:nvPr/>
        </p:nvSpPr>
        <p:spPr>
          <a:xfrm>
            <a:off x="5410080" y="5324400"/>
            <a:ext cx="342900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“</a:t>
            </a: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Mujer sentada” - </a:t>
            </a: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 1996 1,76m de altura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08720" y="1125360"/>
            <a:ext cx="30258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a9a9a9"/>
                </a:solidFill>
                <a:latin typeface="Lucida Sans Unicode"/>
              </a:rPr>
              <a:t>Puedes creer que esta señora es una escultu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3" name="Andre%20Rieu-Valsa_Nova-SF-2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403360" y="333360"/>
            <a:ext cx="4388040" cy="612000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105520" y="2057400"/>
            <a:ext cx="35812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“</a:t>
            </a: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hombre grande” –</a:t>
            </a: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 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1,89 m de al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91960" y="307800"/>
            <a:ext cx="4345200" cy="622008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53966" dir="2700000" blurRad="0" rotWithShape="0">
              <a:srgbClr val="b1b1b1"/>
            </a:outerShdw>
          </a:effectLst>
        </p:spPr>
      </p:pic>
      <p:sp>
        <p:nvSpPr>
          <p:cNvPr id="85" name=""/>
          <p:cNvSpPr/>
          <p:nvPr/>
        </p:nvSpPr>
        <p:spPr>
          <a:xfrm>
            <a:off x="5029200" y="4419720"/>
            <a:ext cx="373392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Según la crítica, este es, dentro de las obras de Mueck, el más perfecto retrato de la soledad humana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27280" y="333360"/>
            <a:ext cx="4032360" cy="604836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3680" y="184320"/>
            <a:ext cx="8755200" cy="650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3680" y="184320"/>
            <a:ext cx="8755200" cy="650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93680" y="184320"/>
            <a:ext cx="8755200" cy="650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219320" y="609480"/>
            <a:ext cx="6743520" cy="513108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96" name=""/>
          <p:cNvSpPr/>
          <p:nvPr/>
        </p:nvSpPr>
        <p:spPr>
          <a:xfrm>
            <a:off x="2971800" y="608004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“</a:t>
            </a: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Autoretrat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3680" y="184320"/>
            <a:ext cx="8755200" cy="650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04920" y="1676520"/>
            <a:ext cx="4733640" cy="365760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257800" y="1371600"/>
            <a:ext cx="3510000" cy="468000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530680" y="2209680"/>
            <a:ext cx="36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“</a:t>
            </a: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Madre e hijo”,</a:t>
            </a: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 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92840" y="4146480"/>
            <a:ext cx="2946240" cy="14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Según la crítica neoyorkina, esta escultura es un tierno retrato del nacimiento de una criatura como jamás se vió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12840" y="299880"/>
            <a:ext cx="5236920" cy="623124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53966" dir="2700000" blurRad="0" rotWithShape="0">
              <a:srgbClr val="b1b1b1"/>
            </a:outerShdw>
          </a:effectLst>
        </p:spPr>
      </p:pic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143000" y="515880"/>
            <a:ext cx="7086600" cy="552780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53966" dir="2700000" blurRad="0" rotWithShape="0">
              <a:srgbClr val="b1b1b1"/>
            </a:outerShdw>
          </a:effectLst>
        </p:spPr>
      </p:pic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90720" y="1143000"/>
            <a:ext cx="7140600" cy="456552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107932" dir="2700000" blurRad="0" rotWithShape="0">
              <a:srgbClr val="b1b1b1"/>
            </a:outerShdw>
          </a:effectLst>
        </p:spPr>
      </p:pic>
    </p:spTree>
  </p:cSld>
  <p:transition spd="slow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016520" y="511200"/>
            <a:ext cx="4520880" cy="580392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53966" dir="2700000" blurRad="0" rotWithShape="0">
              <a:srgbClr val="b1b1b1"/>
            </a:outerShdw>
          </a:effectLst>
        </p:spPr>
      </p:pic>
      <p:sp>
        <p:nvSpPr>
          <p:cNvPr id="109" name=""/>
          <p:cNvSpPr/>
          <p:nvPr/>
        </p:nvSpPr>
        <p:spPr>
          <a:xfrm>
            <a:off x="0" y="303228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“</a:t>
            </a: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Hombre en el bote” -</a:t>
            </a: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 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mueck" descr=""/>
          <p:cNvPicPr/>
          <p:nvPr/>
        </p:nvPicPr>
        <p:blipFill>
          <a:blip r:embed="rId2"/>
          <a:stretch/>
        </p:blipFill>
        <p:spPr>
          <a:xfrm>
            <a:off x="1676520" y="533520"/>
            <a:ext cx="5756040" cy="579744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 spd="slow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rcRect l="0" t="4107" r="0" b="3771"/>
          <a:stretch/>
        </p:blipFill>
        <p:spPr>
          <a:xfrm>
            <a:off x="1160640" y="485640"/>
            <a:ext cx="6781680" cy="489924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53966" dir="2700000" blurRad="0" rotWithShape="0">
              <a:srgbClr val="b1b1b1"/>
            </a:outerShdw>
          </a:effectLst>
        </p:spPr>
      </p:pic>
      <p:sp>
        <p:nvSpPr>
          <p:cNvPr id="112" name=""/>
          <p:cNvSpPr/>
          <p:nvPr/>
        </p:nvSpPr>
        <p:spPr>
          <a:xfrm>
            <a:off x="682560" y="5575320"/>
            <a:ext cx="7672320" cy="9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“</a:t>
            </a: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Hombre muerto”</a:t>
            </a: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 (silicona y tinta acrílica),  199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Obra que generó polémica, por ser extremadamente perfecta en los mínimos detalles de la mue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619760" cy="5207040"/>
          </a:xfrm>
          <a:prstGeom prst="rect">
            <a:avLst/>
          </a:prstGeom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50" name=""/>
          <p:cNvSpPr/>
          <p:nvPr/>
        </p:nvSpPr>
        <p:spPr>
          <a:xfrm>
            <a:off x="1522440" y="5943600"/>
            <a:ext cx="6249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a9a9a9"/>
                </a:solidFill>
                <a:latin typeface="Lucida Sans Unicode"/>
              </a:rPr>
              <a:t>Impresionante: estas 2 viejitas son escultu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rcRect l="0" t="0" r="7143" b="0"/>
          <a:stretch/>
        </p:blipFill>
        <p:spPr>
          <a:xfrm>
            <a:off x="1600200" y="990720"/>
            <a:ext cx="6477120" cy="429732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107932" dir="2700000" blurRad="0" rotWithShape="0">
              <a:srgbClr val="b1b1b1"/>
            </a:outerShdw>
          </a:effectLst>
        </p:spPr>
      </p:pic>
      <p:sp>
        <p:nvSpPr>
          <p:cNvPr id="114" name=""/>
          <p:cNvSpPr/>
          <p:nvPr/>
        </p:nvSpPr>
        <p:spPr>
          <a:xfrm>
            <a:off x="1347840" y="577692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 </a:t>
            </a: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“</a:t>
            </a: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Bebé grande”,</a:t>
            </a: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  1997 - 0,87cm de alt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990720" y="380880"/>
            <a:ext cx="3043080" cy="594360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107932" dir="2700000" blurRad="0" rotWithShape="0">
              <a:srgbClr val="b1b1b1"/>
            </a:outerShdw>
          </a:effectLst>
        </p:spPr>
      </p:pic>
      <p:sp>
        <p:nvSpPr>
          <p:cNvPr id="116" name=""/>
          <p:cNvSpPr/>
          <p:nvPr/>
        </p:nvSpPr>
        <p:spPr>
          <a:xfrm>
            <a:off x="4876920" y="3581280"/>
            <a:ext cx="388620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a9a9a9"/>
                </a:solidFill>
                <a:latin typeface="Lucida Sans Unicode"/>
              </a:rPr>
              <a:t>El nombre de la obra es una perfecta metáfora para el desconcierto o la negación del propio cuerpo adolesc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15000" y="190512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Fanstama”,</a:t>
            </a:r>
            <a:r>
              <a:rPr b="0" lang="pt-BR" sz="1600" spc="-1" strike="noStrike">
                <a:solidFill>
                  <a:srgbClr val="a9a9a9"/>
                </a:solidFill>
                <a:latin typeface="Lucida Sans Unicode"/>
              </a:rPr>
              <a:t>  </a:t>
            </a: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2,19 m de al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066680" y="609480"/>
            <a:ext cx="6804000" cy="418644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53966" dir="2700000" blurRad="0" rotWithShape="0">
              <a:srgbClr val="b1b1b1"/>
            </a:outerShdw>
          </a:effectLst>
        </p:spPr>
      </p:pic>
      <p:sp>
        <p:nvSpPr>
          <p:cNvPr id="119" name=""/>
          <p:cNvSpPr/>
          <p:nvPr/>
        </p:nvSpPr>
        <p:spPr>
          <a:xfrm>
            <a:off x="1905120" y="5410080"/>
            <a:ext cx="5105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Mueck</a:t>
            </a: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 dá los retoques finales a </a:t>
            </a: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“Hombre salvaje” </a:t>
            </a: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para la Bienal de Venec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rt-Mueck-03G" descr=""/>
          <p:cNvPicPr/>
          <p:nvPr/>
        </p:nvPicPr>
        <p:blipFill>
          <a:blip r:embed="rId2"/>
          <a:stretch/>
        </p:blipFill>
        <p:spPr>
          <a:xfrm>
            <a:off x="685800" y="203040"/>
            <a:ext cx="4762440" cy="635004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21" name=""/>
          <p:cNvSpPr/>
          <p:nvPr/>
        </p:nvSpPr>
        <p:spPr>
          <a:xfrm>
            <a:off x="6262200" y="2604960"/>
            <a:ext cx="202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“</a:t>
            </a: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Hombre salvaj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3,80m</a:t>
            </a: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 de al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24480" y="5587920"/>
            <a:ext cx="419076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Impresionantes detalles: las uñas perfectas, manchas, venas, pelos y arrug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5430" t="0" r="0" b="0"/>
          <a:stretch/>
        </p:blipFill>
        <p:spPr>
          <a:xfrm>
            <a:off x="2671920" y="299880"/>
            <a:ext cx="6145200" cy="472140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53966" dir="2700000" blurRad="0" rotWithShape="0">
              <a:srgbClr val="b1b1b1"/>
            </a:outerShdw>
          </a:effectLst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28680" y="3232080"/>
            <a:ext cx="3938400" cy="326880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71785" dir="2700000" blurRad="0" rotWithShape="0">
              <a:srgbClr val="b1b1b1"/>
            </a:outerShdw>
          </a:effectLst>
        </p:spPr>
      </p:pic>
      <p:sp>
        <p:nvSpPr>
          <p:cNvPr id="125" name=""/>
          <p:cNvSpPr/>
          <p:nvPr/>
        </p:nvSpPr>
        <p:spPr>
          <a:xfrm>
            <a:off x="0" y="587520"/>
            <a:ext cx="279576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a9a9a9"/>
                </a:solidFill>
                <a:latin typeface="Lucida Sans Unicode"/>
              </a:rPr>
              <a:t>“</a:t>
            </a:r>
            <a:r>
              <a:rPr b="0" lang="pt-BR" sz="2400" spc="-1" strike="noStrike">
                <a:solidFill>
                  <a:srgbClr val="a9a9a9"/>
                </a:solidFill>
                <a:latin typeface="Lucida Sans Unicode"/>
              </a:rPr>
              <a:t>Chico”,</a:t>
            </a: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Medid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4,90m x 4,90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x 2,50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384280" y="314280"/>
            <a:ext cx="4489560" cy="622152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107932" dir="2700000" blurRad="0" rotWithShape="0">
              <a:srgbClr val="b1b1b1"/>
            </a:outerShdw>
          </a:effectLst>
        </p:spPr>
      </p:pic>
    </p:spTree>
  </p:cSld>
  <p:transition spd="slow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715000" y="2666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a9a9a9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a9a9a9"/>
                </a:solidFill>
                <a:latin typeface="Times New Roman"/>
              </a:rPr>
              <a:t>Couple”, 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61800" y="263520"/>
            <a:ext cx="4743720" cy="632448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53966" dir="2700000" blurRad="0" rotWithShape="0">
              <a:srgbClr val="b1b1b1"/>
            </a:outerShdw>
          </a:effectLst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wo_Women_in_progress" descr=""/>
          <p:cNvPicPr/>
          <p:nvPr/>
        </p:nvPicPr>
        <p:blipFill>
          <a:blip r:embed="rId2"/>
          <a:stretch/>
        </p:blipFill>
        <p:spPr>
          <a:xfrm>
            <a:off x="1523880" y="685800"/>
            <a:ext cx="6019920" cy="486576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wo_Women_View" descr=""/>
          <p:cNvPicPr/>
          <p:nvPr/>
        </p:nvPicPr>
        <p:blipFill>
          <a:blip r:embed="rId2"/>
          <a:stretch/>
        </p:blipFill>
        <p:spPr>
          <a:xfrm>
            <a:off x="2286000" y="546120"/>
            <a:ext cx="4572000" cy="576576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752480" y="304920"/>
            <a:ext cx="5737320" cy="427824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12600" dir="0" blurRad="0" rotWithShape="0">
              <a:srgbClr val="b1b1b1"/>
            </a:outerShdw>
          </a:effectLst>
        </p:spPr>
      </p:pic>
      <p:sp>
        <p:nvSpPr>
          <p:cNvPr id="54" name=""/>
          <p:cNvSpPr/>
          <p:nvPr/>
        </p:nvSpPr>
        <p:spPr>
          <a:xfrm>
            <a:off x="1066680" y="5029200"/>
            <a:ext cx="68137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RON MUECK, en su estudio con una maqueta de “Mujer embarazada” – </a:t>
            </a:r>
            <a:r>
              <a:rPr b="0" lang="pt-BR" sz="1800" spc="-1" strike="noStrike" u="sng">
                <a:solidFill>
                  <a:srgbClr val="a9a9a9"/>
                </a:solidFill>
                <a:uFillTx/>
                <a:latin typeface="Lucida Sans Unicode"/>
              </a:rPr>
              <a:t>pequeña y en barro</a:t>
            </a: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 – una de las faces en todas sus grandes obr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Como en la Grecia antigua, enfatiza en todas ellas la presencia física, la robustez y el pe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3680" y="184320"/>
            <a:ext cx="8755200" cy="650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84120" y="209520"/>
            <a:ext cx="4111560" cy="306720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53966" dir="2700000" blurRad="0" rotWithShape="0">
              <a:srgbClr val="b1b1b1"/>
            </a:outerShdw>
          </a:effectLst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876920" y="1447920"/>
            <a:ext cx="4114800" cy="308772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53966" dir="2700000" blurRad="0" rotWithShape="0">
              <a:srgbClr val="b1b1b1"/>
            </a:outerShdw>
          </a:effectLst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71520" y="3517920"/>
            <a:ext cx="4200480" cy="318780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53966" dir="2700000" blurRad="0" rotWithShape="0">
              <a:srgbClr val="b1b1b1"/>
            </a:outerShdw>
          </a:effectLst>
        </p:spPr>
      </p:pic>
      <p:sp>
        <p:nvSpPr>
          <p:cNvPr id="59" name=""/>
          <p:cNvSpPr/>
          <p:nvPr/>
        </p:nvSpPr>
        <p:spPr>
          <a:xfrm>
            <a:off x="4732200" y="68580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Trabajando en su obra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6070680"/>
            <a:ext cx="45450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Detalles en una de las manos, uñas, pliegues.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4800600"/>
            <a:ext cx="33829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Mueck inserta los cabellos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3809880" cy="5076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716360" y="836640"/>
            <a:ext cx="3810240" cy="5076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895480" y="6172200"/>
            <a:ext cx="33829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Su obra terminada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8T07:29:58Z</dcterms:created>
  <dc:creator>Sonia Maria Sirimarco</dc:creator>
  <dc:description/>
  <dc:language>en-US</dc:language>
  <cp:lastModifiedBy>Z</cp:lastModifiedBy>
  <dcterms:modified xsi:type="dcterms:W3CDTF">2007-01-21T15:29:42Z</dcterms:modified>
  <cp:revision>84</cp:revision>
  <dc:subject>Ron Mueck - Austrália</dc:subject>
  <dc:title>Apresentação do PowerPoint</dc:title>
</cp:coreProperties>
</file>