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61E-BD54-4ECA-BD6E-27EA5908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151-90B0-48E3-B71D-4477D842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196-39A2-4810-BFC7-F6FDBA2C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CED-C792-4141-906F-E3CBD930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E1FB-F92A-4C1F-8373-D2004126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03F-E761-4442-B2CE-CE93D895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7E3-5324-42E4-8311-F7BA0F73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025-3083-4267-9743-E57BDECC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4FFC-D934-48F1-AE34-BFBDEE60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2620-920A-4954-9576-0625B497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D4B-E369-413C-A073-9B640ACC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CC6-37E4-4842-AD59-24E5BEAE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1C0B-2A4A-4B16-AA99-2D6D801159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POLICIA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BUSCA INMIGRANT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UNA MUJER FELI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ENA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SÍ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E GUST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VE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L  MERIDIA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4007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70028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L BESO MAS GUARRO QUE JAMAS SE HA D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9016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OMBR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L FI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L CAB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638280"/>
            <a:ext cx="82803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RSEVER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NSIG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028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876320" y="571680"/>
            <a:ext cx="5391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-GAY-E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acción de Al-queda más peligrosa aún. Atacan siempre por la retaguardia del enemigo y como te descuides lo mas mínimo, te borran el punto de mi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48080" y="166680"/>
            <a:ext cx="40478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ócate los 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69608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QUERÉIS                     LONGANIZA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00000" y="-33480"/>
            <a:ext cx="6891480" cy="68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ECHAMOS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98000" cy="609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IEMPO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UN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MANECER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COJONU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4526280" cy="6435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516720" y="5877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fa/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826920" y="765000"/>
            <a:ext cx="339408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Swis721 Blk BT"/>
              </a:rPr>
              <a:t>¡Aqui lo tienes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Swis721 Blk BT"/>
              <a:ea typeface="Swis721 Blk B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¿Y EL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CURA QUE DIRÁ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47640" y="115920"/>
            <a:ext cx="579456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IMPRE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SENTABL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ALVAR AL SOLDA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RYA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08:56:52Z</dcterms:created>
  <dc:creator>Usuario</dc:creator>
  <dc:description/>
  <dc:language>en-US</dc:language>
  <cp:lastModifiedBy>Usuario</cp:lastModifiedBy>
  <dcterms:modified xsi:type="dcterms:W3CDTF">2010-01-07T08:57:17Z</dcterms:modified>
  <cp:revision>1</cp:revision>
  <dc:subject/>
  <dc:title>Diapositiva 1</dc:title>
</cp:coreProperties>
</file>