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FD7-CE83-4E5F-BE32-03484E08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EA8-E18C-4539-A8FD-FA146735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F5F-6132-4EF5-93D3-2204251B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134-E982-4F65-921E-4121B8CA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25A-2BAC-4C11-AC98-EE07D1A4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E51-84E9-43A8-B72A-089FDED5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31A-61EA-46CA-A1D7-B6B4A913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F30-6E91-4BDD-BF7C-A44FEDC8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A91-0D88-41E2-8AA7-F30C4F43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97D-81EC-4135-99ED-84838264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FF2-7D0D-43E2-85D1-CB982E4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B29-8DCD-4DFA-AFE3-C474EB97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CE8D-D502-45C7-B103-B947578A1C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POLICI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BUSCA INMIGRAN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UNA MUJER FELI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EN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Í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E GUST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L  MERIDI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400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70028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L BESO MAS GUARRO QUE JAMAS SE HA D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MBR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L F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L CAB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638280"/>
            <a:ext cx="82803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SEVER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SIG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028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76320" y="571680"/>
            <a:ext cx="5391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-GAY-ED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acción de Al-queda más peligrosa aún. Atacan siempre por la retaguardia del enemigo y como te descuides lo mas mínimo, te borran el punto de mi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48080" y="166680"/>
            <a:ext cx="40478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ócate los 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69608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QUERÉIS                     LONGANIZA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-33480"/>
            <a:ext cx="6891480" cy="68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ECHAMOS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98000" cy="609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IEMPO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UN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MANEC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OJONU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526280" cy="6435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16720" y="5877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fa/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826920" y="765000"/>
            <a:ext cx="339408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Swis721 Blk BT"/>
              </a:rPr>
              <a:t>¡Aqui lo tienes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Swis721 Blk BT"/>
              <a:ea typeface="Swis721 Blk B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¿Y EL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URA QUE DIRÁ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79456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IMPRE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ENTAB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ALVAR AL SOLDAD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Y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8:56:52Z</dcterms:created>
  <dc:creator>Usuario</dc:creator>
  <dc:description/>
  <dc:language>en-US</dc:language>
  <cp:lastModifiedBy>Usuario</cp:lastModifiedBy>
  <dcterms:modified xsi:type="dcterms:W3CDTF">2010-01-07T08:57:17Z</dcterms:modified>
  <cp:revision>1</cp:revision>
  <dc:subject/>
  <dc:title>Diapositiva 1</dc:title>
</cp:coreProperties>
</file>