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150%20Alleluiaw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596-6B55-45BD-A1C7-A2D8E80D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122-9615-4025-AC1C-2B1E3799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B52-FD23-4317-A86E-D3E8FE70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73D-8D2B-462F-BC9B-8AE5A205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1B5-FA38-4B10-949B-EC6EC03A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7E3-4D45-4131-A622-94979873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97B-6DAF-4C34-B387-750473C2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745-8CDA-4F88-BD50-07F08A12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534-367C-4A7A-90C7-C8158925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741-D863-4783-916C-149F81F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67F-70D4-42E1-8663-DCD567ED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C3A-CD95-4A6C-9710-91372352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05B7-BFD2-4BF2-BD17-C20B1C21E6DF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150%20Alleluia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10280" y="17928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e11709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e11709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e11709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270828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0a0aff"/>
                </a:solidFill>
                <a:latin typeface="Comic Sans MS"/>
              </a:rPr>
              <a:t>III Domingo Tiempo Ordin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06880" y="4149720"/>
            <a:ext cx="620964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0a0aff"/>
                </a:solidFill>
                <a:latin typeface="Comic Sans MS"/>
              </a:rPr>
              <a:t>24 de enero de 2010</a:t>
            </a:r>
            <a:r>
              <a:rPr b="0" i="1" lang="ca-ES" sz="4800" spc="-1" strike="noStrike">
                <a:solidFill>
                  <a:srgbClr val="0a0a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791320"/>
            <a:ext cx="706752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Música: Salmo 150  sinagoga hebre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  <p:sndAc>
      <p:stSnd>
        <p:snd r:embed="rId2" name="s150%20Allelui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9fd"/>
            </a:gs>
            <a:gs pos="100000">
              <a:srgbClr val="11d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52280"/>
            <a:ext cx="8610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mic Sans MS"/>
              </a:rPr>
              <a:t>Lc 1:1-4; 4:14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a que muchos se han propuesto componer un relato de los acontecimientos que se han cumplido entre nosotros,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gún nos lo transmitieron quienes desde el principio fueron testigos oculares y ministros de la palabra,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 ha parecido también a mí, después de haber investigado cuidadosamente todo lo sucedido desde el principio, escribirte una exposición ordenada, ilustre Teófilo,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ara que llegues a comprender la autenticidad de las enseñanzas que has recibido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Jesús, lleno de la fuerza del Espíritu, regresó a Galilea, y su fama se extendió por toda la comarca.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5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señaba en las sinagogas y todo el mundo hablaba bien de él.</a:t>
            </a:r>
            <a:br>
              <a:rPr sz="2400"/>
            </a:b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6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legó a Nazaret, donde se había criado. Según su costumbre, entró en la sinagoga un sábado y se levantó para hacer la lectura.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7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 entregaron el libro del profeta Isaías y, al desenrollarlo, encontró el pasaje donde está escrit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9fd"/>
            </a:gs>
            <a:gs pos="100000">
              <a:srgbClr val="11d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3222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mic Sans MS"/>
              </a:rPr>
              <a:t>Lc 1:1-4; 4:14-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8</a:t>
            </a: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l espíritu del Señor está sobre mí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que me ha ungido para anunciar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buena noticia a los pobres;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 ha enviado a proclamar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liberación a los cautivos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dar vista a los ciegos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ibertar a los oprimidos</a:t>
            </a:r>
            <a:br>
              <a:rPr sz="2400"/>
            </a:br>
            <a:r>
              <a:rPr b="0" i="1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9</a:t>
            </a: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y a proclamar un año de gracia del Señ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br>
              <a:rPr sz="2400"/>
            </a:b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0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spués enrolló el libro, se lo dio al ayudante y se sentó. Todos los que estaban en la sinagoga tenían sus ojos clavados en él.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Y comenzó a decirles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y se ha cumplido el pasaje de la Escritura que acabáis de escucha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4520" y="76320"/>
            <a:ext cx="532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Nazaret, Basílica de la Anu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2920" y="336600"/>
            <a:ext cx="8893080" cy="64972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h 8,2-4a.5-6.8-1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sí lo hizo el sacerdote Esdras. El día primero del séptimo mes trajo el libro de la ley y ante la asamblea compuesta por hombres, mujeres y cuantos tenían uso de razón,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 estuvo leyendo en la plaza de la Puerta de las Aguas desde la mañana hasta el mediodía. Todo el pueblo, hombres, mujeres y cuantos tenían uso de razón, escuchaban con atención la lectura del libro de la ley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dras, el escriba, estaba de pie sobre un estrado de madera levantado al efecto..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dras abrió el libro a la vista de todo el pueblo, pues estaba más alto que todos, y, al abrirlo, todo el pueblo se puso en pie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dras bendijo al Señor, el gran Dios; y todo el pueblo, alzando las manos, respondió: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Amén, amén. Después se postraron y, rostro en tierra, adoraron al Señor..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eían el libro de la ley de Dios clara y distintamente explicando el sentido, para que pudieran entender lo que se leía.</a:t>
            </a:r>
            <a:br>
              <a:rPr sz="2000"/>
            </a:b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l gobernador Nehemías, Esdras el sacerdote-escriba y los levitas que instruían al pueblo, dijeron a todos: Este día está consagrado al Señor, nuestro Dios: no estéis tristes ni lloréis. Porque todo el pueblo lloraba al oír las palabras de la ley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ehemías añadió: –Id a casa y comed manjares apetitosos, bebed licores dulces y mandad su porción a los que no han preparado nada, pues este día ha sido consagrado a nuestro Señor. ¡No os aflijáis, que el Señor se alegra al veros fuertes!</a:t>
            </a:r>
            <a:r>
              <a:rPr b="1" lang="ca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»</a:t>
            </a:r>
            <a:r>
              <a:rPr b="1" lang="ca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8419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0c1dff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0c1dff"/>
                </a:solidFill>
                <a:latin typeface="Comic Sans MS"/>
              </a:rPr>
              <a:t>Salmo 18</a:t>
            </a:r>
            <a:r>
              <a:rPr b="0" lang="ca-ES" sz="2400" spc="-1" strike="noStrike">
                <a:solidFill>
                  <a:srgbClr val="0c1d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2320" y="1542960"/>
            <a:ext cx="515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e11709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e11709"/>
                </a:solidFill>
                <a:latin typeface="Comic Sans MS"/>
              </a:rPr>
              <a:t>Tus palabras, Señor,</a:t>
            </a:r>
            <a:br>
              <a:rPr sz="4000"/>
            </a:br>
            <a:r>
              <a:rPr b="1" i="1" lang="ca-ES" sz="4000" spc="-1" strike="noStrike">
                <a:solidFill>
                  <a:srgbClr val="e11709"/>
                </a:solidFill>
                <a:latin typeface="Comic Sans MS"/>
              </a:rPr>
              <a:t>son espíritu y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2000" y="3429000"/>
            <a:ext cx="678276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La ley del Señor es perfect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es descanso para el al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El mandato del Señor es firme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hace sabio al ignora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3720" y="1143000"/>
            <a:ext cx="515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333399"/>
                </a:solidFill>
                <a:latin typeface="Comic Sans MS"/>
              </a:rPr>
              <a:t>Tus palabras, Señor,</a:t>
            </a:r>
            <a:br>
              <a:rPr sz="4000"/>
            </a:br>
            <a:r>
              <a:rPr b="1" i="1" lang="ca-ES" sz="4000" spc="-1" strike="noStrike">
                <a:solidFill>
                  <a:srgbClr val="333399"/>
                </a:solidFill>
                <a:latin typeface="Comic Sans MS"/>
              </a:rPr>
              <a:t>son espíritu y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505320"/>
            <a:ext cx="85345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e11709"/>
                </a:solidFill>
                <a:latin typeface="Comic Sans MS"/>
              </a:rPr>
              <a:t>Los preceptos el Señor son recto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e11709"/>
                </a:solidFill>
                <a:latin typeface="Comic Sans MS"/>
              </a:rPr>
              <a:t>dan alegría al corazón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e11709"/>
                </a:solidFill>
                <a:latin typeface="Comic Sans MS"/>
              </a:rPr>
              <a:t>el mandamiento del Señor es diáfan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e11709"/>
                </a:solidFill>
                <a:latin typeface="Comic Sans MS"/>
              </a:rPr>
              <a:t>da luz a los oj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720" y="838080"/>
            <a:ext cx="515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aff22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Tus palabras, Señor,</a:t>
            </a:r>
            <a:br>
              <a:rPr sz="4000"/>
            </a:b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son espíritu y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29000"/>
            <a:ext cx="8534520" cy="20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a0a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4cfffa"/>
                </a:solidFill>
                <a:latin typeface="Comic Sans MS"/>
              </a:rPr>
              <a:t>El temor del Señor es puro;</a:t>
            </a:r>
            <a:br>
              <a:rPr sz="3200"/>
            </a:br>
            <a:r>
              <a:rPr b="1" i="1" lang="ca-ES" sz="3200" spc="-1" strike="noStrike">
                <a:solidFill>
                  <a:srgbClr val="4cfffa"/>
                </a:solidFill>
                <a:latin typeface="Comic Sans MS"/>
              </a:rPr>
              <a:t>estable para siempre;</a:t>
            </a:r>
            <a:br>
              <a:rPr sz="3200"/>
            </a:br>
            <a:r>
              <a:rPr b="1" i="1" lang="ca-ES" sz="3200" spc="-1" strike="noStrike">
                <a:solidFill>
                  <a:srgbClr val="4cfffa"/>
                </a:solidFill>
                <a:latin typeface="Comic Sans MS"/>
              </a:rPr>
              <a:t>los juicios del Señor son ver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4cfffa"/>
                </a:solidFill>
                <a:latin typeface="Comic Sans MS"/>
              </a:rPr>
              <a:t>Todos justos por ig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3720" y="838080"/>
            <a:ext cx="515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333399"/>
                </a:solidFill>
                <a:latin typeface="Comic Sans MS"/>
              </a:rPr>
              <a:t>Tus palabras, Señor,</a:t>
            </a:r>
            <a:br>
              <a:rPr sz="4000"/>
            </a:br>
            <a:r>
              <a:rPr b="1" i="1" lang="ca-ES" sz="4000" spc="-1" strike="noStrike">
                <a:solidFill>
                  <a:srgbClr val="333399"/>
                </a:solidFill>
                <a:latin typeface="Comic Sans MS"/>
              </a:rPr>
              <a:t>son espíritu y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812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cc3300"/>
                </a:solidFill>
                <a:latin typeface="Comic Sans MS"/>
              </a:rPr>
              <a:t>Que te agraden mis palabras y mis pensamiento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cc3300"/>
                </a:solidFill>
                <a:latin typeface="Comic Sans MS"/>
              </a:rPr>
              <a:t>oh Señor, roca mía, mi redento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057400"/>
            <a:ext cx="8077320" cy="4667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C 12, 12-30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l mismo modo que el cuerpo es uno y tiene muchos miembros, y todos los miembros del cuerpo, por muchos que sean, no forman más que un cuerpo, así también Cristo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orque todos nosotros, judíos o no judíos, esclavos o libres, hemos recibido un mismo Espíritu en el bautismo, a fin de formar un solo cuerpo; y todos hemos bebido también del mismo Espíritu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4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or su parte, el cuerpo no está compuesto de un solo miembro, sino de muchos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5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i el pie dijera: «Como no soy mano, no soy del cuerpo», ¿dejaría por esto de pertenecer al cuerpo?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si el oído dijera: «Como no soy ojo, no soy del cuerpo», ¿dejaría por esto de pertenecer al cuerpo?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7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todo el cuerpo fuera ojo, ¿cómo podría oír? Y si todo fuera oído, ¿cómo podría oler?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on razón Dios ha dispuesto cada uno de los miembros en el cuerpo como le pareció conveniente. 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9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ues si todo se redujese a un miembro, ¿dónde estaría el cuerpo? </a:t>
            </a:r>
            <a:r>
              <a:rPr b="1" lang="ca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../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26028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iudad de Cor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74674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omingos 2-8 Tiempo Ordinario</a:t>
            </a:r>
            <a:br>
              <a:rPr sz="2800"/>
            </a:br>
            <a:r>
              <a:rPr b="1" lang="es-ES" sz="2400" spc="-1" strike="noStrike">
                <a:solidFill>
                  <a:srgbClr val="0066cc"/>
                </a:solidFill>
                <a:latin typeface="Arial"/>
              </a:rPr>
              <a:t>Todos los ciclos comienzan por esta carta</a:t>
            </a:r>
            <a:br>
              <a:rPr sz="28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clo A : 1Corintios – Capítulos  1- 4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clo B : 1Corintios – Capítulos  6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iclo C : 1Corintios – Capítulos 12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333360"/>
            <a:ext cx="8686800" cy="558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r eso, aunque hay muchos miembros, el cuerpo es uno.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el ojo no puede decir a la mano: «No te necesito»; ni la cabeza puede decir a los pies: «No os necesito».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l contrario, los miembros del cuerpo que consideramos más débiles son los más necesarios,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a los que consideramos menos nobles, los rodeamos de especial cuidado. Asimismo tratamos con mayor decoro a los que consideramos más indecorosos,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4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ientras que los que son presentables no lo necesitan. Dios mismo distribuyó el cuerpo dando mayor honor a lo que era menos noble,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5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que no haya divisiones en el cuerpo, sino que todos los miembros se preocupen los unos de?e los otros.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6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¿Que un miembro sufre? Todos los miembros sufren con él. ¿Que un miembro es agasajado? Todos los miembros comparten su alegría.</a:t>
            </a:r>
            <a:br>
              <a:rPr sz="1800"/>
            </a:b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7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hora bien, vosotros formáis el cuerpo de Cristo y cada uno por su parte es un miembro.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8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Y Dios ha asignado a cada uno un puesto en la Iglesia: primero están los apóstoles, después los que hablan en nombre de Dios, a continuación los encargados de enseñar, luego vienen los que tienen el don de hacer milagros, de curar enfermedades, de asistir a los necesitados, de dirigir la comunidad, de hablar un lenguaje misterioso.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9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¿Son todos apóstoles? ¿Hablan todos en nombre de Dios? ¿Enseñan todos? ¿Tienen todos el poder de hacer milagros, 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 el don de curar enfermedades? ¿Hablan todos un lenguaje misterioso, o pueden todos interpretar ese lenguaj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640080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iudad de Cor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72400" y="1828800"/>
            <a:ext cx="8076600" cy="186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000" spc="-1" strike="noStrike">
                <a:solidFill>
                  <a:srgbClr val="cc3300"/>
                </a:solidFill>
                <a:latin typeface="Comic Sans MS"/>
              </a:rPr>
              <a:t>Aleluya     Lucas 4,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a0aff"/>
                </a:solidFill>
                <a:latin typeface="Comic Sans MS"/>
              </a:rPr>
              <a:t>El Señor me ha enviado </a:t>
            </a:r>
            <a:br>
              <a:rPr sz="3200"/>
            </a:br>
            <a:r>
              <a:rPr b="1" i="1" lang="ca-ES" sz="3200" spc="-1" strike="noStrike">
                <a:solidFill>
                  <a:srgbClr val="0a0aff"/>
                </a:solidFill>
                <a:latin typeface="Comic Sans MS"/>
              </a:rPr>
              <a:t>a dar la Buena Notici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a0aff"/>
                </a:solidFill>
                <a:latin typeface="Comic Sans MS"/>
              </a:rPr>
              <a:t>a proclamar la liberación de los cau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0:23:43Z</dcterms:created>
  <dc:creator>JOAN RAMIREZ</dc:creator>
  <dc:description/>
  <dc:language>en-US</dc:language>
  <cp:lastModifiedBy>Usuario</cp:lastModifiedBy>
  <dcterms:modified xsi:type="dcterms:W3CDTF">2010-01-19T21:58:47Z</dcterms:modified>
  <cp:revision>21</cp:revision>
  <dc:subject/>
  <dc:title>Presentación de PowerPoint</dc:title>
</cp:coreProperties>
</file>