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s150%20Alleluiaw.wav" ContentType="audio/x-wav"/>
  <Override PartName="/ppt/media/image8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2658-010E-491E-818D-E9EA4C311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6C02-F281-42A0-8614-D58EC8412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18E8-02DA-4381-A2EF-969399C88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93AA-61B2-4359-8AB0-999787E12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386F-39ED-4727-89A1-15931B6D6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3130-D547-47B8-89C5-620515C55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461D-D11E-46B6-A634-B1CA2884B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6E5D-22CE-4813-BAD1-16E6778F4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6C54-DE9C-4D95-96DB-1CC6AB28B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1F81-150E-45CA-B1BC-1596B756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6179-80ED-446C-8E07-2F082D3F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553D-8517-4F66-8659-9446D92E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9C1F5-8524-4AAF-8DAC-109AC04EFBD5}" type="slidenum"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150%20Alleluiaw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010280" y="179280"/>
            <a:ext cx="18622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e11709"/>
                </a:solidFill>
                <a:latin typeface="Comic Sans MS"/>
              </a:rPr>
              <a:t> </a:t>
            </a:r>
            <a:r>
              <a:rPr b="1" i="1" lang="ca-ES" sz="3200" spc="-1" strike="noStrike">
                <a:solidFill>
                  <a:srgbClr val="e11709"/>
                </a:solidFill>
                <a:latin typeface="Comic Sans MS"/>
              </a:rPr>
              <a:t>Ciclo</a:t>
            </a:r>
            <a:r>
              <a:rPr b="1" lang="ca-ES" sz="3200" spc="-1" strike="noStrike">
                <a:solidFill>
                  <a:srgbClr val="e11709"/>
                </a:solidFill>
                <a:latin typeface="Comic Sans MS"/>
              </a:rPr>
              <a:t> C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2708280"/>
            <a:ext cx="8077320" cy="7034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000" spc="-1" strike="noStrike">
                <a:solidFill>
                  <a:srgbClr val="0a0aff"/>
                </a:solidFill>
                <a:latin typeface="Comic Sans MS"/>
              </a:rPr>
              <a:t>III Domingo Tiempo Ordinar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06880" y="4149720"/>
            <a:ext cx="6209640" cy="825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800" spc="-1" strike="noStrike">
                <a:solidFill>
                  <a:srgbClr val="0a0aff"/>
                </a:solidFill>
                <a:latin typeface="Comic Sans MS"/>
              </a:rPr>
              <a:t> </a:t>
            </a:r>
            <a:r>
              <a:rPr b="1" i="1" lang="ca-ES" sz="4800" spc="-1" strike="noStrike">
                <a:solidFill>
                  <a:srgbClr val="0a0aff"/>
                </a:solidFill>
                <a:latin typeface="Comic Sans MS"/>
              </a:rPr>
              <a:t>24 de enero de 2010</a:t>
            </a:r>
            <a:r>
              <a:rPr b="0" i="1" lang="ca-ES" sz="4800" spc="-1" strike="noStrike">
                <a:solidFill>
                  <a:srgbClr val="0a0aff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5791320"/>
            <a:ext cx="7067520" cy="550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Música: Salmo 150  sinagoga hebrea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  <p:sndAc>
      <p:stSnd>
        <p:snd r:embed="rId2" name="s150%20Alleluia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f9fd"/>
            </a:gs>
            <a:gs pos="100000">
              <a:srgbClr val="11d8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04920" y="152280"/>
            <a:ext cx="861048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mic Sans MS"/>
              </a:rPr>
              <a:t>Lc 1:1-4; 4:14-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0" i="1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a que muchos se han propuesto componer un relato de los acontecimientos que se han cumplido entre nosotros, 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egún nos lo transmitieron quienes desde el principio fueron testigos oculares y ministros de la palabra, 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me ha parecido también a mí, después de haber investigado cuidadosamente todo lo sucedido desde el principio, escribirte una exposición ordenada, ilustre Teófilo, 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para que llegues a comprender la autenticidad de las enseñanzas que has recibido.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14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Jesús, lleno de la fuerza del Espíritu, regresó a Galilea, y su fama se extendió por toda la comarca. 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15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Enseñaba en las sinagogas y todo el mundo hablaba bien de él.</a:t>
            </a:r>
            <a:br>
              <a:rPr sz="2400"/>
            </a:br>
            <a:r>
              <a:rPr b="0" lang="es-ES" sz="24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16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Llegó a Nazaret, donde se había criado. Según su costumbre, entró en la sinagoga un sábado y se levantó para hacer la lectura. 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17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Le entregaron el libro del profeta Isaías y, al desenrollarlo, encontró el pasaje donde está escrito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f9fd"/>
            </a:gs>
            <a:gs pos="100000">
              <a:srgbClr val="11d8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04920" y="322200"/>
            <a:ext cx="861048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mic Sans MS"/>
              </a:rPr>
              <a:t>Lc 1:1-4; 4:14-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18</a:t>
            </a:r>
            <a:r>
              <a:rPr b="0" i="1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El espíritu del Señor está sobre mí,</a:t>
            </a:r>
            <a:br>
              <a:rPr sz="2400"/>
            </a:br>
            <a:r>
              <a:rPr b="0" i="1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orque me ha ungido para anunciar</a:t>
            </a:r>
            <a:br>
              <a:rPr sz="2400"/>
            </a:br>
            <a:r>
              <a:rPr b="0" i="1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 buena noticia a los pobres;</a:t>
            </a:r>
            <a:br>
              <a:rPr sz="2400"/>
            </a:br>
            <a:r>
              <a:rPr b="0" i="1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e ha enviado a proclamar</a:t>
            </a:r>
            <a:br>
              <a:rPr sz="2400"/>
            </a:br>
            <a:r>
              <a:rPr b="0" i="1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 liberación a los cautivos</a:t>
            </a:r>
            <a:br>
              <a:rPr sz="2400"/>
            </a:br>
            <a:r>
              <a:rPr b="0" i="1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 dar vista a los ciegos,</a:t>
            </a:r>
            <a:br>
              <a:rPr sz="2400"/>
            </a:br>
            <a:r>
              <a:rPr b="0" i="1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libertar a los oprimidos</a:t>
            </a:r>
            <a:br>
              <a:rPr sz="2400"/>
            </a:br>
            <a:r>
              <a:rPr b="0" i="1" lang="es-ES" sz="24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19</a:t>
            </a:r>
            <a:r>
              <a:rPr b="0" i="1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y a proclamar un año de gracia del Señor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br>
              <a:rPr sz="2400"/>
            </a:br>
            <a:r>
              <a:rPr b="0" lang="es-ES" sz="24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0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espués enrolló el libro, se lo dio al ayudante y se sentó. Todos los que estaban en la sinagoga tenían sus ojos clavados en él. 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1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Y comenzó a decirles: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–</a:t>
            </a:r>
            <a:r>
              <a:rPr b="0" i="1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y se ha cumplido el pasaje de la Escritura que acabáis de escuchar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44520" y="76320"/>
            <a:ext cx="5325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mic Sans MS"/>
              </a:rPr>
              <a:t>Nazaret, Basílica de la Anunci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42920" y="336600"/>
            <a:ext cx="8893080" cy="6497280"/>
          </a:xfrm>
          <a:prstGeom prst="rect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h 8,2-4a.5-6.8-10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sí lo hizo el sacerdote Esdras. El día primero del séptimo mes trajo el libro de la ley y ante la asamblea compuesta por hombres, mujeres y cuantos tenían uso de razón, </a:t>
            </a:r>
            <a:r>
              <a:rPr b="1" lang="es-ES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lo estuvo leyendo en la plaza de la Puerta de las Aguas desde la mañana hasta el mediodía. Todo el pueblo, hombres, mujeres y cuantos tenían uso de razón, escuchaban con atención la lectura del libro de la ley. </a:t>
            </a:r>
            <a:r>
              <a:rPr b="1" lang="es-ES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4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dras, el escriba, estaba de pie sobre un estrado de madera levantado al efecto... </a:t>
            </a:r>
            <a:r>
              <a:rPr b="1" lang="es-ES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Esdras abrió el libro a la vista de todo el pueblo, pues estaba más alto que todos, y, al abrirlo, todo el pueblo se puso en pie. </a:t>
            </a:r>
            <a:r>
              <a:rPr b="1" lang="es-ES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Esdras bendijo al Señor, el gran Dios; y todo el pueblo, alzando las manos, respondió: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Amén, amén. Después se postraron y, rostro en tierra, adoraron al Señor... </a:t>
            </a:r>
            <a:r>
              <a:rPr b="1" lang="es-ES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8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Leían el libro de la ley de Dios clara y distintamente explicando el sentido, para que pudieran entender lo que se leía.</a:t>
            </a:r>
            <a:br>
              <a:rPr sz="2000"/>
            </a:br>
            <a:r>
              <a:rPr b="1" lang="es-ES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9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El gobernador Nehemías, Esdras el sacerdote-escriba y los levitas que instruían al pueblo, dijeron a todos: Este día está consagrado al Señor, nuestro Dios: no estéis tristes ni lloréis. Porque todo el pueblo lloraba al oír las palabras de la ley. </a:t>
            </a:r>
            <a:r>
              <a:rPr b="1" lang="es-ES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10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Nehemías añadió: –Id a casa y comed manjares apetitosos, bebed licores dulces y mandad su porción a los que no han preparado nada, pues este día ha sido consagrado a nuestro Señor. ¡No os aflijáis, que el Señor se alegra al veros fuertes!</a:t>
            </a:r>
            <a:r>
              <a:rPr b="1" lang="ca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»</a:t>
            </a:r>
            <a:r>
              <a:rPr b="1" lang="ca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0"/>
            <a:ext cx="384192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6600" spc="-1" strike="noStrike">
                <a:solidFill>
                  <a:srgbClr val="0c1dff"/>
                </a:solidFill>
                <a:latin typeface="Comic Sans MS"/>
              </a:rPr>
              <a:t> </a:t>
            </a:r>
            <a:r>
              <a:rPr b="1" i="1" lang="ca-ES" sz="4800" spc="-1" strike="noStrike">
                <a:solidFill>
                  <a:srgbClr val="0c1dff"/>
                </a:solidFill>
                <a:latin typeface="Comic Sans MS"/>
              </a:rPr>
              <a:t>Salmo 18</a:t>
            </a:r>
            <a:r>
              <a:rPr b="0" lang="ca-ES" sz="2400" spc="-1" strike="noStrike">
                <a:solidFill>
                  <a:srgbClr val="0c1d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2320" y="1542960"/>
            <a:ext cx="515196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600" spc="-1" strike="noStrike">
                <a:solidFill>
                  <a:srgbClr val="e11709"/>
                </a:solidFill>
                <a:latin typeface="Comic Sans MS"/>
              </a:rPr>
              <a:t> </a:t>
            </a:r>
            <a:r>
              <a:rPr b="1" i="1" lang="ca-ES" sz="4000" spc="-1" strike="noStrike">
                <a:solidFill>
                  <a:srgbClr val="e11709"/>
                </a:solidFill>
                <a:latin typeface="Comic Sans MS"/>
              </a:rPr>
              <a:t>Tus palabras, Señor,</a:t>
            </a:r>
            <a:br>
              <a:rPr sz="4000"/>
            </a:br>
            <a:r>
              <a:rPr b="1" i="1" lang="ca-ES" sz="4000" spc="-1" strike="noStrike">
                <a:solidFill>
                  <a:srgbClr val="e11709"/>
                </a:solidFill>
                <a:latin typeface="Comic Sans MS"/>
              </a:rPr>
              <a:t>son espíritu y vid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72000" y="3429000"/>
            <a:ext cx="678276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600" spc="-1" strike="noStrike">
                <a:solidFill>
                  <a:srgbClr val="ffffff"/>
                </a:solidFill>
                <a:latin typeface="Comic Sans MS"/>
              </a:rPr>
              <a:t>La ley del Señor es perfecta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600" spc="-1" strike="noStrike">
                <a:solidFill>
                  <a:srgbClr val="ffffff"/>
                </a:solidFill>
                <a:latin typeface="Comic Sans MS"/>
              </a:rPr>
              <a:t>es descanso para el alm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600" spc="-1" strike="noStrike">
                <a:solidFill>
                  <a:srgbClr val="ffffff"/>
                </a:solidFill>
                <a:latin typeface="Comic Sans MS"/>
              </a:rPr>
              <a:t>El mandato del Señor es firme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600" spc="-1" strike="noStrike">
                <a:solidFill>
                  <a:srgbClr val="ffffff"/>
                </a:solidFill>
                <a:latin typeface="Comic Sans MS"/>
              </a:rPr>
              <a:t>hace sabio al ignorant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03720" y="1143000"/>
            <a:ext cx="515196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600" spc="-1" strike="noStrike">
                <a:solidFill>
                  <a:srgbClr val="0a0aff"/>
                </a:solidFill>
                <a:latin typeface="Comic Sans MS"/>
              </a:rPr>
              <a:t> </a:t>
            </a:r>
            <a:r>
              <a:rPr b="1" i="1" lang="ca-ES" sz="4000" spc="-1" strike="noStrike">
                <a:solidFill>
                  <a:srgbClr val="333399"/>
                </a:solidFill>
                <a:latin typeface="Comic Sans MS"/>
              </a:rPr>
              <a:t>Tus palabras, Señor,</a:t>
            </a:r>
            <a:br>
              <a:rPr sz="4000"/>
            </a:br>
            <a:r>
              <a:rPr b="1" i="1" lang="ca-ES" sz="4000" spc="-1" strike="noStrike">
                <a:solidFill>
                  <a:srgbClr val="333399"/>
                </a:solidFill>
                <a:latin typeface="Comic Sans MS"/>
              </a:rPr>
              <a:t>son espíritu y vid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3505320"/>
            <a:ext cx="8534520" cy="192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000" spc="-1" strike="noStrike">
                <a:solidFill>
                  <a:srgbClr val="e11709"/>
                </a:solidFill>
                <a:latin typeface="Comic Sans MS"/>
              </a:rPr>
              <a:t>Los preceptos el Señor son rectos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000" spc="-1" strike="noStrike">
                <a:solidFill>
                  <a:srgbClr val="e11709"/>
                </a:solidFill>
                <a:latin typeface="Comic Sans MS"/>
              </a:rPr>
              <a:t>dan alegría al corazón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000" spc="-1" strike="noStrike">
                <a:solidFill>
                  <a:srgbClr val="e11709"/>
                </a:solidFill>
                <a:latin typeface="Comic Sans MS"/>
              </a:rPr>
              <a:t>el mandamiento del Señor es diáfano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000" spc="-1" strike="noStrike">
                <a:solidFill>
                  <a:srgbClr val="e11709"/>
                </a:solidFill>
                <a:latin typeface="Comic Sans MS"/>
              </a:rPr>
              <a:t>da luz a los ojo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720" y="838080"/>
            <a:ext cx="515196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600" spc="-1" strike="noStrike">
                <a:solidFill>
                  <a:srgbClr val="0aff22"/>
                </a:solidFill>
                <a:latin typeface="Comic Sans MS"/>
              </a:rPr>
              <a:t> </a:t>
            </a:r>
            <a:r>
              <a:rPr b="1" i="1" lang="ca-ES" sz="4000" spc="-1" strike="noStrike">
                <a:solidFill>
                  <a:srgbClr val="ffffff"/>
                </a:solidFill>
                <a:latin typeface="Comic Sans MS"/>
              </a:rPr>
              <a:t>Tus palabras, Señor,</a:t>
            </a:r>
            <a:br>
              <a:rPr sz="4000"/>
            </a:br>
            <a:r>
              <a:rPr b="1" i="1" lang="ca-ES" sz="4000" spc="-1" strike="noStrike">
                <a:solidFill>
                  <a:srgbClr val="ffffff"/>
                </a:solidFill>
                <a:latin typeface="Comic Sans MS"/>
              </a:rPr>
              <a:t>son espíritu y vid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3429000"/>
            <a:ext cx="8534520" cy="2043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a0a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200" spc="-1" strike="noStrike">
                <a:solidFill>
                  <a:srgbClr val="4cfffa"/>
                </a:solidFill>
                <a:latin typeface="Comic Sans MS"/>
              </a:rPr>
              <a:t>El temor del Señor es puro;</a:t>
            </a:r>
            <a:br>
              <a:rPr sz="3200"/>
            </a:br>
            <a:r>
              <a:rPr b="1" i="1" lang="ca-ES" sz="3200" spc="-1" strike="noStrike">
                <a:solidFill>
                  <a:srgbClr val="4cfffa"/>
                </a:solidFill>
                <a:latin typeface="Comic Sans MS"/>
              </a:rPr>
              <a:t>estable para siempre;</a:t>
            </a:r>
            <a:br>
              <a:rPr sz="3200"/>
            </a:br>
            <a:r>
              <a:rPr b="1" i="1" lang="ca-ES" sz="3200" spc="-1" strike="noStrike">
                <a:solidFill>
                  <a:srgbClr val="4cfffa"/>
                </a:solidFill>
                <a:latin typeface="Comic Sans MS"/>
              </a:rPr>
              <a:t>los juicios del Señor son verda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200" spc="-1" strike="noStrike">
                <a:solidFill>
                  <a:srgbClr val="4cfffa"/>
                </a:solidFill>
                <a:latin typeface="Comic Sans MS"/>
              </a:rPr>
              <a:t>Todos justos por igu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03720" y="838080"/>
            <a:ext cx="515196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600" spc="-1" strike="noStrike">
                <a:solidFill>
                  <a:srgbClr val="0a0aff"/>
                </a:solidFill>
                <a:latin typeface="Comic Sans MS"/>
              </a:rPr>
              <a:t> </a:t>
            </a:r>
            <a:r>
              <a:rPr b="1" i="1" lang="ca-ES" sz="4000" spc="-1" strike="noStrike">
                <a:solidFill>
                  <a:srgbClr val="333399"/>
                </a:solidFill>
                <a:latin typeface="Comic Sans MS"/>
              </a:rPr>
              <a:t>Tus palabras, Señor,</a:t>
            </a:r>
            <a:br>
              <a:rPr sz="4000"/>
            </a:br>
            <a:r>
              <a:rPr b="1" i="1" lang="ca-ES" sz="4000" spc="-1" strike="noStrike">
                <a:solidFill>
                  <a:srgbClr val="333399"/>
                </a:solidFill>
                <a:latin typeface="Comic Sans MS"/>
              </a:rPr>
              <a:t>son espíritu y vid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3048120"/>
            <a:ext cx="883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700" spc="-1" strike="noStrike">
                <a:solidFill>
                  <a:srgbClr val="cc3300"/>
                </a:solidFill>
                <a:latin typeface="Comic Sans MS"/>
              </a:rPr>
              <a:t>Que te agraden mis palabras y mis pensamientos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700" spc="-1" strike="noStrike">
                <a:solidFill>
                  <a:srgbClr val="cc3300"/>
                </a:solidFill>
                <a:latin typeface="Comic Sans MS"/>
              </a:rPr>
              <a:t>oh Señor, roca mía, mi redentor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57200" y="2057400"/>
            <a:ext cx="8077320" cy="46677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1C 12, 12-30 </a:t>
            </a:r>
            <a:r>
              <a:rPr b="1" lang="es-ES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12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Del mismo modo que el cuerpo es uno y tiene muchos miembros, y todos los miembros del cuerpo, por muchos que sean, no forman más que un cuerpo, así también Cristo. </a:t>
            </a:r>
            <a:r>
              <a:rPr b="1" lang="es-ES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13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Porque todos nosotros, judíos o no judíos, esclavos o libres, hemos recibido un mismo Espíritu en el bautismo, a fin de formar un solo cuerpo; y todos hemos bebido también del mismo Espíritu. </a:t>
            </a:r>
            <a:r>
              <a:rPr b="1" lang="es-ES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14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Por su parte, el cuerpo no está compuesto de un solo miembro, sino de muchos. </a:t>
            </a:r>
            <a:r>
              <a:rPr b="1" lang="es-ES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15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Si el pie dijera: «Como no soy mano, no soy del cuerpo», ¿dejaría por esto de pertenecer al cuerpo? </a:t>
            </a:r>
            <a:r>
              <a:rPr b="1" lang="es-ES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16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Y si el oído dijera: «Como no soy ojo, no soy del cuerpo», ¿dejaría por esto de pertenecer al cuerpo? </a:t>
            </a:r>
            <a:r>
              <a:rPr b="1" lang="es-ES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17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 todo el cuerpo fuera ojo, ¿cómo podría oír? Y si todo fuera oído, ¿cómo podría oler? </a:t>
            </a:r>
            <a:r>
              <a:rPr b="1" lang="es-ES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18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Con razón Dios ha dispuesto cada uno de los miembros en el cuerpo como le pareció conveniente. </a:t>
            </a:r>
            <a:r>
              <a:rPr b="1" lang="es-ES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19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Pues si todo se redujese a un miembro, ¿dónde estaría el cuerpo? </a:t>
            </a:r>
            <a:r>
              <a:rPr b="1" lang="ca-E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.../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516720" y="260280"/>
            <a:ext cx="2209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Ciudad de Cori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74674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Domingos 2-8 Tiempo Ordinario</a:t>
            </a:r>
            <a:br>
              <a:rPr sz="2800"/>
            </a:br>
            <a:r>
              <a:rPr b="1" lang="es-ES" sz="2400" spc="-1" strike="noStrike">
                <a:solidFill>
                  <a:srgbClr val="0066cc"/>
                </a:solidFill>
                <a:latin typeface="Arial"/>
              </a:rPr>
              <a:t>Todos los ciclos comienzan por esta carta</a:t>
            </a:r>
            <a:br>
              <a:rPr sz="28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iclo A : 1Corintios – Capítulos  1- 4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iclo B : 1Corintios – Capítulos  6-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iclo C : 1Corintios – Capítulos 12-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50920" y="333360"/>
            <a:ext cx="8686800" cy="5580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0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Por eso, aunque hay muchos miembros, el cuerpo es uno. 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1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Y el ojo no puede decir a la mano: «No te necesito»; ni la cabeza puede decir a los pies: «No os necesito». 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l contrario, los miembros del cuerpo que consideramos más débiles son los más necesarios, 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3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y a los que consideramos menos nobles, los rodeamos de especial cuidado. Asimismo tratamos con mayor decoro a los que consideramos más indecorosos, 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4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mientras que los que son presentables no lo necesitan. Dios mismo distribuyó el cuerpo dando mayor honor a lo que era menos noble, 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5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para que no haya divisiones en el cuerpo, sino que todos los miembros se preocupen los unos de?e los otros. 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6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¿Que un miembro sufre? Todos los miembros sufren con él. ¿Que un miembro es agasajado? Todos los miembros comparten su alegría.</a:t>
            </a:r>
            <a:br>
              <a:rPr sz="1800"/>
            </a:br>
            <a:r>
              <a:rPr b="1" lang="es-E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7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hora bien, vosotros formáis el cuerpo de Cristo y cada uno por su parte es un miembro. 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8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Y Dios ha asignado a cada uno un puesto en la Iglesia: primero están los apóstoles, después los que hablan en nombre de Dios, a continuación los encargados de enseñar, luego vienen los que tienen el don de hacer milagros, de curar enfermedades, de asistir a los necesitados, de dirigir la comunidad, de hablar un lenguaje misterioso. 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9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¿Son todos apóstoles? ¿Hablan todos en nombre de Dios? ¿Enseñan todos? ¿Tienen todos el poder de hacer milagros, 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0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o el don de curar enfermedades? ¿Hablan todos un lenguaje misterioso, o pueden todos interpretar ese lenguaj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00800" y="6400800"/>
            <a:ext cx="2362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Ciudad de Cori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72400" y="1828800"/>
            <a:ext cx="8076600" cy="1861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ca-ES" sz="2000" spc="-1" strike="noStrike">
                <a:solidFill>
                  <a:srgbClr val="cc3300"/>
                </a:solidFill>
                <a:latin typeface="Comic Sans MS"/>
              </a:rPr>
              <a:t>Aleluya     Lucas 4,18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200" spc="-1" strike="noStrike">
                <a:solidFill>
                  <a:srgbClr val="0a0aff"/>
                </a:solidFill>
                <a:latin typeface="Comic Sans MS"/>
              </a:rPr>
              <a:t>El Señor me ha enviado </a:t>
            </a:r>
            <a:br>
              <a:rPr sz="3200"/>
            </a:br>
            <a:r>
              <a:rPr b="1" i="1" lang="ca-ES" sz="3200" spc="-1" strike="noStrike">
                <a:solidFill>
                  <a:srgbClr val="0a0aff"/>
                </a:solidFill>
                <a:latin typeface="Comic Sans MS"/>
              </a:rPr>
              <a:t>a dar la Buena Noticia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200" spc="-1" strike="noStrike">
                <a:solidFill>
                  <a:srgbClr val="0a0aff"/>
                </a:solidFill>
                <a:latin typeface="Comic Sans MS"/>
              </a:rPr>
              <a:t>a proclamar la liberación de los cautiv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20:23:43Z</dcterms:created>
  <dc:creator>JOAN RAMIREZ</dc:creator>
  <dc:description/>
  <dc:language>en-US</dc:language>
  <cp:lastModifiedBy>Usuario</cp:lastModifiedBy>
  <dcterms:modified xsi:type="dcterms:W3CDTF">2010-01-19T21:58:47Z</dcterms:modified>
  <cp:revision>21</cp:revision>
  <dc:subject/>
  <dc:title>Presentación de PowerPoint</dc:title>
</cp:coreProperties>
</file>