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2C4-DEE4-4D49-8D0E-9418ED6A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641844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76000" y="3845160"/>
            <a:ext cx="641844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380-F06F-4CFF-94BB-98C5CCD7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4960" y="206064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76000" y="384516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64960" y="384516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A90-A68F-43A9-B967-B1157479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20664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6080" y="2060640"/>
            <a:ext cx="20664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16160" y="2060640"/>
            <a:ext cx="20664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76000" y="3845160"/>
            <a:ext cx="20664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6080" y="3845160"/>
            <a:ext cx="20664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16160" y="3845160"/>
            <a:ext cx="20664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1572-DFC0-48F2-A73D-7BC9F7EC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76000" y="206064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477-BDC1-4B22-8CFD-6F4E8F78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9CF-077A-4B4D-9481-4A820A2A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313200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64960" y="2060640"/>
            <a:ext cx="313200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7C3-B5D0-448F-97F4-149A4328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61C-DABD-4215-93F3-5EA83B2A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581-91F0-4DCA-827E-0B1401C1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4960" y="2060640"/>
            <a:ext cx="313200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76000" y="384516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ED22-A891-4CA0-AE59-BB4FBF0C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313200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4960" y="206064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64960" y="384516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0C5-940B-41E1-A65C-A4688C45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4960" y="2060640"/>
            <a:ext cx="313200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76000" y="3845160"/>
            <a:ext cx="6418440" cy="16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DE3-7E08-42D9-9A14-026DA305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76000" y="206064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onotype Corsi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onotype Corsi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36E2-24EC-426C-8953-E9F49F87E880}" type="slidenum">
              <a:rPr b="0" lang="en-US" sz="1400" spc="-1" strike="noStrike">
                <a:solidFill>
                  <a:srgbClr val="808080"/>
                </a:solidFill>
                <a:latin typeface="Monotype Corsi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20800">
            <a:off x="3058920" y="1628280"/>
            <a:ext cx="4619520" cy="217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5b7900"/>
                  </a:outerShdw>
                </a:effectLst>
                <a:latin typeface="Monotype Corsiva"/>
              </a:rPr>
              <a:t>Gimnasia Cerebral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5b79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609300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Monotype Corsiva"/>
              </a:rPr>
              <a:t>Click para avan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654000">
            <a:off x="3131640" y="4076280"/>
            <a:ext cx="468180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2398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476000" y="159696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C13R70 D14 D3 V3R4N0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3574B4 3N L4 PL4Y4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0853RV4ND0 A D05 CH1C45 8R1NC4ND0 3N 14 4R3N4,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357484N 7R484J484ND0 MUCH0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C0N57RUY3ND0 UN C4571LL0 D3 4R3N4 C0N 70RR35, P454D1Z05 0CUL705 Y PU3N735.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43280" y="907920"/>
            <a:ext cx="323064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0800000">
            <a:off x="2916000" y="5373720"/>
            <a:ext cx="323028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CU4ND0 357484N 4C484ND0 V1N0 UN4 0L4 D357RUY3ND0 70D0 R3DUC13ND0 3L C4571LL0 4 UN M0N70N D3 4R3N4 Y 35PUM4.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P3N53 9U3 D35PU35 DE 74N70 35FU3RZ0 L45 CH1C45 C0M3NZ4R14N 4 L10R4R,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P3R0 3N V3Z D3 350, C0RR13R0N P0R L4 P14Y4 R13ND0 Y JU64ND0 Y C0M3NZ4R0N 4 C0N57RU1R 07R0 C4571LL0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907920"/>
            <a:ext cx="323064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2916000" y="5373720"/>
            <a:ext cx="323028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Arial"/>
              </a:rPr>
              <a:t>C0MPR3ND1 9U3 H4814 4PR3ND1D0 UN4 6R4N L3CC10N;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Arial"/>
              </a:rPr>
              <a:t>64574M05 MUCH0 713MP0 D3 NU357R4 V1D4 C0N57RUY3ND0 4L6UN4 C054 P3R0 CU4ND0 M45 74RD3 UN4 0L4 LL1364 4 D357RU1R 70D0, S010 P3RM4N3C3 L4 4M1574D, 3L 4M0R Y 3L C4R1Ñ0, Y L45 M4N05 D3 49U3LL05 9U3 50N C4P4C35 D3 H4C3RN05 50NRR31R.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907920"/>
            <a:ext cx="323064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2916000" y="5373720"/>
            <a:ext cx="323028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53440 w 9144000"/>
              <a:gd name="textAreaRight" fmla="*/ 8890560 w 9144000"/>
              <a:gd name="textAreaTop" fmla="*/ 253440 h 6858000"/>
              <a:gd name="textAreaBottom" fmla="*/ 66045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9" y="799"/>
                </a:moveTo>
                <a:lnTo>
                  <a:pt x="799" y="20801"/>
                </a:lnTo>
                <a:lnTo>
                  <a:pt x="28001" y="20801"/>
                </a:lnTo>
                <a:lnTo>
                  <a:pt x="28001" y="79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 rot="19857600">
            <a:off x="3924360" y="1052640"/>
            <a:ext cx="289080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5b7900"/>
                  </a:outerShdw>
                </a:effectLst>
                <a:latin typeface="Monotype Corsiva"/>
              </a:rPr>
              <a:t>Final</a:t>
            </a:r>
            <a:endParaRPr b="1" lang="en-US" sz="32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5b79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8" name=""/>
          <p:cNvSpPr/>
          <p:nvPr/>
        </p:nvSpPr>
        <p:spPr>
          <a:xfrm>
            <a:off x="6227640" y="580536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Monotype Corsiva"/>
              </a:rPr>
              <a:t>El Taller del PePeeSe agosto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26920" y="5518080"/>
            <a:ext cx="1224000" cy="358920"/>
          </a:xfrm>
          <a:custGeom>
            <a:avLst/>
            <a:gdLst>
              <a:gd name="textAreaLeft" fmla="*/ 23040 w 1224000"/>
              <a:gd name="textAreaRight" fmla="*/ 1200960 w 1224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73609" h="21600">
                <a:moveTo>
                  <a:pt x="0" y="0"/>
                </a:moveTo>
                <a:lnTo>
                  <a:pt x="73609" y="0"/>
                </a:lnTo>
                <a:lnTo>
                  <a:pt x="73609" y="21600"/>
                </a:lnTo>
                <a:lnTo>
                  <a:pt x="0" y="21600"/>
                </a:lnTo>
                <a:close/>
              </a:path>
              <a:path fill="lightenLess" w="73609" h="21600">
                <a:moveTo>
                  <a:pt x="0" y="0"/>
                </a:moveTo>
                <a:lnTo>
                  <a:pt x="73609" y="0"/>
                </a:lnTo>
                <a:lnTo>
                  <a:pt x="72209" y="1400"/>
                </a:lnTo>
                <a:lnTo>
                  <a:pt x="1400" y="1400"/>
                </a:lnTo>
                <a:close/>
              </a:path>
              <a:path fill="darken" w="73609" h="21600">
                <a:moveTo>
                  <a:pt x="73609" y="0"/>
                </a:moveTo>
                <a:lnTo>
                  <a:pt x="73609" y="21600"/>
                </a:lnTo>
                <a:lnTo>
                  <a:pt x="72209" y="20200"/>
                </a:lnTo>
                <a:lnTo>
                  <a:pt x="72209" y="1400"/>
                </a:lnTo>
                <a:close/>
              </a:path>
              <a:path fill="darkenLess" w="73609" h="21600">
                <a:moveTo>
                  <a:pt x="73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209" y="20200"/>
                </a:lnTo>
                <a:close/>
              </a:path>
              <a:path fill="lighten" w="73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Re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endshow"/>
          </p:cNvPr>
          <p:cNvSpPr/>
          <p:nvPr/>
        </p:nvSpPr>
        <p:spPr>
          <a:xfrm>
            <a:off x="2195640" y="5518080"/>
            <a:ext cx="1224000" cy="358920"/>
          </a:xfrm>
          <a:custGeom>
            <a:avLst/>
            <a:gdLst>
              <a:gd name="textAreaLeft" fmla="*/ 23040 w 1224000"/>
              <a:gd name="textAreaRight" fmla="*/ 1200960 w 1224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73609" h="21600">
                <a:moveTo>
                  <a:pt x="0" y="0"/>
                </a:moveTo>
                <a:lnTo>
                  <a:pt x="73609" y="0"/>
                </a:lnTo>
                <a:lnTo>
                  <a:pt x="73609" y="21600"/>
                </a:lnTo>
                <a:lnTo>
                  <a:pt x="0" y="21600"/>
                </a:lnTo>
                <a:close/>
              </a:path>
              <a:path fill="lightenLess" w="73609" h="21600">
                <a:moveTo>
                  <a:pt x="0" y="0"/>
                </a:moveTo>
                <a:lnTo>
                  <a:pt x="73609" y="0"/>
                </a:lnTo>
                <a:lnTo>
                  <a:pt x="72209" y="1400"/>
                </a:lnTo>
                <a:lnTo>
                  <a:pt x="1400" y="1400"/>
                </a:lnTo>
                <a:close/>
              </a:path>
              <a:path fill="darken" w="73609" h="21600">
                <a:moveTo>
                  <a:pt x="73609" y="0"/>
                </a:moveTo>
                <a:lnTo>
                  <a:pt x="73609" y="21600"/>
                </a:lnTo>
                <a:lnTo>
                  <a:pt x="72209" y="20200"/>
                </a:lnTo>
                <a:lnTo>
                  <a:pt x="72209" y="1400"/>
                </a:lnTo>
                <a:close/>
              </a:path>
              <a:path fill="darkenLess" w="73609" h="21600">
                <a:moveTo>
                  <a:pt x="73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209" y="20200"/>
                </a:lnTo>
                <a:close/>
              </a:path>
              <a:path fill="lighten" w="73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Sa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2781360"/>
            <a:ext cx="6769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dddddd"/>
                </a:solidFill>
                <a:latin typeface="Monotype Corsiva"/>
              </a:rPr>
              <a:t>YA QUE ANTES PEDISTE TU DESEO, AHORA TI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dddddd"/>
                </a:solidFill>
                <a:latin typeface="Monotype Corsiva"/>
              </a:rPr>
              <a:t>MENOS DE 10 MINUTOS PARA MANDAR ESTE </a:t>
            </a:r>
            <a:r>
              <a:rPr b="1" i="1" lang="es-ES" sz="1800" spc="-1" strike="noStrike">
                <a:solidFill>
                  <a:srgbClr val="ffffff"/>
                </a:solidFill>
                <a:latin typeface="Monotype Corsiva"/>
              </a:rPr>
              <a:t>PePe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dddddd"/>
                </a:solidFill>
                <a:latin typeface="Monotype Corsiva"/>
              </a:rPr>
              <a:t>A TUS CONTAC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dddddd"/>
                </a:solidFill>
                <a:latin typeface="Monotype Corsiva"/>
              </a:rPr>
              <a:t> </a:t>
            </a:r>
            <a:r>
              <a:rPr b="0" i="1" lang="es-ES" sz="1800" spc="-1" strike="noStrike">
                <a:solidFill>
                  <a:srgbClr val="dddddd"/>
                </a:solidFill>
                <a:latin typeface="Monotype Corsiva"/>
              </a:rPr>
              <a:t>SI LO MANDAS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dddddd"/>
                </a:solidFill>
                <a:latin typeface="Monotype Corsiva"/>
              </a:rPr>
              <a:t>… </a:t>
            </a:r>
            <a:r>
              <a:rPr b="0" i="1" lang="es-ES" sz="1800" spc="-1" strike="noStrike">
                <a:solidFill>
                  <a:srgbClr val="dddddd"/>
                </a:solidFill>
                <a:latin typeface="Monotype Corsiva"/>
              </a:rPr>
              <a:t>AYUDARÁS A  TUS AMIGOS  A PREVENIR  EL  ALZHEIMER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26920" y="5013360"/>
            <a:ext cx="2592720" cy="358920"/>
          </a:xfrm>
          <a:custGeom>
            <a:avLst/>
            <a:gdLst>
              <a:gd name="textAreaLeft" fmla="*/ 23040 w 2592720"/>
              <a:gd name="textAreaRight" fmla="*/ 2569680 w 2592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55897" h="21600">
                <a:moveTo>
                  <a:pt x="0" y="0"/>
                </a:moveTo>
                <a:lnTo>
                  <a:pt x="155897" y="0"/>
                </a:lnTo>
                <a:lnTo>
                  <a:pt x="155897" y="21600"/>
                </a:lnTo>
                <a:lnTo>
                  <a:pt x="0" y="21600"/>
                </a:lnTo>
                <a:close/>
              </a:path>
              <a:path fill="lightenLess" w="155897" h="21600">
                <a:moveTo>
                  <a:pt x="0" y="0"/>
                </a:moveTo>
                <a:lnTo>
                  <a:pt x="155897" y="0"/>
                </a:lnTo>
                <a:lnTo>
                  <a:pt x="154497" y="1400"/>
                </a:lnTo>
                <a:lnTo>
                  <a:pt x="1400" y="1400"/>
                </a:lnTo>
                <a:close/>
              </a:path>
              <a:path fill="darken" w="155897" h="21600">
                <a:moveTo>
                  <a:pt x="155897" y="0"/>
                </a:moveTo>
                <a:lnTo>
                  <a:pt x="155897" y="21600"/>
                </a:lnTo>
                <a:lnTo>
                  <a:pt x="154497" y="20200"/>
                </a:lnTo>
                <a:lnTo>
                  <a:pt x="154497" y="1400"/>
                </a:lnTo>
                <a:close/>
              </a:path>
              <a:path fill="darkenLess" w="155897" h="21600">
                <a:moveTo>
                  <a:pt x="1558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497" y="20200"/>
                </a:lnTo>
                <a:close/>
              </a:path>
              <a:path fill="lighten" w="1558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Ver Solu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826920" y="765000"/>
            <a:ext cx="2109960" cy="2109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9640" y="6021360"/>
            <a:ext cx="316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dddd"/>
                </a:solidFill>
                <a:latin typeface="Monotype Corsiva"/>
              </a:rPr>
              <a:t>PPS elaborado a partir de un e-mail de Cínt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dddd"/>
                </a:solidFill>
                <a:latin typeface="Monotype Corsiva"/>
              </a:rPr>
              <a:t> </a:t>
            </a:r>
            <a:r>
              <a:rPr b="0" lang="es-ES" sz="1400" spc="-1" strike="noStrike">
                <a:solidFill>
                  <a:srgbClr val="dddddd"/>
                </a:solidFill>
                <a:latin typeface="Monotype Corsiva"/>
              </a:rPr>
              <a:t>Gifs -http://animoteca.blogcindario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1413000"/>
            <a:ext cx="8353440" cy="47527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76000" y="211140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”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00000" y="1628640"/>
            <a:ext cx="7704360" cy="4392720"/>
          </a:xfrm>
          <a:prstGeom prst="bevel">
            <a:avLst>
              <a:gd name="adj" fmla="val 412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476000" y="1988640"/>
            <a:ext cx="641844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N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N”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1844640"/>
            <a:ext cx="6913440" cy="4176720"/>
          </a:xfrm>
          <a:custGeom>
            <a:avLst/>
            <a:gdLst>
              <a:gd name="textAreaLeft" fmla="*/ 340200 w 6913440"/>
              <a:gd name="textAreaRight" fmla="*/ 6573240 w 6913440"/>
              <a:gd name="textAreaTop" fmla="*/ 340200 h 4176720"/>
              <a:gd name="textAreaBottom" fmla="*/ 3836520 h 4176720"/>
            </a:gdLst>
            <a:ahLst/>
            <a:rect l="textAreaLeft" t="textAreaTop" r="textAreaRight" b="textAreaBottom"/>
            <a:pathLst>
              <a:path w="35752" h="21600">
                <a:moveTo>
                  <a:pt x="2488" y="0"/>
                </a:moveTo>
                <a:arcTo wR="2488" hR="2488" stAng="0" swAng="5400000"/>
                <a:lnTo>
                  <a:pt x="0" y="19112"/>
                </a:lnTo>
                <a:arcTo wR="2488" hR="2488" stAng="16200000" swAng="5400000"/>
                <a:lnTo>
                  <a:pt x="33264" y="21600"/>
                </a:lnTo>
                <a:arcTo wR="2488" hR="2488" stAng="10800000" swAng="5400000"/>
                <a:lnTo>
                  <a:pt x="35752" y="2488"/>
                </a:lnTo>
                <a:arcTo wR="2488" hR="2488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76000" y="1915920"/>
            <a:ext cx="62643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9999999999999999 99999 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9999999999999999 99999 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9999999999999999 99999 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999999 99999 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6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 el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6”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1700280"/>
            <a:ext cx="8785080" cy="4176720"/>
          </a:xfrm>
          <a:prstGeom prst="octagon">
            <a:avLst>
              <a:gd name="adj" fmla="val 10148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74872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¥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    Ã¥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a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a”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916280"/>
            <a:ext cx="8351640" cy="35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55640" y="2205000"/>
            <a:ext cx="784872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§Ã§Ã§Ã§Ã§Ã§Ã§c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c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c”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42920" y="1989000"/>
            <a:ext cx="7488360" cy="3456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476000" y="206064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5014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623736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”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413000"/>
            <a:ext cx="8353440" cy="47527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76000" y="211140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C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OOOOOOOOOOOOOOOOOOOO O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”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6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87280" y="1596960"/>
            <a:ext cx="7561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C13R70 D14 D3 V3R4N0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IERTO DIA DE VERAN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3574B4 3N L4 PL4Y4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STABA EN LA PLAY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0853RV4ND0 A D05 CH1C45 8R1NC4ND0 3N 14 4R3N4,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BSERVANDO A DOS CHICAS BRINCANDO EN LA AREN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357484N 7R484J484ND0 MUCH0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STABAN TRABAJANDO MUCH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C0N57RUY3ND0 UN C4571LL0 D3 4R3N4 C0N 70RR35, P454D1Z05 0CUL705 Y PU3N735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NSTRUYENDO UN CASTILLO DE ARENA CON TORRES PASADIZOS OCULTOS Y PUENTES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907920"/>
            <a:ext cx="323064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916000" y="5373720"/>
            <a:ext cx="323028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476000" y="1483920"/>
            <a:ext cx="6418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CU4ND0 357484N 4C484ND0 V1N0 UN4 0L4 D357RUY3ND0 70D0 R3DUC13ND0 3L C4571LL0 4 UN M0N70N D3 4R3N4 Y 35PUM4.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UANDO ESTABAN ACABANDO VINO UNA OLA DESTRUYENDO TODO REDUCIENDO EL CASTILLO A UN MONTON DE ARENA Y ESPUM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P3N53 9U3 D35PU35 DE 74N70 35FU3RZ0 L45 CH1C45 C0M3NZ4R14N 4 L10R4R,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ENSE QUE DESPUES DE TANTO ESFUERZO LAS CHICAS COMENZARIAN A LLORA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P3R0 3N V3Z D3 350, C0RR13R0N P0R L4 P14Y4 R13ND0 Y JU64ND0 Y C0M3NZ4R0N 4 C0N57RU1R 07R0 C4571LL0;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O EN VEZ DE ESO CORRIERON POR LA PLAYA RIENDO Y JUGANDO Y COMENZARON A CONSTRUIR OTRO CASTILL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907920"/>
            <a:ext cx="323064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2916000" y="5373720"/>
            <a:ext cx="323028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4000" y="1844640"/>
            <a:ext cx="784836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C0MPR3ND1 9U3 H4814 4PR3ND1D0 UN4 6R4N L3CC10N;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MPRENDI QUE HABIA APRENDIDO UNA GRAN LECCION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64574M05 MUCH0 713MP0 D3 NU357R4 V1D4 C0N57RUY3ND0 4L6UN4 C054 P3R0 CU4ND0 M45 74RD3 UN4 0L4 LL364 4 D357RU1R 70D0, S010 P3RM4N3C3 L4 4M1574D, 3L 4M0R Y 3L C4R1Ñ0, Y L45 M4N05 D3 49U3LL05 9U3 50N C4P4C35 D3 H4C3RN05 50NRR31R.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ASTAMOS MUCHO TIEMPO DE NUESTRA VIDA CONSTRUYENDO ALGUNA COSA PERO CUANDO MAS TARDE UNA OLA LLEGA A DESTRUIR TODO. SOLO PERMANECE LA AMISTAD, EL AMOR Y EL CARIÑO, Y LAS MANOS DE AQUELLOS QUE SON CAPACES DE HACERNOS SONRREIR</a:t>
            </a:r>
            <a:r>
              <a:rPr b="0" lang="es-ES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907920"/>
            <a:ext cx="323064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2916000" y="5373720"/>
            <a:ext cx="3230280" cy="43344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1628640"/>
            <a:ext cx="7704360" cy="4392720"/>
          </a:xfrm>
          <a:prstGeom prst="bevel">
            <a:avLst>
              <a:gd name="adj" fmla="val 412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476000" y="1988640"/>
            <a:ext cx="641844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N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MMMMMMMMMMMMMMMMMM MMMM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N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N”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6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16000" y="1844640"/>
            <a:ext cx="6913440" cy="4176720"/>
          </a:xfrm>
          <a:custGeom>
            <a:avLst/>
            <a:gdLst>
              <a:gd name="textAreaLeft" fmla="*/ 340200 w 6913440"/>
              <a:gd name="textAreaRight" fmla="*/ 6573240 w 6913440"/>
              <a:gd name="textAreaTop" fmla="*/ 340200 h 4176720"/>
              <a:gd name="textAreaBottom" fmla="*/ 3836520 h 4176720"/>
            </a:gdLst>
            <a:ahLst/>
            <a:rect l="textAreaLeft" t="textAreaTop" r="textAreaRight" b="textAreaBottom"/>
            <a:pathLst>
              <a:path w="35752" h="21600">
                <a:moveTo>
                  <a:pt x="2488" y="0"/>
                </a:moveTo>
                <a:arcTo wR="2488" hR="2488" stAng="0" swAng="5400000"/>
                <a:lnTo>
                  <a:pt x="0" y="19112"/>
                </a:lnTo>
                <a:arcTo wR="2488" hR="2488" stAng="16200000" swAng="5400000"/>
                <a:lnTo>
                  <a:pt x="33264" y="21600"/>
                </a:lnTo>
                <a:arcTo wR="2488" hR="2488" stAng="10800000" swAng="5400000"/>
                <a:lnTo>
                  <a:pt x="35752" y="2488"/>
                </a:lnTo>
                <a:arcTo wR="2488" hR="2488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476000" y="1915920"/>
            <a:ext cx="62643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9999999999999999 99999 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9999999999999999 99999 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9999999999999999 99999 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6999999999999999 99999 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999999999999999999999999 99999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6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 el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6”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6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700280"/>
            <a:ext cx="8785080" cy="4176720"/>
          </a:xfrm>
          <a:prstGeom prst="octagon">
            <a:avLst>
              <a:gd name="adj" fmla="val 10148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74872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¥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    Ã¥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a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¥Ã¥Ã¥Ã¥Ã¥Ã¥Ã¥Ã¥Ã¥Ã¥Ã¥Ã¥Ã¥Ã¥Ã¥Ã¥Ã¥Ã¥Ã¥Ã¥Ã¥Ã¥Ã¥Ã¥Ã¥Ã¥Ã¥Ã¥Ã¥Ã¥Ã¥Ã¥Ã¥Ã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a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a”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6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1916280"/>
            <a:ext cx="8351640" cy="35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55640" y="2205000"/>
            <a:ext cx="784872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c§Ã§Ã§Ã§Ã§Ã§Ã§c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Ã§Ã§Ã§Ã§Ã§Ã§Ã§Ã§Ã§Ã§Ã§Ã§Ã§Ã§Ã§Ã§Ã§Ã§Ã§Ã§Ã§Ã§Ã§Ã§Ã§Ã§Ã§Ã§Ã§Ã§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501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c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623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“c”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6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2920" y="1989000"/>
            <a:ext cx="7488360" cy="3456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476000" y="2060640"/>
            <a:ext cx="64184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i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!!!!!!!!!!!! !!!!!!!!! !!!!!!!!! !!!!!!!!! !!!!!!!!! !!!!!!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5014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Encuentra un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en la figura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623736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Sí has encontrado la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”.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Pulsa una tecla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6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Hglass.gif (25156 bytes)"/>
          <p:cNvPicPr/>
          <p:nvPr/>
        </p:nvPicPr>
        <p:blipFill>
          <a:blip r:embed="rId1"/>
          <a:stretch/>
        </p:blipFill>
        <p:spPr>
          <a:xfrm>
            <a:off x="3635280" y="2421000"/>
            <a:ext cx="1524240" cy="1143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32000" y="620640"/>
            <a:ext cx="63356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ffffff"/>
                </a:solidFill>
                <a:latin typeface="Monotype Corsiva"/>
              </a:rPr>
              <a:t>Tómate un descanso y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076640"/>
            <a:ext cx="8137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es-ES" sz="4800" spc="-1" strike="noStrike">
                <a:solidFill>
                  <a:srgbClr val="ffffff"/>
                </a:solidFill>
                <a:latin typeface="Monotype Corsiva"/>
              </a:rPr>
              <a:t>Pide un deseo antes de continu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52840" y="3246480"/>
            <a:ext cx="240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2276640"/>
            <a:ext cx="82296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Debo decir que el siguiente  texto no es únicamente un juego, está comprobado que una persona que le cueste descifrar su contenido, tiene mayor posibilidad que otras de sufrir Alzheimer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 ¡¡¡ Si !!!,  Alzheimer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¡¡¡ Espero que puedas descifrarlo !!!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CONSIGUES LEER LAS PRIMERAS PALABRAS, EL CEREBRO DESCIFRARA LAS SIGUIENTES. </a:t>
            </a: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4:41:53Z</dcterms:created>
  <dc:creator>El taller del PePeeSe</dc:creator>
  <dc:description/>
  <dc:language>en-US</dc:language>
  <cp:lastModifiedBy>JLA</cp:lastModifiedBy>
  <dcterms:modified xsi:type="dcterms:W3CDTF">2009-09-01T05:45:28Z</dcterms:modified>
  <cp:revision>25</cp:revision>
  <dc:subject/>
  <dc:title>Gimnasia Cerebral</dc:title>
</cp:coreProperties>
</file>