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jpeg" ContentType="image/jpeg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A9CE-D2D8-46DD-BFD9-DF2B111D5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76000" y="2060640"/>
            <a:ext cx="6418440" cy="16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76000" y="3845160"/>
            <a:ext cx="6418440" cy="16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714B-95F8-4606-8D9D-7F0D7C08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76000" y="2060640"/>
            <a:ext cx="3132000" cy="16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64960" y="2060640"/>
            <a:ext cx="3132000" cy="16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76000" y="3845160"/>
            <a:ext cx="3132000" cy="16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64960" y="3845160"/>
            <a:ext cx="3132000" cy="16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C8C1-485A-4876-9B65-5683650A5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76000" y="2060640"/>
            <a:ext cx="2066400" cy="16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6080" y="2060640"/>
            <a:ext cx="2066400" cy="16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16160" y="2060640"/>
            <a:ext cx="2066400" cy="16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76000" y="3845160"/>
            <a:ext cx="2066400" cy="16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6080" y="3845160"/>
            <a:ext cx="2066400" cy="16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16160" y="3845160"/>
            <a:ext cx="2066400" cy="16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2B65-334F-4FD9-907A-012AF9804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76000" y="2060640"/>
            <a:ext cx="641844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3FF9-8088-4A05-B83F-7FC70358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76000" y="2060640"/>
            <a:ext cx="6418440" cy="34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9035-EAB0-4007-B1FE-C7CD551B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76000" y="2060640"/>
            <a:ext cx="3132000" cy="34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64960" y="2060640"/>
            <a:ext cx="3132000" cy="34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D880-AD36-44C8-9CE2-42FADED1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250B-170B-4A27-966F-2198EDD9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FFEF-08DC-43CE-A904-B1F56D55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76000" y="2060640"/>
            <a:ext cx="3132000" cy="16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64960" y="2060640"/>
            <a:ext cx="3132000" cy="34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76000" y="3845160"/>
            <a:ext cx="3132000" cy="16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ADD3-140E-4017-BB01-1CBC3BB2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76000" y="2060640"/>
            <a:ext cx="3132000" cy="34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64960" y="2060640"/>
            <a:ext cx="3132000" cy="16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64960" y="3845160"/>
            <a:ext cx="3132000" cy="16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5743-BE3F-48E4-A5EB-C3CF9F3A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76000" y="2060640"/>
            <a:ext cx="3132000" cy="16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64960" y="2060640"/>
            <a:ext cx="3132000" cy="16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76000" y="3845160"/>
            <a:ext cx="6418440" cy="16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7019-E29B-4109-9095-25B32DB1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76000" y="2060640"/>
            <a:ext cx="6418440" cy="34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80808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Monotype Corsiv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Monotype Corsi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Monotype Corsiv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4968-AFCD-4DA5-AE22-11BC3B4D22C6}" type="slidenum">
              <a:rPr b="0" lang="en-US" sz="1400" spc="-1" strike="noStrike">
                <a:solidFill>
                  <a:srgbClr val="808080"/>
                </a:solidFill>
                <a:latin typeface="Monotype Corsi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520800">
            <a:off x="3058920" y="1628280"/>
            <a:ext cx="4619520" cy="217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5b7900"/>
                  </a:outerShdw>
                </a:effectLst>
                <a:latin typeface="Monotype Corsiva"/>
              </a:rPr>
              <a:t>Gimnasia Cerebral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5b79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2" name=""/>
          <p:cNvSpPr/>
          <p:nvPr/>
        </p:nvSpPr>
        <p:spPr>
          <a:xfrm>
            <a:off x="3995640" y="609300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Monotype Corsiva"/>
              </a:rPr>
              <a:t>Click para avan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170028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rot="654000">
            <a:off x="3131640" y="4076280"/>
            <a:ext cx="4681800" cy="43344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donut">
            <a:avLst>
              <a:gd name="adj" fmla="val 2398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476000" y="1596960"/>
            <a:ext cx="6418440" cy="34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808080"/>
                </a:solidFill>
                <a:latin typeface="Arial"/>
              </a:rPr>
              <a:t>C13R70 D14 D3 V3R4N0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808080"/>
                </a:solidFill>
                <a:latin typeface="Arial"/>
              </a:rPr>
              <a:t>3574B4 3N L4 PL4Y4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808080"/>
                </a:solidFill>
                <a:latin typeface="Arial"/>
              </a:rPr>
              <a:t>0853RV4ND0 A D05 CH1C45 8R1NC4ND0 3N 14 4R3N4,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808080"/>
                </a:solidFill>
                <a:latin typeface="Arial"/>
              </a:rPr>
              <a:t>357484N 7R484J484ND0 MUCH0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808080"/>
                </a:solidFill>
                <a:latin typeface="Arial"/>
              </a:rPr>
              <a:t>C0N57RUY3ND0 UN C4571LL0 D3 4R3N4 C0N 70RR35, P454D1Z05 0CUL705 Y PU3N735.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43280" y="907920"/>
            <a:ext cx="3230640" cy="43344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0800000">
            <a:off x="2916000" y="5373720"/>
            <a:ext cx="3230280" cy="43344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76000" y="2060640"/>
            <a:ext cx="6418440" cy="34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808080"/>
                </a:solidFill>
                <a:latin typeface="Arial"/>
              </a:rPr>
              <a:t>CU4ND0 357484N 4C484ND0 V1N0 UN4 0L4 D357RUY3ND0 70D0 R3DUC13ND0 3L C4571LL0 4 UN M0N70N D3 4R3N4 Y 35PUM4.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808080"/>
                </a:solidFill>
                <a:latin typeface="Arial"/>
              </a:rPr>
              <a:t>P3N53 9U3 D35PU35 DE 74N70 35FU3RZ0 L45 CH1C45 C0M3NZ4R14N 4 L10R4R,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808080"/>
                </a:solidFill>
                <a:latin typeface="Arial"/>
              </a:rPr>
              <a:t>P3R0 3N V3Z D3 350, C0RR13R0N P0R L4 P14Y4 R13ND0 Y JU64ND0 Y C0M3NZ4R0N 4 C0N57RU1R 07R0 C4571LL0;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43280" y="907920"/>
            <a:ext cx="3230640" cy="43344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2916000" y="5373720"/>
            <a:ext cx="3230280" cy="43344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76000" y="2060640"/>
            <a:ext cx="6418440" cy="34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08080"/>
                </a:solidFill>
                <a:latin typeface="Arial"/>
              </a:rPr>
              <a:t>C0MPR3ND1 9U3 H4814 4PR3ND1D0 UN4 6R4N L3CC10N;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08080"/>
                </a:solidFill>
                <a:latin typeface="Arial"/>
              </a:rPr>
              <a:t>64574M05 MUCH0 713MP0 D3 NU357R4 V1D4 C0N57RUY3ND0 4L6UN4 C054 P3R0 CU4ND0 M45 74RD3 UN4 0L4 LL1364 4 D357RU1R 70D0, S010 P3RM4N3C3 L4 4M1574D, 3L 4M0R Y 3L C4R1Ñ0, Y L45 M4N05 D3 49U3LL05 9U3 50N C4P4C35 D3 H4C3RN05 50NRR31R.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43280" y="907920"/>
            <a:ext cx="3230640" cy="43344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0800000">
            <a:off x="2916000" y="5373720"/>
            <a:ext cx="3230280" cy="43344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53440 w 9144000"/>
              <a:gd name="textAreaRight" fmla="*/ 8890560 w 9144000"/>
              <a:gd name="textAreaTop" fmla="*/ 253440 h 6858000"/>
              <a:gd name="textAreaBottom" fmla="*/ 66045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9" y="799"/>
                </a:moveTo>
                <a:lnTo>
                  <a:pt x="799" y="20801"/>
                </a:lnTo>
                <a:lnTo>
                  <a:pt x="28001" y="20801"/>
                </a:lnTo>
                <a:lnTo>
                  <a:pt x="28001" y="79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 rot="19857600">
            <a:off x="3924360" y="1052640"/>
            <a:ext cx="289080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5b7900"/>
                  </a:outerShdw>
                </a:effectLst>
                <a:latin typeface="Monotype Corsiva"/>
              </a:rPr>
              <a:t>Final</a:t>
            </a:r>
            <a:endParaRPr b="1" lang="en-US" sz="32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5b79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88" name=""/>
          <p:cNvSpPr/>
          <p:nvPr/>
        </p:nvSpPr>
        <p:spPr>
          <a:xfrm>
            <a:off x="6227640" y="580536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Monotype Corsiva"/>
              </a:rPr>
              <a:t>El Taller del PePeeSe agosto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826920" y="5518080"/>
            <a:ext cx="1224000" cy="358920"/>
          </a:xfrm>
          <a:custGeom>
            <a:avLst/>
            <a:gdLst>
              <a:gd name="textAreaLeft" fmla="*/ 23040 w 1224000"/>
              <a:gd name="textAreaRight" fmla="*/ 1200960 w 1224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73609" h="21600">
                <a:moveTo>
                  <a:pt x="0" y="0"/>
                </a:moveTo>
                <a:lnTo>
                  <a:pt x="73609" y="0"/>
                </a:lnTo>
                <a:lnTo>
                  <a:pt x="73609" y="21600"/>
                </a:lnTo>
                <a:lnTo>
                  <a:pt x="0" y="21600"/>
                </a:lnTo>
                <a:close/>
              </a:path>
              <a:path fill="lightenLess" w="73609" h="21600">
                <a:moveTo>
                  <a:pt x="0" y="0"/>
                </a:moveTo>
                <a:lnTo>
                  <a:pt x="73609" y="0"/>
                </a:lnTo>
                <a:lnTo>
                  <a:pt x="72209" y="1400"/>
                </a:lnTo>
                <a:lnTo>
                  <a:pt x="1400" y="1400"/>
                </a:lnTo>
                <a:close/>
              </a:path>
              <a:path fill="darken" w="73609" h="21600">
                <a:moveTo>
                  <a:pt x="73609" y="0"/>
                </a:moveTo>
                <a:lnTo>
                  <a:pt x="73609" y="21600"/>
                </a:lnTo>
                <a:lnTo>
                  <a:pt x="72209" y="20200"/>
                </a:lnTo>
                <a:lnTo>
                  <a:pt x="72209" y="1400"/>
                </a:lnTo>
                <a:close/>
              </a:path>
              <a:path fill="darkenLess" w="73609" h="21600">
                <a:moveTo>
                  <a:pt x="73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209" y="20200"/>
                </a:lnTo>
                <a:close/>
              </a:path>
              <a:path fill="lighten" w="73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Rein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" action="ppaction://hlinkshowjump?jump=endshow"/>
          </p:cNvPr>
          <p:cNvSpPr/>
          <p:nvPr/>
        </p:nvSpPr>
        <p:spPr>
          <a:xfrm>
            <a:off x="2195640" y="5518080"/>
            <a:ext cx="1224000" cy="358920"/>
          </a:xfrm>
          <a:custGeom>
            <a:avLst/>
            <a:gdLst>
              <a:gd name="textAreaLeft" fmla="*/ 23040 w 1224000"/>
              <a:gd name="textAreaRight" fmla="*/ 1200960 w 1224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73609" h="21600">
                <a:moveTo>
                  <a:pt x="0" y="0"/>
                </a:moveTo>
                <a:lnTo>
                  <a:pt x="73609" y="0"/>
                </a:lnTo>
                <a:lnTo>
                  <a:pt x="73609" y="21600"/>
                </a:lnTo>
                <a:lnTo>
                  <a:pt x="0" y="21600"/>
                </a:lnTo>
                <a:close/>
              </a:path>
              <a:path fill="lightenLess" w="73609" h="21600">
                <a:moveTo>
                  <a:pt x="0" y="0"/>
                </a:moveTo>
                <a:lnTo>
                  <a:pt x="73609" y="0"/>
                </a:lnTo>
                <a:lnTo>
                  <a:pt x="72209" y="1400"/>
                </a:lnTo>
                <a:lnTo>
                  <a:pt x="1400" y="1400"/>
                </a:lnTo>
                <a:close/>
              </a:path>
              <a:path fill="darken" w="73609" h="21600">
                <a:moveTo>
                  <a:pt x="73609" y="0"/>
                </a:moveTo>
                <a:lnTo>
                  <a:pt x="73609" y="21600"/>
                </a:lnTo>
                <a:lnTo>
                  <a:pt x="72209" y="20200"/>
                </a:lnTo>
                <a:lnTo>
                  <a:pt x="72209" y="1400"/>
                </a:lnTo>
                <a:close/>
              </a:path>
              <a:path fill="darkenLess" w="73609" h="21600">
                <a:moveTo>
                  <a:pt x="73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209" y="20200"/>
                </a:lnTo>
                <a:close/>
              </a:path>
              <a:path fill="lighten" w="73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08000" y="2781360"/>
            <a:ext cx="67694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dddddd"/>
                </a:solidFill>
                <a:latin typeface="Monotype Corsiva"/>
              </a:rPr>
              <a:t>YA QUE ANTES PEDISTE TU DESEO, AHORA TIE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dddddd"/>
                </a:solidFill>
                <a:latin typeface="Monotype Corsiva"/>
              </a:rPr>
              <a:t>MENOS DE 10 MINUTOS PARA MANDAR ESTE </a:t>
            </a:r>
            <a:r>
              <a:rPr b="1" i="1" lang="es-ES" sz="1800" spc="-1" strike="noStrike">
                <a:solidFill>
                  <a:srgbClr val="ffffff"/>
                </a:solidFill>
                <a:latin typeface="Monotype Corsiva"/>
              </a:rPr>
              <a:t>PePe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dddddd"/>
                </a:solidFill>
                <a:latin typeface="Monotype Corsiva"/>
              </a:rPr>
              <a:t>A TUS CONTACT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dddddd"/>
                </a:solidFill>
                <a:latin typeface="Monotype Corsiva"/>
              </a:rPr>
              <a:t> </a:t>
            </a:r>
            <a:r>
              <a:rPr b="0" i="1" lang="es-ES" sz="1800" spc="-1" strike="noStrike">
                <a:solidFill>
                  <a:srgbClr val="dddddd"/>
                </a:solidFill>
                <a:latin typeface="Monotype Corsiva"/>
              </a:rPr>
              <a:t>SI LO MANDAS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dddddd"/>
                </a:solidFill>
                <a:latin typeface="Monotype Corsiva"/>
              </a:rPr>
              <a:t>… </a:t>
            </a:r>
            <a:r>
              <a:rPr b="0" i="1" lang="es-ES" sz="1800" spc="-1" strike="noStrike">
                <a:solidFill>
                  <a:srgbClr val="dddddd"/>
                </a:solidFill>
                <a:latin typeface="Monotype Corsiva"/>
              </a:rPr>
              <a:t>AYUDARÁS A  TUS AMIGOS  A PREVENIR  EL  ALZHEIMER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826920" y="5013360"/>
            <a:ext cx="2592720" cy="358920"/>
          </a:xfrm>
          <a:custGeom>
            <a:avLst/>
            <a:gdLst>
              <a:gd name="textAreaLeft" fmla="*/ 23040 w 2592720"/>
              <a:gd name="textAreaRight" fmla="*/ 2569680 w 25927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155897" h="21600">
                <a:moveTo>
                  <a:pt x="0" y="0"/>
                </a:moveTo>
                <a:lnTo>
                  <a:pt x="155897" y="0"/>
                </a:lnTo>
                <a:lnTo>
                  <a:pt x="155897" y="21600"/>
                </a:lnTo>
                <a:lnTo>
                  <a:pt x="0" y="21600"/>
                </a:lnTo>
                <a:close/>
              </a:path>
              <a:path fill="lightenLess" w="155897" h="21600">
                <a:moveTo>
                  <a:pt x="0" y="0"/>
                </a:moveTo>
                <a:lnTo>
                  <a:pt x="155897" y="0"/>
                </a:lnTo>
                <a:lnTo>
                  <a:pt x="154497" y="1400"/>
                </a:lnTo>
                <a:lnTo>
                  <a:pt x="1400" y="1400"/>
                </a:lnTo>
                <a:close/>
              </a:path>
              <a:path fill="darken" w="155897" h="21600">
                <a:moveTo>
                  <a:pt x="155897" y="0"/>
                </a:moveTo>
                <a:lnTo>
                  <a:pt x="155897" y="21600"/>
                </a:lnTo>
                <a:lnTo>
                  <a:pt x="154497" y="20200"/>
                </a:lnTo>
                <a:lnTo>
                  <a:pt x="154497" y="1400"/>
                </a:lnTo>
                <a:close/>
              </a:path>
              <a:path fill="darkenLess" w="155897" h="21600">
                <a:moveTo>
                  <a:pt x="1558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4497" y="20200"/>
                </a:lnTo>
                <a:close/>
              </a:path>
              <a:path fill="lighten" w="1558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Ver Solu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826920" y="765000"/>
            <a:ext cx="2109960" cy="2109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39640" y="6021360"/>
            <a:ext cx="3168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dddddd"/>
                </a:solidFill>
                <a:latin typeface="Monotype Corsiva"/>
              </a:rPr>
              <a:t>PPS elaborado a partir de un e-mail de Cínt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dddddd"/>
                </a:solidFill>
                <a:latin typeface="Monotype Corsiva"/>
              </a:rPr>
              <a:t> </a:t>
            </a:r>
            <a:r>
              <a:rPr b="0" lang="es-ES" sz="1400" spc="-1" strike="noStrike">
                <a:solidFill>
                  <a:srgbClr val="dddddd"/>
                </a:solidFill>
                <a:latin typeface="Monotype Corsiva"/>
              </a:rPr>
              <a:t>Gifs -http://animoteca.blogcindario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68360" y="1413000"/>
            <a:ext cx="8353440" cy="475272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476000" y="2111400"/>
            <a:ext cx="6418440" cy="34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OOOOOOOOOOOOOOOOOOOO O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OOOOOOOOOOOOOOOOOOOO O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OOOOOOOOOOOOOOOOOOOO O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OOOOOOOOOOOOOOOOOOOO O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OOOOOOOOOOOOOOOOOOOO O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OOOOOOOOOOOOO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OOOOO O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OOOOOOOOOOOOOOOOOOOO O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5014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Encuentra una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C”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 en la figura inf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623736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Sí has encontrado la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C”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Pulsa una tecla para continu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00000" y="1628640"/>
            <a:ext cx="7704360" cy="4392720"/>
          </a:xfrm>
          <a:prstGeom prst="bevel">
            <a:avLst>
              <a:gd name="adj" fmla="val 4120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476000" y="1988640"/>
            <a:ext cx="641844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MMMMMMMMMMMMMMMMMM MMMMM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MMMMMMMMMMMMMMMMMM MMMMM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MMMMMMMMMMMMMMMMMM MMMMM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MMMMMMMMMMMMMMMMMM MMMMM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MMMMMMMMMMMMMMMMMM MMMMM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MMMMMMMMMMMMMM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MM MMMMM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MMMMMMMMMMMMMMMMMM MMMMM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MMMMMMMMMMMMMMMMMM MMMMM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MMMMMMMMMMMMMMMMMM MMMMM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MMMMMMMMMMMMMMMMMM MMMMM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5014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Encuentra una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N”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 en la figura inf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623736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Sí has encontrado la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N”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Pulsa una tecla para continu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16000" y="1844640"/>
            <a:ext cx="6913440" cy="4176720"/>
          </a:xfrm>
          <a:custGeom>
            <a:avLst/>
            <a:gdLst>
              <a:gd name="textAreaLeft" fmla="*/ 340200 w 6913440"/>
              <a:gd name="textAreaRight" fmla="*/ 6573240 w 6913440"/>
              <a:gd name="textAreaTop" fmla="*/ 340200 h 4176720"/>
              <a:gd name="textAreaBottom" fmla="*/ 3836520 h 4176720"/>
            </a:gdLst>
            <a:ahLst/>
            <a:rect l="textAreaLeft" t="textAreaTop" r="textAreaRight" b="textAreaBottom"/>
            <a:pathLst>
              <a:path w="35752" h="21600">
                <a:moveTo>
                  <a:pt x="2488" y="0"/>
                </a:moveTo>
                <a:arcTo wR="2488" hR="2488" stAng="0" swAng="5400000"/>
                <a:lnTo>
                  <a:pt x="0" y="19112"/>
                </a:lnTo>
                <a:arcTo wR="2488" hR="2488" stAng="16200000" swAng="5400000"/>
                <a:lnTo>
                  <a:pt x="33264" y="21600"/>
                </a:lnTo>
                <a:arcTo wR="2488" hR="2488" stAng="10800000" swAng="5400000"/>
                <a:lnTo>
                  <a:pt x="35752" y="2488"/>
                </a:lnTo>
                <a:arcTo wR="2488" hR="2488" stAng="5400000" swAng="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476000" y="1915920"/>
            <a:ext cx="626436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9999999999999999999999999 99999 9999999999999999999999999 99999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9999999999999999999999999 99999 9999999999999999999999999 99999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9999999999999999999999999 99999 9999999999999999999999999 99999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999999999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999999999999999 99999 9999999999999999999999999 99999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9999999999999999999999999 99999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5014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Encuentra un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6”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 en la figura inf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623736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Sí has encontrado  el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6”.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Pulsa una tecla para continu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0920" y="1700280"/>
            <a:ext cx="8785080" cy="4176720"/>
          </a:xfrm>
          <a:prstGeom prst="octagon">
            <a:avLst>
              <a:gd name="adj" fmla="val 10148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748720" cy="34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¥Ã¥Ã¥Ã¥Ã¥Ã¥Ã¥Ã¥Ã¥Ã¥Ã¥Ã¥Ã¥Ã¥Ã¥Ã¥Ã¥Ã¥Ã¥Ã¥Ã¥Ã¥Ã¥Ã¥Ã¥Ã¥Ã¥Ã¥Ã¥Ã¥Ã¥Ã¥Ã¥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¥Ã¥Ã¥Ã¥Ã¥Ã¥Ã¥Ã¥Ã¥Ã¥Ã¥Ã¥Ã¥Ã¥Ã¥Ã¥Ã¥Ã¥Ã¥Ã¥Ã¥Ã¥Ã¥Ã¥Ã¥Ã¥Ã¥Ã¥Ã¥Ã¥Ã¥Ã¥Ã¥Ã¥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¥Ã¥Ã¥Ã¥Ã¥Ã¥Ã¥Ã¥Ã¥Ã¥Ã¥Ã¥Ã¥Ã¥Ã¥Ã¥Ã¥Ã¥Ã¥Ã¥Ã¥Ã¥Ã¥Ã¥Ã¥Ã¥Ã¥Ã¥Ã¥Ã¥Ã¥Ã¥Ã¥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¥Ã¥Ã¥Ã¥Ã¥Ã¥Ã¥Ã¥Ã¥Ã¥Ã¥Ã¥Ã¥Ã¥Ã¥Ã¥Ã¥Ã¥Ã¥Ã¥Ã¥Ã¥Ã¥Ã¥Ã¥Ã¥Ã¥Ã¥Ã¥Ã¥Ã¥Ã¥Ã¥Ã¥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¥Ã¥Ã¥Ã¥Ã¥Ã¥Ã¥Ã¥Ã¥Ã¥Ã¥Ã¥Ã¥Ã¥Ã¥Ã¥Ã¥Ã¥Ã¥Ã¥Ã¥Ã¥Ã¥Ã¥Ã¥Ã¥Ã¥Ã¥Ã¥Ã¥Ã¥Ã¥Ã¥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¥Ã¥Ã¥Ã¥Ã¥Ã¥Ã¥Ã¥Ã¥Ã¥Ã¥Ã¥Ã¥Ã¥Ã¥Ã¥Ã¥Ã¥Ã¥Ã¥Ã¥Ã¥Ã¥Ã¥Ã¥Ã¥Ã¥Ã¥Ã¥Ã¥Ã¥Ã¥Ã¥Ã¥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¥Ã¥Ã¥Ã¥Ã¥Ã¥Ã¥Ã¥Ã¥Ã¥Ã¥Ã¥Ã¥Ã¥Ã¥Ã¥Ã¥Ã¥Ã¥Ã¥Ã¥Ã¥Ã¥Ã¥Ã¥Ã¥Ã¥Ã¥Ã¥Ã¥Ã¥Ã¥Ã¥    Ã¥Ã¥Ã¥Ã¥Ã¥Ã¥Ã¥Ã¥Ã¥Ã¥Ã¥Ã¥Ã¥Ã¥Ã¥Ã¥Ã¥Ã¥Ã¥Ã¥Ã¥Ã¥Ã¥Ã¥Ã¥Ã¥Ã¥Ã¥Ã¥Ã¥Ã¥Ã¥Ã¥Ã¥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¥Ã¥Ã¥Ã¥Ã¥Ã¥Ã¥Ã¥Ã¥Ã¥Ã¥Ã¥Ã¥Ã¥Ã¥Ã¥Ã¥Ã¥Ã¥Ã¥Ã¥Ã¥Ã¥Ã¥</a:t>
            </a: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¥Ã¥Ã¥Ã¥Ã¥Ã¥Ã¥Ã¥Ã¥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¥Ã¥Ã¥Ã¥Ã¥Ã¥Ã¥Ã¥Ã¥Ã¥Ã¥Ã¥Ã¥Ã¥Ã¥Ã¥Ã¥Ã¥Ã¥Ã¥Ã¥Ã¥Ã¥Ã¥Ã¥Ã¥Ã¥Ã¥Ã¥Ã¥Ã¥Ã¥Ã¥Ã¥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¥Ã¥Ã¥Ã¥Ã¥Ã¥Ã¥Ã¥Ã¥Ã¥Ã¥Ã¥Ã¥Ã¥Ã¥Ã¥Ã¥Ã¥Ã¥Ã¥Ã¥Ã¥Ã¥Ã¥Ã¥Ã¥Ã¥Ã¥Ã¥Ã¥Ã¥Ã¥Ã¥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¥Ã¥Ã¥Ã¥Ã¥Ã¥Ã¥Ã¥Ã¥Ã¥Ã¥Ã¥Ã¥Ã¥Ã¥Ã¥Ã¥Ã¥Ã¥Ã¥Ã¥Ã¥Ã¥Ã¥Ã¥Ã¥Ã¥Ã¥Ã¥Ã¥Ã¥Ã¥Ã¥Ã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5014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Encuentra una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a”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 en la figura inf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623736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Sí has encontrado la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a”.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Pulsa una tecla para continu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68360" y="1916280"/>
            <a:ext cx="8351640" cy="35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55640" y="2205000"/>
            <a:ext cx="7848720" cy="34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§Ã§Ã§Ã§Ã§Ã§Ã§Ã§Ã§Ã§Ã§Ã§Ã§Ã§Ã§Ã§Ã§Ã§Ã§Ã§Ã§Ã§Ã§Ã§Ã§Ã§Ã§Ã§Ã§Ã§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§Ã§Ã§Ã§Ã§Ã§Ã§Ã§Ã§Ã§Ã§Ã§Ã§Ã§Ã§Ã§Ã§Ã§Ã§Ã§Ã§Ã§Ã§Ã§Ã§Ã§Ã§Ã§Ã§Ã§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§Ã§Ã§Ã§Ã§Ã§Ã§Ã§Ã§Ã§Ã§Ã§Ã§Ã§Ã§Ã§Ã§Ã§Ã§Ã§Ã§Ã§Ã§Ã§Ã§Ã§Ã§Ã§Ã§Ã§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§Ã§Ã§Ã§Ã§Ã§Ã§Ã§Ã§Ã§Ã§Ã§Ã§Ã§Ã§Ã§Ã§Ã§Ã§Ã§Ã§Ã§Ã§Ã§Ã§Ã§Ã§Ã§Ã§Ã§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§Ã§Ã§Ã§Ã§Ã§Ã§Ã§Ã§Ã§Ã§Ã§Ã§Ã§Ã§Ã§Ã§Ã§Ã§Ã§Ã§Ã§Ã§Ã§Ã§Ã§Ã§Ã§Ã§Ã§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§Ã§Ã§Ã§Ã§Ã§Ã§Ã§Ã</a:t>
            </a: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§Ã§Ã§Ã§Ã§Ã§Ã§cÃ§Ã§Ã§Ã§Ã§Ã§Ã§Ã§Ã§Ã§Ã§Ã§Ã§Ã§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§Ã§Ã§Ã§Ã§Ã§Ã§Ã§Ã§Ã§Ã§Ã§Ã§Ã§Ã§Ã§Ã§Ã§Ã§Ã§Ã§Ã§Ã§Ã§Ã§Ã§Ã§Ã§Ã§Ã§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§Ã§Ã§Ã§Ã§Ã§Ã§Ã§Ã§Ã§Ã§Ã§Ã§Ã§Ã§Ã§Ã§Ã§Ã§Ã§Ã§Ã§Ã§Ã§Ã§Ã§Ã§Ã§Ã§Ã§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§Ã§Ã§Ã§Ã§Ã§Ã§Ã§Ã§Ã§Ã§Ã§Ã§Ã§Ã§Ã§Ã§Ã§Ã§Ã§Ã§Ã§Ã§Ã§Ã§Ã§Ã§Ã§Ã§Ã§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§Ã§Ã§Ã§Ã§Ã§Ã§Ã§Ã§Ã§Ã§Ã§Ã§Ã§Ã§Ã§Ã§Ã§Ã§Ã§Ã§Ã§Ã§Ã§Ã§Ã§Ã§Ã§Ã§Ã§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§Ã§Ã§Ã§Ã§Ã§Ã§Ã§Ã§Ã§Ã§Ã§Ã§Ã§Ã§Ã§Ã§Ã§Ã§Ã§Ã§Ã§Ã§Ã§Ã§Ã§Ã§Ã§Ã§Ã§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§Ã§Ã§Ã§Ã§Ã§Ã§Ã§Ã§Ã§Ã§Ã§Ã§Ã§Ã§Ã§Ã§Ã§Ã§Ã§Ã§Ã§Ã§Ã§Ã§Ã§Ã§Ã§Ã§Ã§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5014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Encuentra una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“c”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 en la figura inf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623736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Sí has encontrado la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“c”.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Pulsa una tecla para continu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042920" y="1989000"/>
            <a:ext cx="7488360" cy="3456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476000" y="2060640"/>
            <a:ext cx="6418440" cy="34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!!!!!!!!!!!! !!!!!!!!! !!!!!!!!! !!!!!!!!! !!!!!!!!! !!!!!!!!!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!!!!!!!!!!!! !!!!!!!!! !!!!!!!!! !!!!!!!!! !!!!!!!!! !!!!!!!!! 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!!!!!!!!!!!! !!!!!!!!! !!!!!!!!! !!!!!!!!! !!!!!!!!! !!!!!!!!!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!!!!!!!!!!!! !!!!!!!!! !!!!!!!!! !!!!!!!!! !!!!!!!!! !!!!!!!!! 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!!!!!!!!!!!! !!!!!!!!! !!!!!!!!! !!!!!!!!! !!!!!!!!! !!!!!!!!!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!!!!!!!!!!!! !!!!!!!!! !!!!!!!!! !!!!!!!!! !!!!!!!!! !!!!!!!!! 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!!!!!!!!!!!! !!!!!!!!! !!!!!!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!! !!!!!!!!! !!!!!!!!! !!!!!!!!!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!!!!!!!!!!!! !!!!!!!!! !!!!!!!!! !!!!!!!!! !!!!!!!!! !!!!!!!!!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5014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Encuentra una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 en la figura inf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6237360"/>
            <a:ext cx="84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Sí has encontrado la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”.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Pulsa una tecla para continu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68360" y="1413000"/>
            <a:ext cx="8353440" cy="475272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476000" y="2111400"/>
            <a:ext cx="6418440" cy="34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OOOOOOOOOOOOOOOOOOOO O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OOOOOOOOOOOOOOOOOOOO O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OOOOOOOOOOOOOOOOOOOO O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OOOOOOOOOOOOOOOOOOOO O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OOOOOOOOOOOOOOOOOOOO O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OOOOOOOOOOOOOCOOOOOO O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OOOOOOOOOOOOOOOOOOOO O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5014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Encuentra una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C”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 en la figura inf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623736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Sí has encontrado la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C”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Pulsa una tecla para continu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6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187280" y="1596960"/>
            <a:ext cx="7561440" cy="34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C13R70 D14 D3 V3R4N0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IERTO DIA DE VERANO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3574B4 3N L4 PL4Y4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STABA EN LA PLAYA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0853RV4ND0 A D05 CH1C45 8R1NC4ND0 3N 14 4R3N4,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OBSERVANDO A DOS CHICAS BRINCANDO EN LA ARENA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357484N 7R484J484ND0 MUCH0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STABAN TRABAJANDO MUCHO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C0N57RUY3ND0 UN C4571LL0 D3 4R3N4 C0N 70RR35, P454D1Z05 0CUL705 Y PU3N735.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ONSTRUYENDO UN CASTILLO DE ARENA CON TORRES PASADIZOS OCULTOS Y PUENTES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43280" y="907920"/>
            <a:ext cx="3230640" cy="43344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2916000" y="5373720"/>
            <a:ext cx="3230280" cy="43344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476000" y="1483920"/>
            <a:ext cx="6418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CU4ND0 357484N 4C484ND0 V1N0 UN4 0L4 D357RUY3ND0 70D0 R3DUC13ND0 3L C4571LL0 4 UN M0N70N D3 4R3N4 Y 35PUM4.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UANDO ESTABAN ACABANDO VINO UNA OLA DESTRUYENDO TODO REDUCIENDO EL CASTILLO A UN MONTON DE ARENA Y ESPUMA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P3N53 9U3 D35PU35 DE 74N70 35FU3RZ0 L45 CH1C45 C0M3NZ4R14N 4 L10R4R,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ENSE QUE DESPUES DE TANTO ESFUERZO LAS CHICAS COMENZARIAN A LLORA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P3R0 3N V3Z D3 350, C0RR13R0N P0R L4 P14Y4 R13ND0 Y JU64ND0 Y C0M3NZ4R0N 4 C0N57RU1R 07R0 C4571LL0;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ERO EN VEZ DE ESO CORRIERON POR LA PLAYA RIENDO Y JUGANDO Y COMENZARON A CONSTRUIR OTRO CASTILLO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43280" y="907920"/>
            <a:ext cx="3230640" cy="43344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2916000" y="5373720"/>
            <a:ext cx="3230280" cy="43344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4000" y="1844640"/>
            <a:ext cx="7848360" cy="34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808080"/>
                </a:solidFill>
                <a:latin typeface="Arial"/>
              </a:rPr>
              <a:t>C0MPR3ND1 9U3 H4814 4PR3ND1D0 UN4 6R4N L3CC10N;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OMPRENDI QUE HABIA APRENDIDO UNA GRAN LECCION;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808080"/>
                </a:solidFill>
                <a:latin typeface="Arial"/>
              </a:rPr>
              <a:t>64574M05 MUCH0 713MP0 D3 NU357R4 V1D4 C0N57RUY3ND0 4L6UN4 C054 P3R0 CU4ND0 M45 74RD3 UN4 0L4 LL364 4 D357RU1R 70D0, S010 P3RM4N3C3 L4 4M1574D, 3L 4M0R Y 3L C4R1Ñ0, Y L45 M4N05 D3 49U3LL05 9U3 50N C4P4C35 D3 H4C3RN05 50NRR31R.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ASTAMOS MUCHO TIEMPO DE NUESTRA VIDA CONSTRUYENDO ALGUNA COSA PERO CUANDO MAS TARDE UNA OLA LLEGA A DESTRUIR TODO. SOLO PERMANECE LA AMISTAD, EL AMOR Y EL CARIÑO, Y LAS MANOS DE AQUELLOS QUE SON CAPACES DE HACERNOS SONRREIR</a:t>
            </a:r>
            <a:r>
              <a:rPr b="0" lang="es-ES" sz="20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843280" y="907920"/>
            <a:ext cx="3230640" cy="43344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0800000">
            <a:off x="2916000" y="5373720"/>
            <a:ext cx="3230280" cy="43344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00000" y="1628640"/>
            <a:ext cx="7704360" cy="4392720"/>
          </a:xfrm>
          <a:prstGeom prst="bevel">
            <a:avLst>
              <a:gd name="adj" fmla="val 4120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476000" y="1988640"/>
            <a:ext cx="641844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MMMMMMMMMMMMMMMMMM MMMMM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MMMMMMMMMMMMMMMMMM MMMMM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MMMMMMMMMMMMMMMMMM MMMMM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MMMMMMMMMMMMMMMMMM MMMMM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MMMMMMMMMMMMMMMMMM MMMMM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MMMMMMMMMMMMMMNMMM MMMMM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MMMMMMMMMMMMMMMMMM MMMMM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MMMMMMMMMMMMMMMMMM MMMMM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MMMMMMMMMMMMMMMMMM MMMMM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MMMMMMMMMMMMMMMMMM MMMMM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5014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Encuentra una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N”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 en la figura inf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623736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Sí has encontrado la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N”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Pulsa una tecla para continu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6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116000" y="1844640"/>
            <a:ext cx="6913440" cy="4176720"/>
          </a:xfrm>
          <a:custGeom>
            <a:avLst/>
            <a:gdLst>
              <a:gd name="textAreaLeft" fmla="*/ 340200 w 6913440"/>
              <a:gd name="textAreaRight" fmla="*/ 6573240 w 6913440"/>
              <a:gd name="textAreaTop" fmla="*/ 340200 h 4176720"/>
              <a:gd name="textAreaBottom" fmla="*/ 3836520 h 4176720"/>
            </a:gdLst>
            <a:ahLst/>
            <a:rect l="textAreaLeft" t="textAreaTop" r="textAreaRight" b="textAreaBottom"/>
            <a:pathLst>
              <a:path w="35752" h="21600">
                <a:moveTo>
                  <a:pt x="2488" y="0"/>
                </a:moveTo>
                <a:arcTo wR="2488" hR="2488" stAng="0" swAng="5400000"/>
                <a:lnTo>
                  <a:pt x="0" y="19112"/>
                </a:lnTo>
                <a:arcTo wR="2488" hR="2488" stAng="16200000" swAng="5400000"/>
                <a:lnTo>
                  <a:pt x="33264" y="21600"/>
                </a:lnTo>
                <a:arcTo wR="2488" hR="2488" stAng="10800000" swAng="5400000"/>
                <a:lnTo>
                  <a:pt x="35752" y="2488"/>
                </a:lnTo>
                <a:arcTo wR="2488" hR="2488" stAng="5400000" swAng="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476000" y="1915920"/>
            <a:ext cx="626436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9999999999999999999999999 99999 9999999999999999999999999 99999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9999999999999999999999999 99999 9999999999999999999999999 99999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9999999999999999999999999 99999 9999999999999999999999999 99999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9999999996999999999999999 99999 9999999999999999999999999 99999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9999999999999999999999999 99999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5014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Encuentra un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6”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 en la figura inf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623736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Sí has encontrado  el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6”.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Pulsa una tecla para continu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6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1700280"/>
            <a:ext cx="8785080" cy="4176720"/>
          </a:xfrm>
          <a:prstGeom prst="octagon">
            <a:avLst>
              <a:gd name="adj" fmla="val 10148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748720" cy="34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¥Ã¥Ã¥Ã¥Ã¥Ã¥Ã¥Ã¥Ã¥Ã¥Ã¥Ã¥Ã¥Ã¥Ã¥Ã¥Ã¥Ã¥Ã¥Ã¥Ã¥Ã¥Ã¥Ã¥Ã¥Ã¥Ã¥Ã¥Ã¥Ã¥Ã¥Ã¥Ã¥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¥Ã¥Ã¥Ã¥Ã¥Ã¥Ã¥Ã¥Ã¥Ã¥Ã¥Ã¥Ã¥Ã¥Ã¥Ã¥Ã¥Ã¥Ã¥Ã¥Ã¥Ã¥Ã¥Ã¥Ã¥Ã¥Ã¥Ã¥Ã¥Ã¥Ã¥Ã¥Ã¥Ã¥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¥Ã¥Ã¥Ã¥Ã¥Ã¥Ã¥Ã¥Ã¥Ã¥Ã¥Ã¥Ã¥Ã¥Ã¥Ã¥Ã¥Ã¥Ã¥Ã¥Ã¥Ã¥Ã¥Ã¥Ã¥Ã¥Ã¥Ã¥Ã¥Ã¥Ã¥Ã¥Ã¥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¥Ã¥Ã¥Ã¥Ã¥Ã¥Ã¥Ã¥Ã¥Ã¥Ã¥Ã¥Ã¥Ã¥Ã¥Ã¥Ã¥Ã¥Ã¥Ã¥Ã¥Ã¥Ã¥Ã¥Ã¥Ã¥Ã¥Ã¥Ã¥Ã¥Ã¥Ã¥Ã¥Ã¥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¥Ã¥Ã¥Ã¥Ã¥Ã¥Ã¥Ã¥Ã¥Ã¥Ã¥Ã¥Ã¥Ã¥Ã¥Ã¥Ã¥Ã¥Ã¥Ã¥Ã¥Ã¥Ã¥Ã¥Ã¥Ã¥Ã¥Ã¥Ã¥Ã¥Ã¥Ã¥Ã¥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¥Ã¥Ã¥Ã¥Ã¥Ã¥Ã¥Ã¥Ã¥Ã¥Ã¥Ã¥Ã¥Ã¥Ã¥Ã¥Ã¥Ã¥Ã¥Ã¥Ã¥Ã¥Ã¥Ã¥Ã¥Ã¥Ã¥Ã¥Ã¥Ã¥Ã¥Ã¥Ã¥Ã¥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¥Ã¥Ã¥Ã¥Ã¥Ã¥Ã¥Ã¥Ã¥Ã¥Ã¥Ã¥Ã¥Ã¥Ã¥Ã¥Ã¥Ã¥Ã¥Ã¥Ã¥Ã¥Ã¥Ã¥Ã¥Ã¥Ã¥Ã¥Ã¥Ã¥Ã¥Ã¥Ã¥    Ã¥Ã¥Ã¥Ã¥Ã¥Ã¥Ã¥Ã¥Ã¥Ã¥Ã¥Ã¥Ã¥Ã¥Ã¥Ã¥Ã¥Ã¥Ã¥Ã¥Ã¥Ã¥Ã¥Ã¥Ã¥Ã¥Ã¥Ã¥Ã¥Ã¥Ã¥Ã¥Ã¥Ã¥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¥Ã¥Ã¥Ã¥Ã¥Ã¥Ã¥Ã¥Ã¥Ã¥Ã¥Ã¥Ã¥Ã¥Ã¥Ã¥Ã¥Ã¥Ã¥Ã¥Ã¥Ã¥Ã¥Ã¥aÃ¥Ã¥Ã¥Ã¥Ã¥Ã¥Ã¥Ã¥Ã¥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¥Ã¥Ã¥Ã¥Ã¥Ã¥Ã¥Ã¥Ã¥Ã¥Ã¥Ã¥Ã¥Ã¥Ã¥Ã¥Ã¥Ã¥Ã¥Ã¥Ã¥Ã¥Ã¥Ã¥Ã¥Ã¥Ã¥Ã¥Ã¥Ã¥Ã¥Ã¥Ã¥Ã¥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¥Ã¥Ã¥Ã¥Ã¥Ã¥Ã¥Ã¥Ã¥Ã¥Ã¥Ã¥Ã¥Ã¥Ã¥Ã¥Ã¥Ã¥Ã¥Ã¥Ã¥Ã¥Ã¥Ã¥Ã¥Ã¥Ã¥Ã¥Ã¥Ã¥Ã¥Ã¥Ã¥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¥Ã¥Ã¥Ã¥Ã¥Ã¥Ã¥Ã¥Ã¥Ã¥Ã¥Ã¥Ã¥Ã¥Ã¥Ã¥Ã¥Ã¥Ã¥Ã¥Ã¥Ã¥Ã¥Ã¥Ã¥Ã¥Ã¥Ã¥Ã¥Ã¥Ã¥Ã¥Ã¥Ã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5014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Encuentra una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a”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 en la figura inf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623736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Sí has encontrado la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a”.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Pulsa una tecla para continu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6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68360" y="1916280"/>
            <a:ext cx="8351640" cy="35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755640" y="2205000"/>
            <a:ext cx="7848720" cy="34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§Ã§Ã§Ã§Ã§Ã§Ã§Ã§Ã§Ã§Ã§Ã§Ã§Ã§Ã§Ã§Ã§Ã§Ã§Ã§Ã§Ã§Ã§Ã§Ã§Ã§Ã§Ã§Ã§Ã§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§Ã§Ã§Ã§Ã§Ã§Ã§Ã§Ã§Ã§Ã§Ã§Ã§Ã§Ã§Ã§Ã§Ã§Ã§Ã§Ã§Ã§Ã§Ã§Ã§Ã§Ã§Ã§Ã§Ã§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§Ã§Ã§Ã§Ã§Ã§Ã§Ã§Ã§Ã§Ã§Ã§Ã§Ã§Ã§Ã§Ã§Ã§Ã§Ã§Ã§Ã§Ã§Ã§Ã§Ã§Ã§Ã§Ã§Ã§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§Ã§Ã§Ã§Ã§Ã§Ã§Ã§Ã§Ã§Ã§Ã§Ã§Ã§Ã§Ã§Ã§Ã§Ã§Ã§Ã§Ã§Ã§Ã§Ã§Ã§Ã§Ã§Ã§Ã§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§Ã§Ã§Ã§Ã§Ã§Ã§Ã§Ã§Ã§Ã§Ã§Ã§Ã§Ã§Ã§Ã§Ã§Ã§Ã§Ã§Ã§Ã§Ã§Ã§Ã§Ã§Ã§Ã§Ã§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§Ã§Ã§Ã§Ã§Ã§Ã§Ã§Ãc§Ã§Ã§Ã§Ã§Ã§Ã§cÃ§Ã§Ã§Ã§Ã§Ã§Ã§Ã§Ã§Ã§Ã§Ã§Ã§Ã§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§Ã§Ã§Ã§Ã§Ã§Ã§Ã§Ã§Ã§Ã§Ã§Ã§Ã§Ã§Ã§Ã§Ã§Ã§Ã§Ã§Ã§Ã§Ã§Ã§Ã§Ã§Ã§Ã§Ã§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§Ã§Ã§Ã§Ã§Ã§Ã§Ã§Ã§Ã§Ã§Ã§Ã§Ã§Ã§Ã§Ã§Ã§Ã§Ã§Ã§Ã§Ã§Ã§Ã§Ã§Ã§Ã§Ã§Ã§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§Ã§Ã§Ã§Ã§Ã§Ã§Ã§Ã§Ã§Ã§Ã§Ã§Ã§Ã§Ã§Ã§Ã§Ã§Ã§Ã§Ã§Ã§Ã§Ã§Ã§Ã§Ã§Ã§Ã§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§Ã§Ã§Ã§Ã§Ã§Ã§Ã§Ã§Ã§Ã§Ã§Ã§Ã§Ã§Ã§Ã§Ã§Ã§Ã§Ã§Ã§Ã§Ã§Ã§Ã§Ã§Ã§Ã§Ã§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§Ã§Ã§Ã§Ã§Ã§Ã§Ã§Ã§Ã§Ã§Ã§Ã§Ã§Ã§Ã§Ã§Ã§Ã§Ã§Ã§Ã§Ã§Ã§Ã§Ã§Ã§Ã§Ã§Ã§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§Ã§Ã§Ã§Ã§Ã§Ã§Ã§Ã§Ã§Ã§Ã§Ã§Ã§Ã§Ã§Ã§Ã§Ã§Ã§Ã§Ã§Ã§Ã§Ã§Ã§Ã§Ã§Ã§Ã§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5014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Encuentra una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“c”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 en la figura inf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623736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Sí has encontrado la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“c”.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Pulsa una tecla para continu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60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42920" y="1989000"/>
            <a:ext cx="7488360" cy="3456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476000" y="2060640"/>
            <a:ext cx="6418440" cy="34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!!!!!!!!!!!! !!!!!!!!! !!!!!!!!! !!!!!!!!! !!!!!!!!! !!!!!!!!!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!!!!!!!!!!!! !!!!!!!!! !!!!!!!!! !!!!!!!!! !!!!!!!!! !!!!!!!!! 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!!!!!!!!!!!! !!!!!!!!! !!!!!!!!! !!!!!!!!! !!!!!!!!! !!!!!!!!!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!!!!!!!!!!!! !!!!!!!!! !!!!!!!!! !!!!!!!!! !!!!!!!!! !!!!!!!!! 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!!!!!!!!!!!! !!!!!!!!! !!!!!!!!! !!!!!!!!! !!!!!!!!! !!!!!!!!!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!!!!!!!!!!!! !!!!!!!!! !!!!!!!!! !!!!!!!!! !!!!!!!!! !!!!!!!!! 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!!!!!!!!!!!! !!!!!!!!! !!!!!!i!! !!!!!!!!! !!!!!!!!! !!!!!!!!!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!!!!!!!!!!!! !!!!!!!!! !!!!!!!!! !!!!!!!!! !!!!!!!!! !!!!!!!!!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5014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Encuentra una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 en la figura inf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6237360"/>
            <a:ext cx="84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Sí has encontrado la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”.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Pulsa una tecla para continu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6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Hglass.gif (25156 bytes)"/>
          <p:cNvPicPr/>
          <p:nvPr/>
        </p:nvPicPr>
        <p:blipFill>
          <a:blip r:embed="rId1"/>
          <a:stretch/>
        </p:blipFill>
        <p:spPr>
          <a:xfrm>
            <a:off x="3635280" y="2421000"/>
            <a:ext cx="1524240" cy="1143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32000" y="620640"/>
            <a:ext cx="633564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800" spc="-1" strike="noStrike">
                <a:solidFill>
                  <a:srgbClr val="ffffff"/>
                </a:solidFill>
                <a:latin typeface="Monotype Corsiva"/>
              </a:rPr>
              <a:t>Tómate un descanso y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4076640"/>
            <a:ext cx="813744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800" spc="-1" strike="noStrike">
                <a:solidFill>
                  <a:srgbClr val="ffffff"/>
                </a:solidFill>
                <a:latin typeface="Monotype Corsiva"/>
              </a:rPr>
              <a:t>… </a:t>
            </a:r>
            <a:r>
              <a:rPr b="0" i="1" lang="es-ES" sz="4800" spc="-1" strike="noStrike">
                <a:solidFill>
                  <a:srgbClr val="ffffff"/>
                </a:solidFill>
                <a:latin typeface="Monotype Corsiva"/>
              </a:rPr>
              <a:t>Pide un deseo antes de continua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52840" y="3246480"/>
            <a:ext cx="2401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Monotype Corsiv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68360" y="2276640"/>
            <a:ext cx="822960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Monotype Corsiva"/>
              </a:rPr>
              <a:t>Debo decir que el siguiente  texto no es únicamente un juego, está comprobado que una persona que le cueste descifrar su contenido, tiene mayor posibilidad que otras de sufrir Alzheimer.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Monotype Corsiva"/>
              </a:rPr>
              <a:t> ¡¡¡ Si !!!,  Alzheimer.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Monotype Corsiva"/>
              </a:rPr>
              <a:t>¡¡¡ Espero que puedas descifrarlo !!!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I CONSIGUES LEER LAS PRIMERAS PALABRAS, EL CEREBRO DESCIFRARA LAS SIGUIENTES. </a:t>
            </a:r>
            <a:r>
              <a:rPr b="0" lang="es-E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14:41:53Z</dcterms:created>
  <dc:creator>El taller del PePeeSe</dc:creator>
  <dc:description/>
  <dc:language>en-US</dc:language>
  <cp:lastModifiedBy>JLA</cp:lastModifiedBy>
  <dcterms:modified xsi:type="dcterms:W3CDTF">2009-09-01T05:45:28Z</dcterms:modified>
  <cp:revision>25</cp:revision>
  <dc:subject/>
  <dc:title>Gimnasia Cerebral</dc:title>
</cp:coreProperties>
</file>