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esuscitat%20de%20tenebres19w%20(text%20no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90F-2ACB-4F29-8D88-F4522137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FD2-D8FE-4053-A7BF-D0979858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13A-B052-4A33-A9AC-B1D69CDD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B89-9349-459A-863D-F1A38319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A4F-090E-4C56-BD93-401BE21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4DE-6EBC-455F-AF0E-FF70FACA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F43-BC7E-4AB6-978A-053F5D24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58B-3AC0-4360-9FC4-895BA5C4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4A1-0CA8-4142-8AC6-98F4DD0C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73A-E4F0-477F-8E5A-75DEDE4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39C-D5B6-4B49-93BC-E781476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0A5-6CF6-42D1-923C-23FF621B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8C39-FF23-49AE-AB30-8D30BA355EBE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suscitat%20de%20tenebres19w%20(text%20no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lmsievangeli.net/" TargetMode="External"/><Relationship Id="rId2" Type="http://schemas.openxmlformats.org/officeDocument/2006/relationships/hyperlink" Target="http://www.salmsievangeli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#10;191011.jpg                                                     00021FFC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1295280"/>
            <a:ext cx="9067680" cy="1724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000" spc="-1" strike="noStrike">
                <a:solidFill>
                  <a:srgbClr val="ffffff"/>
                </a:solidFill>
                <a:latin typeface="Comic Sans MS"/>
              </a:rPr>
              <a:t>Domingo</a:t>
            </a:r>
            <a:r>
              <a:rPr b="1" i="1" lang="ca-ES" sz="4700" spc="-1" strike="noStrike">
                <a:solidFill>
                  <a:srgbClr val="ffffff"/>
                </a:solidFill>
                <a:latin typeface="Comic Sans MS"/>
              </a:rPr>
              <a:t> de Pascua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700" spc="-1" strike="noStrike">
                <a:solidFill>
                  <a:srgbClr val="ffffff"/>
                </a:solidFill>
                <a:latin typeface="Comic Sans MS"/>
              </a:rPr>
              <a:t>de la Resurrección del Señor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70920" y="3657600"/>
            <a:ext cx="524016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af7ff"/>
                </a:solidFill>
                <a:latin typeface="Comic Sans MS"/>
              </a:rPr>
              <a:t>4 de abril de2010</a:t>
            </a:r>
            <a:r>
              <a:rPr b="0" i="1" lang="ca-ES" sz="4800" spc="-1" strike="noStrike">
                <a:solidFill>
                  <a:srgbClr val="0af7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7053120" y="763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8b319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c11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fc11ff"/>
                </a:solidFill>
                <a:latin typeface="Comic Sans MS"/>
              </a:rPr>
              <a:t> C</a:t>
            </a:r>
            <a:r>
              <a:rPr b="1" lang="ca-ES" sz="3200" spc="-1" strike="noStrike">
                <a:solidFill>
                  <a:srgbClr val="08b31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57200" y="5638680"/>
            <a:ext cx="8686800" cy="947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úsica: “Cristo ha Resuscitado” de la litúrgia maronita de los primeros siglos del cristian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Resuscitat%20de%20tenebres19w%20(text%20no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2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76720" y="2478240"/>
            <a:ext cx="2361960" cy="7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NICIO</a:t>
            </a:r>
            <a:r>
              <a:rPr b="0" lang="ca-E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_x0007_055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51360" y="76320"/>
            <a:ext cx="504684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mic Sans MS"/>
              </a:rPr>
              <a:t>Sepulcro de la época de Jesús, en Jerusalé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04920" y="914400"/>
            <a:ext cx="8534160" cy="5277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vantGarde Bk BT"/>
                <a:ea typeface="Arial Unicode MS"/>
              </a:rPr>
              <a:t>Hechos 10,34a. 37-43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dro tom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ntonces la palabra y dijo: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–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Ya conoc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s lo que ha ocurrido en el pa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de los ju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s, comenzando por Galilea, despu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del bautismo predicado por Juan. Me refiero a Jes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de Nazaret, a quien Dios ungi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Esp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u Santo y poder. El pas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haciendo el bien y curando a los oprimidos por el demonio, porque Dios estaba con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. Nosotros somos testigos de todo lo que hizo en el pa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de los ju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s y en Jerusal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. A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, a quien mataron colg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dolo de un madero, Dios lo resucit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l tercer 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y le concedi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 se manifestase, no a todo el pueblo, sino a los testigos elegidos de antemano por Dios, a nosotros que comimos y bebimos con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despu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 que resucit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de entre los muertos.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nos man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predicar al pueblo y dar testimonio de que Dios lo ha constituido juez de vivos y muertos. De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dan testimonio todos los profetas, afirmando que todo el que cree en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recibe el perd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 de los pecados, por medio de su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10;150514.jpg                                                     00021FFC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78200" y="76320"/>
            <a:ext cx="351828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1efcff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1efcff"/>
                </a:solidFill>
                <a:latin typeface="Comic Sans MS"/>
              </a:rPr>
              <a:t>11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52280" y="1676520"/>
            <a:ext cx="87631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 </a:t>
            </a: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Este el es día en que actuó el Señor:</a:t>
            </a:r>
            <a:br>
              <a:rPr sz="3600"/>
            </a:b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sea nuestra alegría y nuestro goz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28600" y="4114800"/>
            <a:ext cx="8915400" cy="1556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¡Dad gracias al Señor, porque es bueno,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porque es eterno su amor!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Diga el pueblo de Israel: es eterno su a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10;191010.jpg                                                     00021FFC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52280" y="457200"/>
            <a:ext cx="89917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 </a:t>
            </a: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Este es el día en que actuó el Señor:</a:t>
            </a:r>
            <a:br>
              <a:rPr sz="3600"/>
            </a:b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sea nuestra alegría y nuestro goz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3429000"/>
            <a:ext cx="8686800" cy="2531880"/>
          </a:xfrm>
          <a:prstGeom prst="rect">
            <a:avLst/>
          </a:prstGeom>
          <a:solidFill>
            <a:srgbClr val="1ef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La diestra del Señor es sublime,</a:t>
            </a:r>
            <a:br>
              <a:rPr sz="4000"/>
            </a:b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la diestra del Señor hace proezas.</a:t>
            </a:r>
            <a:br>
              <a:rPr sz="4000"/>
            </a:b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No he de morir, viviré</a:t>
            </a:r>
            <a:br>
              <a:rPr sz="4000"/>
            </a:br>
            <a:r>
              <a:rPr b="0" i="1" lang="ca-ES" sz="4000" spc="-1" strike="noStrike">
                <a:solidFill>
                  <a:srgbClr val="000000"/>
                </a:solidFill>
                <a:latin typeface="Comic Sans MS"/>
              </a:rPr>
              <a:t>y contaré las hazañas del Señ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#10;150520.jpg                                                     00021FFC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62120" y="457200"/>
            <a:ext cx="7924680" cy="1130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e11ca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e11ca"/>
                </a:solidFill>
                <a:latin typeface="Comic Sans MS"/>
              </a:rPr>
              <a:t>Este es el día en que actuó el Señor:</a:t>
            </a:r>
            <a:br>
              <a:rPr sz="3200"/>
            </a:br>
            <a:r>
              <a:rPr b="1" i="1" lang="ca-ES" sz="3200" spc="-1" strike="noStrike">
                <a:solidFill>
                  <a:srgbClr val="0e11ca"/>
                </a:solidFill>
                <a:latin typeface="Comic Sans MS"/>
              </a:rPr>
              <a:t>sea nuestra alegría y nuestro go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3914640"/>
            <a:ext cx="9144000" cy="2104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La piedra que rechazaron los constructores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se ha convertido en piedra an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Esto es obra del Señor y es realmente</a:t>
            </a:r>
            <a:br>
              <a:rPr sz="3200"/>
            </a:b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admi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st benet\Mis documentos\Mis imágenes\naturalesa\llums\solcel3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914400" y="533520"/>
            <a:ext cx="6934320" cy="37515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l 3,1-4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pues, ya que habéis resucitado con Cristo, buscad las cosas de arriba, donde está Cristo sentado a la derecha de Dios. Pensad en las cosas de arriba, no en las de la tierra. Habéis muerto,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vuestra vida está escondida con Cristo en Dios; cuando aparezca Cristo, vuestra vida, entonces también vosotros apareceréis gloriosos con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&#10;151208.jpg                                                     00021FFC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0" y="3059280"/>
            <a:ext cx="9144000" cy="1678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ca-ES" sz="2000" spc="-1" strike="noStrike">
                <a:solidFill>
                  <a:srgbClr val="a30611"/>
                </a:solidFill>
                <a:latin typeface="Comic Sans MS"/>
              </a:rPr>
              <a:t>ACLAMACIÓN   1Co 5, 7b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¡Aleluya! ¡Aleluy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Ha sido inmolada nuestra víctima pascual: Cri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Así pues, celebremos la Pascua. ¡Aleluy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st benet\Mis documentos\Mis imágenes\bíblics\sepul-cru-resu\010 int santsepulcw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685800" y="152280"/>
            <a:ext cx="8153280" cy="5153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n 20,1-9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domingo por la ma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, muy temprano, antes de salir el sol, Ma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Magdalena se present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el sepulcro. Cuando vio que ha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sido rodada la piedra que tapaba la entrada, se volvi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rriendo a la ciudad para cont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selo a Sim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Pedro y al otro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 a quien Jes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tanto que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. Les dijo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–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han llevado del sepulcro al Se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r, y no sabemos d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de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 han puesto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dro y el otro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 se fueron 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idamente al sepulcro. Salieron corriendo los dos juntos, pero el otro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 adelant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 Pedro y lleg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ntes que 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. Al asomarse al interior vio que las vendas de lino estaban all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; pero no ent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Sigui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dole los pasos lleg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im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Pedro que ent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el sepulcro, y compro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que las vendas de lino estaban all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Estaba tambi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el pa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 que ha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 colocado sobre la cabeza de Jes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, pero no estaba con las vendas, sino doblado y colocado aparte. Entonces entr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i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é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el otro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, el que ha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llegado primero al sepulcro. Vio y crey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 (Y es que hasta entonces, los disc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los no hab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 entendido la Escritura, seg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 la cual Jes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ú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ten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que resucitar de entre los muertos).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3840" y="6429240"/>
            <a:ext cx="18784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mic Sans MS"/>
              </a:rPr>
              <a:t>Santo Sepulc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_x0007_056.jpg   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¡¡Cristo ha resucitado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¡Realment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ha resucit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410080" y="838080"/>
            <a:ext cx="2762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ff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¡¡ Aleluya 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4:25:54Z</dcterms:created>
  <dc:creator>JOAN RAMIREZ</dc:creator>
  <dc:description/>
  <dc:language>en-US</dc:language>
  <cp:lastModifiedBy>Usuario</cp:lastModifiedBy>
  <dcterms:modified xsi:type="dcterms:W3CDTF">2010-04-02T21:35:07Z</dcterms:modified>
  <cp:revision>20</cp:revision>
  <dc:subject/>
  <dc:title>Presentación de PowerPoint</dc:title>
</cp:coreProperties>
</file>