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Resuscitat%20de%20tenebres19w%20(text%20no)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AFDD-D588-4C05-8ECE-4A3DE4B77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AF85-B24F-4F27-A4BE-20690C84B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831C-13B2-4B66-BFF9-C52B30A56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00FE-A891-400C-AF21-72D867B72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E34F-B00C-4AC0-80DA-93EE07408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2975-A01E-4337-8CD4-A0DA7FF49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A5C9-0869-4AE0-928A-51E488E92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E348-611B-4C1D-9548-261887D95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4508-5452-4B90-B503-FC5A07F40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D4BB-05FE-439C-8592-26E4786D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C654-F8C3-4996-9EA9-C34D43D0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6DD4-41C6-44AB-86DE-EF99DD2F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ED9F-A29F-464B-B24D-F2D5E311E6D7}" type="slidenum"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Resuscitat%20de%20tenebres19w%20(text%20no)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almsievangeli.net/" TargetMode="External"/><Relationship Id="rId2" Type="http://schemas.openxmlformats.org/officeDocument/2006/relationships/hyperlink" Target="http://www.salmsievangeli.net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&#10;191011.jpg                                                     00021FFC_x000c_Macintosh HD                   B9BE4824: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0" y="1295280"/>
            <a:ext cx="9067680" cy="17244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6000" spc="-1" strike="noStrike">
                <a:solidFill>
                  <a:srgbClr val="ffffff"/>
                </a:solidFill>
                <a:latin typeface="Comic Sans MS"/>
              </a:rPr>
              <a:t>Domingo</a:t>
            </a:r>
            <a:r>
              <a:rPr b="1" i="1" lang="ca-ES" sz="4700" spc="-1" strike="noStrike">
                <a:solidFill>
                  <a:srgbClr val="ffffff"/>
                </a:solidFill>
                <a:latin typeface="Comic Sans MS"/>
              </a:rPr>
              <a:t> de Pascua 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7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ca-ES" sz="4700" spc="-1" strike="noStrike">
                <a:solidFill>
                  <a:srgbClr val="ffffff"/>
                </a:solidFill>
                <a:latin typeface="Comic Sans MS"/>
              </a:rPr>
              <a:t>de la Resurrección del Señor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1870920" y="3657600"/>
            <a:ext cx="5240160" cy="825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800" spc="-1" strike="noStrike">
                <a:solidFill>
                  <a:srgbClr val="0af7ff"/>
                </a:solidFill>
                <a:latin typeface="Comic Sans MS"/>
              </a:rPr>
              <a:t>4 de abril de2010</a:t>
            </a:r>
            <a:r>
              <a:rPr b="0" i="1" lang="ca-ES" sz="4800" spc="-1" strike="noStrike">
                <a:solidFill>
                  <a:srgbClr val="0af7ff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7053120" y="76320"/>
            <a:ext cx="18622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8b319"/>
                </a:solidFill>
                <a:latin typeface="Comic Sans MS"/>
              </a:rPr>
              <a:t> </a:t>
            </a:r>
            <a:r>
              <a:rPr b="1" i="1" lang="ca-ES" sz="3200" spc="-1" strike="noStrike">
                <a:solidFill>
                  <a:srgbClr val="fc11ff"/>
                </a:solidFill>
                <a:latin typeface="Comic Sans MS"/>
              </a:rPr>
              <a:t>Ciclo</a:t>
            </a:r>
            <a:r>
              <a:rPr b="1" lang="ca-ES" sz="3200" spc="-1" strike="noStrike">
                <a:solidFill>
                  <a:srgbClr val="fc11ff"/>
                </a:solidFill>
                <a:latin typeface="Comic Sans MS"/>
              </a:rPr>
              <a:t> C</a:t>
            </a:r>
            <a:r>
              <a:rPr b="1" lang="ca-ES" sz="3200" spc="-1" strike="noStrike">
                <a:solidFill>
                  <a:srgbClr val="08b319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457200" y="5638680"/>
            <a:ext cx="8686800" cy="94716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Música: “Cristo ha Resuscitado” de la litúrgia maronita de los primeros siglos del cristianism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2" name="Resuscitat%20de%20tenebres19w%20(text%20no)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25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3276720" y="2478240"/>
            <a:ext cx="2361960" cy="7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6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INICIO</a:t>
            </a:r>
            <a:r>
              <a:rPr b="0" lang="ca-ES" sz="32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_x0007_055.jpg                                                        00000013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51360" y="76320"/>
            <a:ext cx="5046840" cy="38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900" spc="-1" strike="noStrike">
                <a:solidFill>
                  <a:srgbClr val="000000"/>
                </a:solidFill>
                <a:latin typeface="Comic Sans MS"/>
              </a:rPr>
              <a:t>Sepulcro de la época de Jesús, en Jerusalé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304920" y="914400"/>
            <a:ext cx="8534160" cy="5277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AvantGarde Bk BT"/>
                <a:ea typeface="Arial Unicode MS"/>
              </a:rPr>
              <a:t>Hechos 10,34a. 37-43 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edro tom</a:t>
            </a:r>
            <a:r>
              <a:rPr b="1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entonces la palabra y dijo: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–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Ya conoc</a:t>
            </a:r>
            <a:r>
              <a:rPr b="1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é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s lo que ha ocurrido en el pa</a:t>
            </a:r>
            <a:r>
              <a:rPr b="1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í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 de los jud</a:t>
            </a:r>
            <a:r>
              <a:rPr b="1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í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os, comenzando por Galilea, despu</a:t>
            </a:r>
            <a:r>
              <a:rPr b="1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é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 del bautismo predicado por Juan. Me refiero a Jes</a:t>
            </a:r>
            <a:r>
              <a:rPr b="1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ú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 de Nazaret, a quien Dios ungi</a:t>
            </a:r>
            <a:r>
              <a:rPr b="1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con Esp</a:t>
            </a:r>
            <a:r>
              <a:rPr b="1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í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ritu Santo y poder. El pas</a:t>
            </a:r>
            <a:r>
              <a:rPr b="1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haciendo el bien y curando a los oprimidos por el demonio, porque Dios estaba con </a:t>
            </a:r>
            <a:r>
              <a:rPr b="1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é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. Nosotros somos testigos de todo lo que hizo en el pa</a:t>
            </a:r>
            <a:r>
              <a:rPr b="1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í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 de los jud</a:t>
            </a:r>
            <a:r>
              <a:rPr b="1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í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os y en Jerusal</a:t>
            </a:r>
            <a:r>
              <a:rPr b="1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é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n. A </a:t>
            </a:r>
            <a:r>
              <a:rPr b="1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é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, a quien mataron colg</a:t>
            </a:r>
            <a:r>
              <a:rPr b="1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á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ndolo de un madero, Dios lo resucit</a:t>
            </a:r>
            <a:r>
              <a:rPr b="1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al tercer d</a:t>
            </a:r>
            <a:r>
              <a:rPr b="1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í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 y le concedi</a:t>
            </a:r>
            <a:r>
              <a:rPr b="1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que se manifestase, no a todo el pueblo, sino a los testigos elegidos de antemano por Dios, a nosotros que comimos y bebimos con </a:t>
            </a:r>
            <a:r>
              <a:rPr b="1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é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 despu</a:t>
            </a:r>
            <a:r>
              <a:rPr b="1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é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 que resucit</a:t>
            </a:r>
            <a:r>
              <a:rPr b="1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de entre los muertos. </a:t>
            </a:r>
            <a:r>
              <a:rPr b="1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É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 nos mand</a:t>
            </a:r>
            <a:r>
              <a:rPr b="1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predicar al pueblo y dar testimonio de que Dios lo ha constituido juez de vivos y muertos. De </a:t>
            </a:r>
            <a:r>
              <a:rPr b="1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é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 dan testimonio todos los profetas, afirmando que todo el que cree en </a:t>
            </a:r>
            <a:r>
              <a:rPr b="1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é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 recibe el perd</a:t>
            </a:r>
            <a:r>
              <a:rPr b="1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n de los pecados, por medio de su nom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&#10;150514.jpg                                                     00021FFC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178200" y="76320"/>
            <a:ext cx="3518280" cy="1099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6600" spc="-1" strike="noStrike">
                <a:solidFill>
                  <a:srgbClr val="1efcff"/>
                </a:solidFill>
                <a:latin typeface="Comic Sans MS"/>
              </a:rPr>
              <a:t>Salmo </a:t>
            </a:r>
            <a:r>
              <a:rPr b="1" i="1" lang="ca-ES" sz="2800" spc="-1" strike="noStrike">
                <a:solidFill>
                  <a:srgbClr val="1efcff"/>
                </a:solidFill>
                <a:latin typeface="Comic Sans MS"/>
              </a:rPr>
              <a:t>117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152280" y="1676520"/>
            <a:ext cx="8763120" cy="11912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600" spc="-1" strike="noStrike">
                <a:solidFill>
                  <a:srgbClr val="0e11ca"/>
                </a:solidFill>
                <a:latin typeface="Comic Sans MS"/>
              </a:rPr>
              <a:t> </a:t>
            </a:r>
            <a:r>
              <a:rPr b="1" i="1" lang="ca-ES" sz="3600" spc="-1" strike="noStrike">
                <a:solidFill>
                  <a:srgbClr val="0e11ca"/>
                </a:solidFill>
                <a:latin typeface="Comic Sans MS"/>
              </a:rPr>
              <a:t>Este el es día en que actuó el Señor:</a:t>
            </a:r>
            <a:br>
              <a:rPr sz="3600"/>
            </a:br>
            <a:r>
              <a:rPr b="1" i="1" lang="ca-ES" sz="3600" spc="-1" strike="noStrike">
                <a:solidFill>
                  <a:srgbClr val="0e11ca"/>
                </a:solidFill>
                <a:latin typeface="Comic Sans MS"/>
              </a:rPr>
              <a:t>sea nuestra alegría y nuestro goz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228600" y="4114800"/>
            <a:ext cx="8915400" cy="1556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ca-ES" sz="3200" spc="-1" strike="noStrike">
                <a:solidFill>
                  <a:srgbClr val="000000"/>
                </a:solidFill>
                <a:latin typeface="Comic Sans MS"/>
              </a:rPr>
              <a:t>¡Dad gracias al Señor, porque es bueno,</a:t>
            </a:r>
            <a:br>
              <a:rPr sz="3200"/>
            </a:br>
            <a:r>
              <a:rPr b="1" i="1" lang="ca-ES" sz="3200" spc="-1" strike="noStrike">
                <a:solidFill>
                  <a:srgbClr val="000000"/>
                </a:solidFill>
                <a:latin typeface="Comic Sans MS"/>
              </a:rPr>
              <a:t>porque es eterno su amor!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200" spc="-1" strike="noStrike">
                <a:solidFill>
                  <a:srgbClr val="000000"/>
                </a:solidFill>
                <a:latin typeface="Comic Sans MS"/>
              </a:rPr>
              <a:t>Diga el pueblo de Israel: es eterno su am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3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&#10;191010.jpg                                                     00021FFC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152280" y="457200"/>
            <a:ext cx="8991720" cy="11912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600" spc="-1" strike="noStrike">
                <a:solidFill>
                  <a:srgbClr val="0e11ca"/>
                </a:solidFill>
                <a:latin typeface="Comic Sans MS"/>
              </a:rPr>
              <a:t> </a:t>
            </a:r>
            <a:r>
              <a:rPr b="1" i="1" lang="ca-ES" sz="3600" spc="-1" strike="noStrike">
                <a:solidFill>
                  <a:srgbClr val="0e11ca"/>
                </a:solidFill>
                <a:latin typeface="Comic Sans MS"/>
              </a:rPr>
              <a:t>Este es el día en que actuó el Señor:</a:t>
            </a:r>
            <a:br>
              <a:rPr sz="3600"/>
            </a:br>
            <a:r>
              <a:rPr b="1" i="1" lang="ca-ES" sz="3600" spc="-1" strike="noStrike">
                <a:solidFill>
                  <a:srgbClr val="0e11ca"/>
                </a:solidFill>
                <a:latin typeface="Comic Sans MS"/>
              </a:rPr>
              <a:t>sea nuestra alegría y nuestro gozo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228600" y="3429000"/>
            <a:ext cx="8686800" cy="2531880"/>
          </a:xfrm>
          <a:prstGeom prst="rect">
            <a:avLst/>
          </a:prstGeom>
          <a:solidFill>
            <a:srgbClr val="1ef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ca-ES" sz="4000" spc="-1" strike="noStrike">
                <a:solidFill>
                  <a:srgbClr val="000000"/>
                </a:solidFill>
                <a:latin typeface="Comic Sans MS"/>
              </a:rPr>
              <a:t>La diestra del Señor es sublime,</a:t>
            </a:r>
            <a:br>
              <a:rPr sz="4000"/>
            </a:br>
            <a:r>
              <a:rPr b="0" i="1" lang="ca-ES" sz="4000" spc="-1" strike="noStrike">
                <a:solidFill>
                  <a:srgbClr val="000000"/>
                </a:solidFill>
                <a:latin typeface="Comic Sans MS"/>
              </a:rPr>
              <a:t>la diestra del Señor hace proezas.</a:t>
            </a:r>
            <a:br>
              <a:rPr sz="4000"/>
            </a:br>
            <a:r>
              <a:rPr b="0" i="1" lang="ca-ES" sz="4000" spc="-1" strike="noStrike">
                <a:solidFill>
                  <a:srgbClr val="000000"/>
                </a:solidFill>
                <a:latin typeface="Comic Sans MS"/>
              </a:rPr>
              <a:t>No he de morir, viviré</a:t>
            </a:r>
            <a:br>
              <a:rPr sz="4000"/>
            </a:br>
            <a:r>
              <a:rPr b="0" i="1" lang="ca-ES" sz="4000" spc="-1" strike="noStrike">
                <a:solidFill>
                  <a:srgbClr val="000000"/>
                </a:solidFill>
                <a:latin typeface="Comic Sans MS"/>
              </a:rPr>
              <a:t>y contaré las hazañas del Seño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&#10;150520.jpg                                                     00021FFC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762120" y="457200"/>
            <a:ext cx="7924680" cy="11300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600" spc="-1" strike="noStrike">
                <a:solidFill>
                  <a:srgbClr val="0e11ca"/>
                </a:solidFill>
                <a:latin typeface="Comic Sans MS"/>
              </a:rPr>
              <a:t> </a:t>
            </a:r>
            <a:r>
              <a:rPr b="1" i="1" lang="ca-ES" sz="3200" spc="-1" strike="noStrike">
                <a:solidFill>
                  <a:srgbClr val="0e11ca"/>
                </a:solidFill>
                <a:latin typeface="Comic Sans MS"/>
              </a:rPr>
              <a:t>Este es el día en que actuó el Señor:</a:t>
            </a:r>
            <a:br>
              <a:rPr sz="3200"/>
            </a:br>
            <a:r>
              <a:rPr b="1" i="1" lang="ca-ES" sz="3200" spc="-1" strike="noStrike">
                <a:solidFill>
                  <a:srgbClr val="0e11ca"/>
                </a:solidFill>
                <a:latin typeface="Comic Sans MS"/>
              </a:rPr>
              <a:t>sea nuestra alegría y nuestro goz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0" y="3914640"/>
            <a:ext cx="9144000" cy="21049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ca-ES" sz="3200" spc="-1" strike="noStrike">
                <a:solidFill>
                  <a:srgbClr val="000000"/>
                </a:solidFill>
                <a:latin typeface="Comic Sans MS"/>
              </a:rPr>
              <a:t>La piedra que rechazaron los constructores</a:t>
            </a:r>
            <a:br>
              <a:rPr sz="3200"/>
            </a:br>
            <a:r>
              <a:rPr b="1" i="1" lang="ca-ES" sz="3200" spc="-1" strike="noStrike">
                <a:solidFill>
                  <a:srgbClr val="000000"/>
                </a:solidFill>
                <a:latin typeface="Comic Sans MS"/>
              </a:rPr>
              <a:t>se ha convertido en piedra angul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200" spc="-1" strike="noStrike">
                <a:solidFill>
                  <a:srgbClr val="000000"/>
                </a:solidFill>
                <a:latin typeface="Comic Sans MS"/>
              </a:rPr>
              <a:t>Esto es obra del Señor y es realmente</a:t>
            </a:r>
            <a:br>
              <a:rPr sz="3200"/>
            </a:br>
            <a:r>
              <a:rPr b="1" i="1" lang="ca-ES" sz="3200" spc="-1" strike="noStrike">
                <a:solidFill>
                  <a:srgbClr val="000000"/>
                </a:solidFill>
                <a:latin typeface="Comic Sans MS"/>
              </a:rPr>
              <a:t>admir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C:\Documents and Settings\st benet\Mis documentos\Mis imágenes\naturalesa\llums\solcel3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2"/>
          <p:cNvSpPr/>
          <p:nvPr/>
        </p:nvSpPr>
        <p:spPr>
          <a:xfrm>
            <a:off x="914400" y="533520"/>
            <a:ext cx="6934320" cy="375156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l 3,1-4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sí pues, ya que habéis resucitado con Cristo, buscad las cosas de arriba, donde está Cristo sentado a la derecha de Dios. Pensad en las cosas de arriba, no en las de la tierra. Habéis muerto, 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y vuestra vida está escondida con Cristo en Dios; cuando aparezca Cristo, vuestra vida, entonces también vosotros apareceréis gloriosos con é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&#10;151208.jpg                                                     00021FFC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3"/>
          <p:cNvSpPr/>
          <p:nvPr/>
        </p:nvSpPr>
        <p:spPr>
          <a:xfrm>
            <a:off x="0" y="3059280"/>
            <a:ext cx="9144000" cy="16786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ca-ES" sz="2000" spc="-1" strike="noStrike">
                <a:solidFill>
                  <a:srgbClr val="a30611"/>
                </a:solidFill>
                <a:latin typeface="Comic Sans MS"/>
              </a:rPr>
              <a:t>ACLAMACIÓN   1Co 5, 7b-8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ca-ES" sz="2800" spc="-1" strike="noStrike">
                <a:solidFill>
                  <a:srgbClr val="000000"/>
                </a:solidFill>
                <a:latin typeface="Comic Sans MS"/>
              </a:rPr>
              <a:t>¡Aleluya! ¡Aleluy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ca-ES" sz="2800" spc="-1" strike="noStrike">
                <a:solidFill>
                  <a:srgbClr val="000000"/>
                </a:solidFill>
                <a:latin typeface="Comic Sans MS"/>
              </a:rPr>
              <a:t>Ha sido inmolada nuestra víctima pascual: Cris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00000"/>
                </a:solidFill>
                <a:latin typeface="Comic Sans MS"/>
              </a:rPr>
              <a:t>Así pues, celebremos la Pascua. ¡Aleluy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C:\Documents and Settings\st benet\Mis documentos\Mis imágenes\bíblics\sepul-cru-resu\010 int santsepulcw.jp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2"/>
          <p:cNvSpPr/>
          <p:nvPr/>
        </p:nvSpPr>
        <p:spPr>
          <a:xfrm>
            <a:off x="685800" y="152280"/>
            <a:ext cx="8153280" cy="51534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Jn 20,1-9 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El domingo por la ma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ñ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na, muy temprano, antes de salir el sol, Mar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í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 Magdalena se present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ó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en el sepulcro. Cuando vio que hab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í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 sido rodada la piedra que tapaba la entrada, se volvi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ó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corriendo a la ciudad para cont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á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rselo a Sim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ó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n Pedro y al otro disc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í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ulo a quien Jes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ú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 tanto quer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í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. Les dijo: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–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e han llevado del sepulcro al Se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ñ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or, y no sabemos d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ó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nde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lo han puesto.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edro y el otro disc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í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ulo se fueron r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á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idamente al sepulcro. Salieron corriendo los dos juntos, pero el otro disc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í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ulo adelant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ó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a Pedro y lleg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ó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antes que 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é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l. Al asomarse al interior vio que las vendas de lino estaban all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í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; pero no entr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ó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. Sigui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é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ndole los pasos lleg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ó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Sim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ó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n Pedro que entr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ó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en el sepulcro, y comprob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ó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que las vendas de lino estaban all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í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. Estaba tambi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é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n el pa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ñ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o que hab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í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n colocado sobre la cabeza de Jes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ú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, pero no estaba con las vendas, sino doblado y colocado aparte. Entonces entr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ó</a:t>
            </a:r>
            <a:r>
              <a:rPr b="1" lang="es-E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ambi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é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n el otro disc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í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ulo, el que hab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í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 llegado primero al sepulcro. Vio y crey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ó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. (Y es que hasta entonces, los disc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í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ulos no hab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í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n entendido la Escritura, seg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ú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n la cual Jes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ú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 ten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í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 que resucitar de entre los muertos).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33840" y="6429240"/>
            <a:ext cx="1878480" cy="38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900" spc="-1" strike="noStrike">
                <a:solidFill>
                  <a:srgbClr val="000000"/>
                </a:solidFill>
                <a:latin typeface="Comic Sans MS"/>
              </a:rPr>
              <a:t>Santo Sepulcr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_x0007_056.jpg                                                        00000013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"/>
          <p:cNvSpPr/>
          <p:nvPr/>
        </p:nvSpPr>
        <p:spPr>
          <a:xfrm>
            <a:off x="4648320" y="0"/>
            <a:ext cx="4495680" cy="6858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¡¡Cristo ha resucitado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¡Realmente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ha resucitado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WordArt 6"/>
          <p:cNvSpPr txBox="1"/>
          <p:nvPr/>
        </p:nvSpPr>
        <p:spPr>
          <a:xfrm>
            <a:off x="5410080" y="838080"/>
            <a:ext cx="27622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fffff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¡¡ Aleluya !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ffffff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30T14:25:54Z</dcterms:created>
  <dc:creator>JOAN RAMIREZ</dc:creator>
  <dc:description/>
  <dc:language>en-US</dc:language>
  <cp:lastModifiedBy>Usuario</cp:lastModifiedBy>
  <dcterms:modified xsi:type="dcterms:W3CDTF">2010-04-02T21:35:07Z</dcterms:modified>
  <cp:revision>20</cp:revision>
  <dc:subject/>
  <dc:title>Presentación de PowerPoint</dc:title>
</cp:coreProperties>
</file>