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649-84B4-4101-9B07-23877888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82E-13B2-493E-B6F7-D6C9C8C0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987-7815-4BBF-BF2E-1C07CD46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026-0FA6-4D4B-9E70-BC23833B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BDA-CED5-4043-B260-35A9292C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3FB-073F-4981-BA34-821D2773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E7B-3A2B-438A-9CC0-C3E0167C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D08-BAE4-4E12-B183-5D1CA433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FEE-7C3A-4FFE-B1AB-C8E55114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C73-3AED-46B4-87A3-760495F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5D5-C44A-4675-9CFF-C4DD1917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D1C-1EA2-4F25-9F4E-5E06AA0E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7FCD-C774-4435-A1B1-F265DC853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tarde a las 16.50 horas en el Zoo de Bilbao, un varón de 1.70, moreno, 50 años, caía al foso de los leon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estaba a punto de ser atacado, saltó otro joven al foso,  varón, 1.82, rubio, 35 años y con gran audacia rescató a la persona en peligro, sin sufrir heridas de conside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persona fue posteriormente felicitada por los viandantes y entrevistada posteriormente por un equipo de report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revista en diario G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Hola buenas, ¿qué ha ocurri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 Pues que he visto como caía ese  señor al foso y cuando he visto que no podía salir me he lanzado a  salvarl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Vaya, desde luego eres un héroe, ¿tú eres de Bilbao 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s no, yo soy de Cáceres y estoy aquí porque soy  funcionario y me han trasla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Pero tu familia es de aquí, ¿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s no, todos están en Extremadura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ueno a pesar de eso estarás a favor de la patria vasca y de la independencia de  Euskadi, ¿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, no!, yo estoy a favor de una España común de todos, unida, fraternal y solid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ARA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ummm... bien vale.... adi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9360" y="222120"/>
            <a:ext cx="4445280" cy="641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5T11:14:31Z</dcterms:created>
  <dc:creator>admin</dc:creator>
  <dc:description/>
  <dc:language>en-US</dc:language>
  <cp:lastModifiedBy>PAPA</cp:lastModifiedBy>
  <dcterms:modified xsi:type="dcterms:W3CDTF">2007-10-04T19:05:51Z</dcterms:modified>
  <cp:revision>6</cp:revision>
  <dc:subject/>
  <dc:title>Diapositiva 1</dc:title>
</cp:coreProperties>
</file>