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75B-188B-40A8-BB4D-C2C0CD1E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209-025E-498A-B721-656BEE03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CBD-13EE-4FB5-82AF-C6029BE5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B1C-171E-4DEF-9774-9A737F6B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930-3D95-48DD-8C19-996B47B5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DCA-BD45-4581-9F3E-20B68D39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6E4-54F6-49F8-8BAC-2FF68ED1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EFC-914E-4C14-8711-EB1E423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63E-BE80-4567-816D-F06CA203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064-73EF-4BFA-B87D-B16CC262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453-413E-4EE3-BFA7-E762C29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EBA-1132-4521-9C07-F01F2004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9C97-49E2-42A7-83A9-00DF5355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tarde a las 16.50 horas en el Zoo de Bilbao, un varón de 1.70, moreno, 50 años, caía al foso de los leon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estaba a punto de ser atacado, saltó otro joven al foso,  varón, 1.82, rubio, 35 años y con gran audacia rescató a la persona en peligro, sin sufrir heridas de conside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persona fue posteriormente felicitada por los viandantes y entrevistada posteriormente por un equipo de report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vista en diario G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Hola buenas, ¿qué ha ocurr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Pues que he visto como caía ese  señor al foso y cuando he visto que no podía salir me he lanzado a  salvarl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Vaya, desde luego eres un héroe, ¿tú eres de Bilbao 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s no, yo soy de Cáceres y estoy aquí porque soy  funcionario y me han trasla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Pero tu familia es de aquí, ¿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s no, todos están en Extremadura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ueno a pesar de eso estarás a favor de la patria vasca y de la independencia de  Euskadi, ¿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, no!, yo estoy a favor de una España común de todos, unida, fraternal y solid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ummm... bien vale.... adi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9360" y="222120"/>
            <a:ext cx="4445280" cy="641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1:14:31Z</dcterms:created>
  <dc:creator>admin</dc:creator>
  <dc:description/>
  <dc:language>en-US</dc:language>
  <cp:lastModifiedBy>PAPA</cp:lastModifiedBy>
  <dcterms:modified xsi:type="dcterms:W3CDTF">2007-10-04T19:05:51Z</dcterms:modified>
  <cp:revision>6</cp:revision>
  <dc:subject/>
  <dc:title>Diapositiva 1</dc:title>
</cp:coreProperties>
</file>