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48683-3362-4BF8-82F4-C29729D80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3565-BE52-4EEB-8848-8B7A022EF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31112-E809-4E93-95A9-B573A5F06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496C9-52F5-47BE-AEB3-BE9258EAC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347A-3906-439A-8E43-0F4B9862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0CF96-0D37-4F38-A9FA-1E8F5B6BE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CD28-7C31-4C87-B00C-C2664C96E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89F5-989D-43FB-92B8-273FC154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A92E-CF8E-4AB4-A899-C92CB0BC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8450-2614-4FB7-9D29-D1E36781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2C72-D45D-462C-BBE0-31F418B3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2036-DE32-49E8-B985-235383298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DF45-0651-4C84-B0AB-6CEBF332B0D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378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000000"/>
                </a:solidFill>
                <a:latin typeface="Times New Roman"/>
              </a:rPr>
              <a:t>SEXO ÁRABE </a:t>
            </a:r>
            <a:endParaRPr b="0" lang="en-US" sz="8800" spc="-1" strike="noStrike">
              <a:solidFill>
                <a:srgbClr val="000000"/>
              </a:solidFill>
              <a:latin typeface="Times New Roman"/>
            </a:endParaRPr>
          </a:p>
        </p:txBody>
      </p:sp>
      <p:sp>
        <p:nvSpPr>
          <p:cNvPr id="43" name="PlaceHolder 2"/>
          <p:cNvSpPr>
            <a:spLocks noGrp="1"/>
          </p:cNvSpPr>
          <p:nvPr>
            <p:ph type="subTitle"/>
          </p:nvPr>
        </p:nvSpPr>
        <p:spPr>
          <a:xfrm>
            <a:off x="7451640" y="6308640"/>
            <a:ext cx="1657440" cy="433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Kunstler Script"/>
              </a:rPr>
              <a:t>G.M.M.</a:t>
            </a:r>
            <a:endParaRPr b="0" lang="en-US" sz="2400" spc="-1" strike="noStrike">
              <a:solidFill>
                <a:srgbClr val="000000"/>
              </a:solidFill>
              <a:latin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395280" y="3293640"/>
            <a:ext cx="87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odré entonces hacerlo con mis cuatro esposas juntas, en colchones de agua, con una botella de óleo tibio, con chantilly, accesorios diversos, videos degenerados?...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Usted puede, claro que sí. ¡Alá es Grande!.</a:t>
            </a:r>
            <a:br>
              <a:rPr sz="4000"/>
            </a:b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50560" y="293328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odemos hacerlo de pié?...</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 no, no, no, no..!!!... ¡¡¡DE NINGUNA MANERA DE PIÉ...!!!...</a:t>
            </a:r>
            <a:br>
              <a:rPr sz="4000"/>
            </a:b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324000" y="293328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Y porqué no?, pregunta sorprendido el hombre.</a:t>
            </a:r>
            <a:br>
              <a:rPr sz="4000"/>
            </a:br>
            <a:br>
              <a:rPr sz="4000"/>
            </a:br>
            <a:r>
              <a:rPr b="0" lang="es-ES_tradnl" sz="5400" spc="-1" strike="noStrike">
                <a:solidFill>
                  <a:srgbClr val="000000"/>
                </a:solidFill>
                <a:latin typeface="Times New Roman"/>
              </a:rPr>
              <a:t> </a:t>
            </a:r>
            <a:r>
              <a:rPr b="1" lang="es-ES_tradnl" sz="5400" spc="-1" strike="noStrike">
                <a:solidFill>
                  <a:srgbClr val="000000"/>
                </a:solidFill>
                <a:latin typeface="Times New Roman"/>
              </a:rPr>
              <a:t>- Porque pueden entusiasmarse y terminar bailando!!!...</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324000" y="365400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Una pareja árabe moderna está preparando su casamiento religioso y visita a un Mullah (erudito en las leyes del Corán, equivalente a un cura) para celebrar un matrimonio al estilo musulmán. </a:t>
            </a:r>
            <a:br>
              <a:rPr sz="4000"/>
            </a:b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324000" y="329364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La futura pareja realiza la siguiente consulta: </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sotros sabemos que según la tradición del Islam, los hombres bailan con los hombres y las mujeres con las mujeres. Pero en nuestra fiesta nos gustaría contar con su permiso para que todos bailemos juntos... </a:t>
            </a:r>
            <a:br>
              <a:rPr sz="4000"/>
            </a:b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323640" y="343800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BSOLUTAMENTE NO!!!, dijo el Mullah. Eso es inmoral. Hombres y mujeres deben bailar SIEMPRE SEPARADOS. </a:t>
            </a:r>
            <a:br>
              <a:rPr sz="4000"/>
            </a:b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250560" y="329364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tonces, después de la ceremonia, yo no podré bailar con MI ESPOSA?, pregunta el afligido novi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NO!!!, sabéis que eso está prohibido en el Islam. </a:t>
            </a:r>
            <a:br>
              <a:rPr sz="4000"/>
            </a:b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3222360"/>
            <a:ext cx="882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Pero entonces, usted sabe . y...¿qué tal el sex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hhhhh, eso por supuesto que sí. ¡Alá es grande!. En el Islam el sexo es muy bueno..., con él se puede tener hijos. </a:t>
            </a:r>
            <a:br>
              <a:rPr sz="4000"/>
            </a:b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323640" y="336528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Y..., esteee...¿podremos practicar diversas poses?...</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lá es grande. Sin problemas, responde el Mullah.</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La mujer por encima?...</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Claro!- dice el Mullah</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Alá es Grande. ¡Puedes hacerlo!.</a:t>
            </a:r>
            <a:br>
              <a:rPr sz="4000"/>
            </a:b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250560" y="314928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 serio!!!!!?..., ¿de costado?, ¿cucharita?, ¿69?, ¿96?, ¿tortuga renga?, ¿pollito pastando?, ¿a lo perrito?, ¿el pescado tuerto?, ¿vuelo del cóndor?, ¿como Caperucita?, ¿con servilleta?, ¿rosas en el aire?, ¿hormiguitas-hormiguitas?, ¿como gallito en el potrero?, ¿patita al hombro? ..</a:t>
            </a: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Pero claro! ¡Alá es Grande!.</a:t>
            </a:r>
            <a:br>
              <a:rPr sz="4000"/>
            </a:b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1351080"/>
            <a:ext cx="8237520" cy="352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 te ha gusta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vía este PowerPoint a un amigo</a:t>
            </a:r>
            <a:br>
              <a:rPr sz="3200"/>
            </a:br>
            <a:r>
              <a:rPr b="0" lang="en-US" sz="3200" spc="-1" strike="noStrike">
                <a:solidFill>
                  <a:srgbClr val="000000"/>
                </a:solidFill>
                <a:latin typeface="Arial"/>
                <a:ea typeface="Arial"/>
              </a:rPr>
              <a:t>pues, mucha gente desconoce esta pequeña historia de una de las Maravillas del Mund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250920" y="3006360"/>
            <a:ext cx="8642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r>
              <a:rPr b="1" lang="es-ES_tradnl" sz="4000" spc="-1" strike="noStrike">
                <a:solidFill>
                  <a:srgbClr val="000000"/>
                </a:solidFill>
                <a:latin typeface="Times New Roman"/>
              </a:rPr>
              <a:t>- ¿En la mesa, en la cómoda, en el ropero, en el respaldo de la cama, en la puerta sujetados de la manija, en la ventana con el culo pa la calle, en el velador con la lámpara prendida, en el sofá con las patas pal techo?... </a:t>
            </a:r>
            <a:br>
              <a:rPr sz="4000"/>
            </a:br>
            <a:br>
              <a:rPr sz="4000"/>
            </a:br>
            <a:r>
              <a:rPr b="0" lang="es-ES_tradnl" sz="4000" spc="-1" strike="noStrike">
                <a:solidFill>
                  <a:srgbClr val="000000"/>
                </a:solidFill>
                <a:latin typeface="Times New Roman"/>
              </a:rPr>
              <a:t> </a:t>
            </a:r>
            <a:r>
              <a:rPr b="1" lang="es-ES_tradnl" sz="4000" spc="-1" strike="noStrike">
                <a:solidFill>
                  <a:srgbClr val="000000"/>
                </a:solidFill>
                <a:latin typeface="Times New Roman"/>
              </a:rPr>
              <a:t>- ¡Sí, sí, sí! ¡Alá es Grande!.</a:t>
            </a:r>
            <a:br>
              <a:rPr sz="4000"/>
            </a:b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8:26:07Z</dcterms:created>
  <dc:creator>WinuE</dc:creator>
  <dc:description/>
  <dc:language>en-US</dc:language>
  <cp:lastModifiedBy>WinuE</cp:lastModifiedBy>
  <dcterms:modified xsi:type="dcterms:W3CDTF">2008-07-09T08:27:44Z</dcterms:modified>
  <cp:revision>1</cp:revision>
  <dc:subject>Monumento al amor</dc:subject>
  <dc:title>SEXO ÁRABE </dc:title>
</cp:coreProperties>
</file>