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07A-6422-4DC7-803A-A481F080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74A-12C4-44E3-9183-1500659E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819-D355-456C-AD55-9BA63E31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A19-12EF-423B-8D23-920BF908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938-ACAC-4B33-B3BE-5C67B9C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989-0AA4-4CE8-9C38-45EDC359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466-37D4-4386-A8CD-4A557D8B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59E-8C77-48E4-BD2C-4D8C7E79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55F-D9EE-4A00-82CE-F43E275D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5BA-7EA8-48D2-AAB1-F590FEA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188-15D1-4830-BCD3-A3032430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0AC-D76C-4C78-AF80-B9A798E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4E3C-3E8C-40FE-BB70-B39C92434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990720"/>
            <a:ext cx="6781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SABÉS POR QUÉ HAY TANTOS CHINOS EN EL MUNDO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609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QUE SON TAN ORGANIZADOS QUE SE REPRODUCEN COMO CONEJOS, Y HASTA TIENEN ESCUELAS DE SEX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2096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S QUE PINTEN DE AMARILLO EL PLANETA, TENEMOS QUE GANARLES LA PARTIDA EN FORMA URG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809880"/>
            <a:ext cx="7238880" cy="261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A FOLLAR</a:t>
            </a: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08352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144360"/>
            <a:ext cx="792144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3:28:34Z</dcterms:created>
  <dc:creator>Borza</dc:creator>
  <dc:description/>
  <dc:language>en-US</dc:language>
  <cp:lastModifiedBy>PENTIUM IV</cp:lastModifiedBy>
  <dcterms:modified xsi:type="dcterms:W3CDTF">2006-10-27T18:57:28Z</dcterms:modified>
  <cp:revision>4</cp:revision>
  <dc:subject/>
  <dc:title>Amenaza amarilla</dc:title>
</cp:coreProperties>
</file>