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BDF-CEB9-4A0A-ACEA-50F43ED3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788-2864-4186-AD9F-270BD41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79F-D12D-47F0-82FE-55A23735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D86-CE76-4D48-BFB9-CC3074C0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AAA-C335-4414-B3CC-2E2D1C40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BAC-9242-4BE3-95B1-A9ECB1F8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A8B-7F81-40D3-BA29-36C547FF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88B-70BC-4A41-9BED-559E909F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CF1-2F0A-42F8-A786-AF5AE6A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F62-7105-41EA-8931-3C7B9A3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A9B-D20D-435A-B895-174F2C1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363-9919-4391-801C-ACBABA6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EC3D-677F-4CB7-AEB9-D1369E616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990720"/>
            <a:ext cx="6781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SABÉS POR QUÉ HAY TANTOS CHINOS EN EL MUNDO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609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QUE SON TAN ORGANIZADOS QUE SE REPRODUCEN COMO CONEJOS, Y HASTA TIENEN ESCUELAS DE SEX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2096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S QUE PINTEN DE AMARILLO EL PLANETA, TENEMOS QUE GANARLES LA PARTIDA EN FORMA URG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809880"/>
            <a:ext cx="7238880" cy="261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ES_tradnl" sz="4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A FOLLAR</a:t>
            </a: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08352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44360"/>
            <a:ext cx="792144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13:28:34Z</dcterms:created>
  <dc:creator>Borza</dc:creator>
  <dc:description/>
  <dc:language>en-US</dc:language>
  <cp:lastModifiedBy>PENTIUM IV</cp:lastModifiedBy>
  <dcterms:modified xsi:type="dcterms:W3CDTF">2006-10-27T18:57:28Z</dcterms:modified>
  <cp:revision>4</cp:revision>
  <dc:subject/>
  <dc:title>Amenaza amarilla</dc:title>
</cp:coreProperties>
</file>