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8.jpeg" ContentType="image/jpeg"/>
  <Override PartName="/ppt/media/image14.gif" ContentType="image/gif"/>
  <Override PartName="/ppt/media/image10.png" ContentType="image/png"/>
  <Override PartName="/ppt/media/image3.jpeg" ContentType="image/jpeg"/>
  <Override PartName="/ppt/media/image15.gif" ContentType="image/gif"/>
  <Override PartName="/ppt/media/diosestaaqui-i.wav" ContentType="audio/x-wav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F9E0-1DEA-4FC9-9F23-503AAA38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68FF-5A80-4490-BCF7-B6F8E4F4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38F9-14A5-4BE0-9941-60944D96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3807-6B8B-46C3-8E85-7E457849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307A-0D4B-4959-BB9B-8B0F68DF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E14-6259-43AB-B9B2-8CCB821B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8A9D-DF0F-4C65-86BC-46D49706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C29A-D501-4CE2-B056-3E004B18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CE64-C188-4627-AB43-DD134FE1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3ECF-5592-4649-8A48-D74DD21E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1A86-5890-4BE9-B62C-EFAB8BC8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FF63-14EA-4E52-AB14-BA139031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85F6-E5B7-464E-BE9B-7CD3D92AF52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iosestaaqui-i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-27000"/>
            <a:ext cx="5153040" cy="6885000"/>
            <a:chOff x="0" y="-27000"/>
            <a:chExt cx="5153040" cy="68850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5148360" cy="688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029040" y="6210360"/>
              <a:ext cx="2124000" cy="62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cc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4932360" y="228600"/>
            <a:ext cx="421164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Se cuenta lo siguiente de un viejo anacoreta o ermitaño, es decir, una de esas personas que por amor a Dios se refugian en la soledad del desierto, del bosque o de las montañas para                solamente dedicarse a la  oración y a la penitencia.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2" name="diosestaaqui-i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0" y="0"/>
            <a:ext cx="9144000" cy="6884640"/>
            <a:chOff x="0" y="0"/>
            <a:chExt cx="9144000" cy="688464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8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732720" y="5958000"/>
              <a:ext cx="2411280" cy="897480"/>
            </a:xfrm>
            <a:prstGeom prst="rect">
              <a:avLst/>
            </a:pr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cc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6934320" y="6095880"/>
            <a:ext cx="2209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ES MI CUERPO</a:t>
            </a:r>
            <a:endParaRPr b="0" lang="en-US" sz="20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57200"/>
            <a:ext cx="7885080" cy="174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El burro es muy obstinado, no quiere           cumplir con su deber. 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Pretende estar cansado y no quiere                                    llevar su carga de cada día… 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9144000" cy="6884640"/>
            <a:chOff x="0" y="0"/>
            <a:chExt cx="9144000" cy="688464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6948360" y="6075720"/>
              <a:ext cx="2195640" cy="808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cc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429000" y="5181480"/>
            <a:ext cx="5113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SE...     ES MI CORAZON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80880"/>
            <a:ext cx="5181480" cy="171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inalmente necesito domar al león, quiere ser el rey, quiere ser siempre el primero, 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s vanidoso y orgulloso…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AutoShape 9"/>
          <p:cNvGrpSpPr/>
          <p:nvPr/>
        </p:nvGrpSpPr>
        <p:grpSpPr>
          <a:xfrm>
            <a:off x="2666880" y="2743200"/>
            <a:ext cx="6121440" cy="2006640"/>
            <a:chOff x="2666880" y="2743200"/>
            <a:chExt cx="6121440" cy="2006640"/>
          </a:xfrm>
        </p:grpSpPr>
        <p:pic>
          <p:nvPicPr>
            <p:cNvPr id="79" name="AutoShape 9" descr=""/>
            <p:cNvPicPr/>
            <p:nvPr/>
          </p:nvPicPr>
          <p:blipFill>
            <a:blip r:embed="rId1"/>
            <a:stretch/>
          </p:blipFill>
          <p:spPr>
            <a:xfrm>
              <a:off x="2666880" y="2743200"/>
              <a:ext cx="6121440" cy="20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927520" y="3000240"/>
              <a:ext cx="560052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cc"/>
                </a:solidFill>
                <a:latin typeface="Times New Roman"/>
              </a:endParaRPr>
            </a:p>
          </p:txBody>
        </p:sp>
      </p:grpSp>
      <p:sp>
        <p:nvSpPr>
          <p:cNvPr id="81" name="Rectangle 7"/>
          <p:cNvSpPr/>
          <p:nvPr/>
        </p:nvSpPr>
        <p:spPr>
          <a:xfrm>
            <a:off x="2743200" y="304812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i="1" lang="nb-NO" sz="2400" spc="-1" strike="noStrike">
                <a:solidFill>
                  <a:srgbClr val="ffcc00"/>
                </a:solidFill>
                <a:latin typeface="Times New Roman"/>
              </a:rPr>
              <a:t>SI TE GUSTO POR FAVOR PASALO A OTROS , </a:t>
            </a:r>
            <a:r>
              <a:rPr b="1" i="1" lang="nb-NO" sz="3200" spc="-1" strike="noStrike">
                <a:solidFill>
                  <a:srgbClr val="ffcc00"/>
                </a:solidFill>
                <a:latin typeface="Times New Roman"/>
              </a:rPr>
              <a:t>DIOS TE BENDIGA</a:t>
            </a:r>
            <a:endParaRPr b="0" lang="en-US" sz="32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3048120" y="3962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5653-D44A-4F59-930A-E57EA788243B}" type="datetime2">
              <a:rPr b="1" lang="es-UY" sz="2400" spc="-1" strike="noStrike">
                <a:solidFill>
                  <a:srgbClr val="000000"/>
                </a:solidFill>
                <a:latin typeface="Times New Roman"/>
              </a:rPr>
              <a:t>miércoles, 29 de julio de 2026</a:t>
            </a:fld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4038480" y="1905120"/>
            <a:ext cx="3353040" cy="4597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000000"/>
                </a:solidFill>
                <a:latin typeface="Times New Roman"/>
              </a:rPr>
              <a:t>Son las  </a:t>
            </a:r>
            <a:fld id="{E1691C55-3F1B-4E51-BC74-B1E0B211AE1C}" type="datetime13">
              <a:rPr b="1" lang="es-UY" sz="2400" spc="-1" strike="noStrike">
                <a:solidFill>
                  <a:srgbClr val="000000"/>
                </a:solidFill>
                <a:latin typeface="Times New Roman"/>
              </a:rPr>
              <a:t>07:36:13 a.m.</a:t>
            </a:fld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pic>
        <p:nvPicPr>
          <p:cNvPr id="84" name="dedo%20parado" descr=""/>
          <p:cNvPicPr/>
          <p:nvPr/>
        </p:nvPicPr>
        <p:blipFill>
          <a:blip r:embed="rId2"/>
          <a:stretch/>
        </p:blipFill>
        <p:spPr>
          <a:xfrm>
            <a:off x="5029200" y="685800"/>
            <a:ext cx="1428840" cy="800280"/>
          </a:xfrm>
          <a:prstGeom prst="rect">
            <a:avLst/>
          </a:prstGeom>
          <a:ln w="0">
            <a:noFill/>
          </a:ln>
        </p:spPr>
      </p:pic>
      <p:pic>
        <p:nvPicPr>
          <p:cNvPr id="85" name="flores%20animadas" descr=""/>
          <p:cNvPicPr/>
          <p:nvPr/>
        </p:nvPicPr>
        <p:blipFill>
          <a:blip r:embed="rId3"/>
          <a:stretch/>
        </p:blipFill>
        <p:spPr>
          <a:xfrm>
            <a:off x="457200" y="22860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flores%20animadas" descr=""/>
          <p:cNvPicPr/>
          <p:nvPr/>
        </p:nvPicPr>
        <p:blipFill>
          <a:blip r:embed="rId4"/>
          <a:stretch/>
        </p:blipFill>
        <p:spPr>
          <a:xfrm>
            <a:off x="1676520" y="152388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87" name="flores%20animadas" descr=""/>
          <p:cNvPicPr/>
          <p:nvPr/>
        </p:nvPicPr>
        <p:blipFill>
          <a:blip r:embed="rId5"/>
          <a:stretch/>
        </p:blipFill>
        <p:spPr>
          <a:xfrm>
            <a:off x="380880" y="304812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88" name="flores%20animadas" descr=""/>
          <p:cNvPicPr/>
          <p:nvPr/>
        </p:nvPicPr>
        <p:blipFill>
          <a:blip r:embed="rId6"/>
          <a:stretch/>
        </p:blipFill>
        <p:spPr>
          <a:xfrm>
            <a:off x="1447920" y="48769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500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7000"/>
                            </p:stCondLst>
                            <p:childTnLst>
                              <p:par>
                                <p:cTn id="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lb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29000" y="4495680"/>
            <a:ext cx="5410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Se quejaba muchas veces que tenía demasiado quehacer. 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La gente no entendía cómo era posible que tuviera tanto trabajo en su retiro.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osque%20de%20Cris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4343400"/>
            <a:ext cx="8534160" cy="225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A lo que les contestó: 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"Tengo que domar a dos halcones,entrenar a dos águilas, mantener quietos a dos conejos,vigilar una serpiente, cargar un asno y someter a un león". 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rboleda%20de%20Dio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380880"/>
            <a:ext cx="8604360" cy="285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No vemos ningún animal cerca de la cueva donde vives. 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¿Dónde están todos estos animales?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Entonces el ermitaño dio una explicación que todos comprendieron.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Estos animales los llevamos dentro”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ielo%20luminoo" descr=""/>
          <p:cNvPicPr/>
          <p:nvPr/>
        </p:nvPicPr>
        <p:blipFill>
          <a:blip r:embed="rId1"/>
          <a:srcRect l="24851" t="0" r="0" b="0"/>
          <a:stretch/>
        </p:blipFill>
        <p:spPr>
          <a:xfrm>
            <a:off x="-533520" y="0"/>
            <a:ext cx="9677520" cy="6994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971800" y="6172200"/>
            <a:ext cx="3240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SON MIS OJOS</a:t>
            </a:r>
            <a:endParaRPr b="0" lang="en-US" sz="2000" spc="-1" strike="noStrike">
              <a:solidFill>
                <a:srgbClr val="ffcccc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56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4495680"/>
            <a:ext cx="6324480" cy="147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Los dos halcones, se lanzan sobre todo lo que                               se les presenta, bueno y malo.</a:t>
            </a:r>
            <a:endParaRPr b="0" lang="en-US" sz="2000" spc="-1" strike="noStrike">
              <a:solidFill>
                <a:srgbClr val="ffcc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Tengo que entrenarlos para que sólo se lancen sobre presas buenas…</a:t>
            </a:r>
            <a:endParaRPr b="0" lang="en-US" sz="20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77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443640" y="5901480"/>
              <a:ext cx="2700360" cy="95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cc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5029200"/>
            <a:ext cx="6769080" cy="116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Las dos águilas con sus garras hieren y destrozan. </a:t>
            </a:r>
            <a:endParaRPr b="0" lang="en-US" sz="2000" spc="-1" strike="noStrike">
              <a:solidFill>
                <a:srgbClr val="ffcc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Tengo que entrenarlas para que sólo se pongan                           al servicio y ayuden sin herir…</a:t>
            </a:r>
            <a:endParaRPr b="0" lang="en-US" sz="20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617220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SON MIS MANOS </a:t>
            </a:r>
            <a:endParaRPr b="0" lang="en-US" sz="20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7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380880"/>
            <a:ext cx="8534520" cy="211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Y los conejos quieren ir adonde les plazca,             huir de los demás y esquivar las situaciones difíciles. 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Tengo que enseñarles a estar quietos aunque haya un sufrimiento, un problema o cualquier                   cosa que no me gusta…</a:t>
            </a:r>
            <a:endParaRPr b="0" lang="en-US" sz="24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5334120"/>
            <a:ext cx="2665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00"/>
                </a:solidFill>
                <a:latin typeface="Comic Sans MS"/>
              </a:rPr>
              <a:t>SON MIS PIES</a:t>
            </a:r>
            <a:endParaRPr b="0" lang="en-US" sz="20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780000" y="0"/>
          <a:ext cx="536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0"/>
                    <a:ext cx="536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0" y="838080"/>
            <a:ext cx="3657600" cy="482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Lo más difícil es vigilar la serpiente aunque se encuentra           encerrada en una jaula de 32 varillas. </a:t>
            </a:r>
            <a:endParaRPr b="0" lang="en-US" sz="2000" spc="-1" strike="noStrike">
              <a:solidFill>
                <a:srgbClr val="ffcccc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Siempre está lista por morder y envenenar a los que la rodean apenas se abre la jaula, si no la vigilo                       de cerca, hace daño…</a:t>
            </a:r>
            <a:endParaRPr b="0" lang="en-US" sz="2000" spc="-1" strike="noStrike">
              <a:solidFill>
                <a:srgbClr val="ffcc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4800600"/>
            <a:ext cx="3095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ES MI LENGUA</a:t>
            </a:r>
            <a:endParaRPr b="0" lang="en-US" sz="2000" spc="-1" strike="noStrike">
              <a:solidFill>
                <a:srgbClr val="ffcccc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21:27:22Z</dcterms:created>
  <dc:creator/>
  <dc:description/>
  <dc:language>en-US</dc:language>
  <cp:lastModifiedBy> </cp:lastModifiedBy>
  <dcterms:modified xsi:type="dcterms:W3CDTF">2008-04-16T18:30:54Z</dcterms:modified>
  <cp:revision>7</cp:revision>
  <dc:subject/>
  <dc:title>Contra quién luchamos</dc:title>
</cp:coreProperties>
</file>