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4.gif" ContentType="image/gif"/>
  <Override PartName="/ppt/media/image10.png" ContentType="image/png"/>
  <Override PartName="/ppt/media/image3.jpeg" ContentType="image/jpeg"/>
  <Override PartName="/ppt/media/image15.gif" ContentType="image/gif"/>
  <Override PartName="/ppt/media/diosestaaqui-i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86B-3970-477D-A6B6-84BEA504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51D-3C01-41BA-B6B0-0306DFB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465-EC37-4575-ACDB-3581B627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F58-0FF6-476D-ADC3-9EC55A43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7FA-8A35-4F8F-9B10-A49E1C5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7C2-1A0E-49B8-89F6-52513C0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97A-CDB4-47D8-80CE-4B506FC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4E8-A38C-464D-8540-A3246C4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853-6C85-46AB-8CAB-D48A361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675-32F2-4C1B-8261-239B5DD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BBB-61D8-4E38-A689-8175BEE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25B-5E63-40FE-9382-5699425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B9F6-DDB1-427B-9376-D95E186E65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osestaaqui-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27000"/>
            <a:ext cx="5153040" cy="6885000"/>
            <a:chOff x="0" y="-27000"/>
            <a:chExt cx="515304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5148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029040" y="6210360"/>
              <a:ext cx="212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932360" y="228600"/>
            <a:ext cx="42116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cuenta lo siguiente de un viejo anacoreta o ermitaño, es decir, una de esas personas que por amor a Dios se refugian en la soledad del desierto, del bosque o de las montañas para                solamente dedicarse a la  oración y a la penitencia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diosestaaqui-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84640"/>
            <a:chOff x="0" y="0"/>
            <a:chExt cx="9144000" cy="68846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32720" y="5958000"/>
              <a:ext cx="2411280" cy="89748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934320" y="6095880"/>
            <a:ext cx="220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 MI CUERPO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"/>
            <a:ext cx="788508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El burro es muy obstinado, no quiere           cumplir con su deber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Pretende estar cansado y no quiere                                    llevar su carga de cada día…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84640"/>
            <a:chOff x="0" y="0"/>
            <a:chExt cx="9144000" cy="68846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948360" y="6075720"/>
              <a:ext cx="2195640" cy="80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429000" y="5181480"/>
            <a:ext cx="511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SE...     ES MI CORAZON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0880"/>
            <a:ext cx="5181480" cy="17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mente necesito domar al león, quiere ser el rey, quiere ser siempre el primero,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vanidoso y orgulloso…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AutoShape 9"/>
          <p:cNvGrpSpPr/>
          <p:nvPr/>
        </p:nvGrpSpPr>
        <p:grpSpPr>
          <a:xfrm>
            <a:off x="2666880" y="2743200"/>
            <a:ext cx="6121440" cy="2006640"/>
            <a:chOff x="2666880" y="2743200"/>
            <a:chExt cx="6121440" cy="2006640"/>
          </a:xfrm>
        </p:grpSpPr>
        <p:pic>
          <p:nvPicPr>
            <p:cNvPr id="79" name="AutoShape 9" descr=""/>
            <p:cNvPicPr/>
            <p:nvPr/>
          </p:nvPicPr>
          <p:blipFill>
            <a:blip r:embed="rId1"/>
            <a:stretch/>
          </p:blipFill>
          <p:spPr>
            <a:xfrm>
              <a:off x="2666880" y="2743200"/>
              <a:ext cx="61214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927520" y="3000240"/>
              <a:ext cx="560052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2743200" y="30481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ffcc00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ffcc00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048120" y="3962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2C3-3B26-4E66-A55F-916B509C3FFA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viernes, 31 de julio de 2026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038480" y="1905120"/>
            <a:ext cx="33530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CC1EB29B-CC4A-4791-822C-BD46FC3A6F44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5:03:48 p.m.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4" name="dedo%20parado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5" name="flores%20animadas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flores%20animadas" descr=""/>
          <p:cNvPicPr/>
          <p:nvPr/>
        </p:nvPicPr>
        <p:blipFill>
          <a:blip r:embed="rId4"/>
          <a:stretch/>
        </p:blipFill>
        <p:spPr>
          <a:xfrm>
            <a:off x="1676520" y="1523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flores%20animadas" descr=""/>
          <p:cNvPicPr/>
          <p:nvPr/>
        </p:nvPicPr>
        <p:blipFill>
          <a:blip r:embed="rId5"/>
          <a:stretch/>
        </p:blipFill>
        <p:spPr>
          <a:xfrm>
            <a:off x="380880" y="30481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flores%20animadas" descr=""/>
          <p:cNvPicPr/>
          <p:nvPr/>
        </p:nvPicPr>
        <p:blipFill>
          <a:blip r:embed="rId6"/>
          <a:stretch/>
        </p:blipFill>
        <p:spPr>
          <a:xfrm>
            <a:off x="1447920" y="4876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4495680"/>
            <a:ext cx="5410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quejaba muchas veces que tenía demasiado quehacer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gente no entendía cómo era posible que tuviera tanto trabajo en su retiro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sque%20de%20Cris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343400"/>
            <a:ext cx="8534160" cy="225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lo que les contestó: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"Tengo que domar a dos halcones,entrenar a dos águilas, mantener quietos a dos conejos,vigilar una serpiente, cargar un asno y someter a un león"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boleda%20de%20Di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380880"/>
            <a:ext cx="8604360" cy="28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No vemos ningún animal cerca de la cueva donde vives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¿Dónde están todos estos animales?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Entonces el ermitaño dio una explicación que todos comprendieron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Estos animales los llevamos dentro”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ielo%20luminoo" descr=""/>
          <p:cNvPicPr/>
          <p:nvPr/>
        </p:nvPicPr>
        <p:blipFill>
          <a:blip r:embed="rId1"/>
          <a:srcRect l="24851" t="0" r="0" b="0"/>
          <a:stretch/>
        </p:blipFill>
        <p:spPr>
          <a:xfrm>
            <a:off x="-533520" y="0"/>
            <a:ext cx="9677520" cy="6994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1800" y="6172200"/>
            <a:ext cx="324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N MIS OJOS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5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495680"/>
            <a:ext cx="63244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os dos halcones, se lanzan sobre todo lo que                               se les presenta, bueno y malo.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ngo que entrenarlos para que sólo se lancen sobre presas buenas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7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443640" y="5901480"/>
              <a:ext cx="2700360" cy="95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5029200"/>
            <a:ext cx="676908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as dos águilas con sus garras hieren y destrozan.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ngo que entrenarlas para que sólo se pongan                           al servicio y ayuden sin herir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6172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N MIS MANOS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380880"/>
            <a:ext cx="853452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Y los conejos quieren ir adonde les plazca,             huir de los demás y esquivar las situaciones difíciles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Tengo que enseñarles a estar quietos aunque haya un sufrimiento, un problema o cualquier                   cosa que no me gusta…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334120"/>
            <a:ext cx="2665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SON MIS PIES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80000" y="0"/>
          <a:ext cx="536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0"/>
                    <a:ext cx="536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838080"/>
            <a:ext cx="3657600" cy="482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o más difícil es vigilar la serpiente aunque se encuentra           encerrada en una jaula de 32 varillas.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iempre está lista por morder y envenenar a los que la rodean apenas se abre la jaula, si no la vigilo                       de cerca, hace daño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4800600"/>
            <a:ext cx="309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 MI LENGUA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7:22Z</dcterms:created>
  <dc:creator/>
  <dc:description/>
  <dc:language>en-US</dc:language>
  <cp:lastModifiedBy> </cp:lastModifiedBy>
  <dcterms:modified xsi:type="dcterms:W3CDTF">2008-04-16T18:30:54Z</dcterms:modified>
  <cp:revision>7</cp:revision>
  <dc:subject/>
  <dc:title>Contra quién luchamos</dc:title>
</cp:coreProperties>
</file>