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E36-011E-4870-AD62-80DB3D65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D22-0718-49C2-B13A-0A37CA5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A92-DB83-4970-9500-F7354BE4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4AA-918F-491B-AD63-CEF0B53E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BE3-A677-4D85-84D1-5241C7A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9B4-C74E-493A-B802-CD5BB54E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605-568D-434C-980C-A273589A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895-A195-49C6-862C-3E09525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B61-2AB3-4739-960C-47757BD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3C4-EABD-4971-B97C-4E07B8D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7BE-E1E6-4ACD-9664-97CDF3D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AC0-79E9-4EB8-A287-94BCC3B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79D8-1439-4F6A-B838-71430029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¿¿La Reconoc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sfw_09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sfw_11"/>
          <p:cNvPicPr/>
          <p:nvPr/>
        </p:nvPicPr>
        <p:blipFill>
          <a:blip r:embed="rId1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sfw_08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nsfw_10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sfw_12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nsfw_13"/>
          <p:cNvPicPr/>
          <p:nvPr/>
        </p:nvPicPr>
        <p:blipFill>
          <a:blip r:embed="rId1"/>
          <a:stretch/>
        </p:blipFill>
        <p:spPr>
          <a:xfrm>
            <a:off x="0" y="51120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nsfw_14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nsfw_15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nsfw_20"/>
          <p:cNvPicPr/>
          <p:nvPr/>
        </p:nvPicPr>
        <p:blipFill>
          <a:blip r:embed="rId1"/>
          <a:stretch/>
        </p:blipFill>
        <p:spPr>
          <a:xfrm>
            <a:off x="222876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sfw_17"/>
          <p:cNvPicPr/>
          <p:nvPr/>
        </p:nvPicPr>
        <p:blipFill>
          <a:blip r:embed="rId1"/>
          <a:stretch/>
        </p:blipFill>
        <p:spPr>
          <a:xfrm>
            <a:off x="-762120" y="25560"/>
            <a:ext cx="107442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nsfw_1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sfw_18"/>
          <p:cNvPicPr/>
          <p:nvPr/>
        </p:nvPicPr>
        <p:blipFill>
          <a:blip r:embed="rId1"/>
          <a:stretch/>
        </p:blipFill>
        <p:spPr>
          <a:xfrm>
            <a:off x="-1371600" y="9360"/>
            <a:ext cx="105919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nsfw_19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¿¿No la Reconocen???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Yo tampoco pero está muy bu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sfw_06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sfw_07"/>
          <p:cNvPicPr/>
          <p:nvPr/>
        </p:nvPicPr>
        <p:blipFill>
          <a:blip r:embed="rId1"/>
          <a:stretch/>
        </p:blipFill>
        <p:spPr>
          <a:xfrm>
            <a:off x="-838080" y="28440"/>
            <a:ext cx="10591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sfw_01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sfw_05"/>
          <p:cNvPicPr/>
          <p:nvPr/>
        </p:nvPicPr>
        <p:blipFill>
          <a:blip r:embed="rId1"/>
          <a:stretch/>
        </p:blipFill>
        <p:spPr>
          <a:xfrm>
            <a:off x="-609480" y="11160"/>
            <a:ext cx="10591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sfw_02"/>
          <p:cNvPicPr/>
          <p:nvPr/>
        </p:nvPicPr>
        <p:blipFill>
          <a:blip r:embed="rId1"/>
          <a:stretch/>
        </p:blipFill>
        <p:spPr>
          <a:xfrm>
            <a:off x="2233440" y="0"/>
            <a:ext cx="46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sfw_03"/>
          <p:cNvPicPr/>
          <p:nvPr/>
        </p:nvPicPr>
        <p:blipFill>
          <a:blip r:embed="rId1"/>
          <a:stretch/>
        </p:blipFill>
        <p:spPr>
          <a:xfrm>
            <a:off x="22464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sfw_04"/>
          <p:cNvPicPr/>
          <p:nvPr/>
        </p:nvPicPr>
        <p:blipFill>
          <a:blip r:embed="rId1"/>
          <a:stretch/>
        </p:blipFill>
        <p:spPr>
          <a:xfrm>
            <a:off x="2216160" y="0"/>
            <a:ext cx="47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4:17:28Z</dcterms:created>
  <dc:creator>Mauricio Pero</dc:creator>
  <dc:description/>
  <dc:language>en-US</dc:language>
  <cp:lastModifiedBy>Luis N. Dr. Saenz Rouillon</cp:lastModifiedBy>
  <dcterms:modified xsi:type="dcterms:W3CDTF">2008-08-23T20:47:28Z</dcterms:modified>
  <cp:revision>2</cp:revision>
  <dc:subject/>
  <dc:title>La Reconocen ???</dc:title>
</cp:coreProperties>
</file>