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46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9"/>
          <p:cNvSpPr/>
          <p:nvPr/>
        </p:nvSpPr>
        <p:spPr>
          <a:xfrm>
            <a:off x="-15480" y="663084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onialilianafio@yahoo.com.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" TargetMode="External"/><Relationship Id="rId2" Type="http://schemas.openxmlformats.org/officeDocument/2006/relationships/hyperlink" Target="http://www.encyclopedia.com/" TargetMode="External"/><Relationship Id="rId3" Type="http://schemas.openxmlformats.org/officeDocument/2006/relationships/hyperlink" Target="http://es.wikipedia.org/" TargetMode="External"/><Relationship Id="rId4" Type="http://schemas.openxmlformats.org/officeDocument/2006/relationships/hyperlink" Target="http://es.encarta.msn.com/" TargetMode="External"/><Relationship Id="rId5" Type="http://schemas.openxmlformats.org/officeDocument/2006/relationships/hyperlink" Target="http://buscon.rae.es/diccionario/drae.htm" TargetMode="External"/><Relationship Id="rId6" Type="http://schemas.openxmlformats.org/officeDocument/2006/relationships/hyperlink" Target="http://www.elmundo.es/diccionarios" TargetMode="External"/><Relationship Id="rId7" Type="http://schemas.openxmlformats.org/officeDocument/2006/relationships/hyperlink" Target="http://www.elcastellano.org/miyara" TargetMode="External"/><Relationship Id="rId8" Type="http://schemas.openxmlformats.org/officeDocument/2006/relationships/hyperlink" Target="http://dic_arg_esp.html/" TargetMode="External"/><Relationship Id="rId9" Type="http://schemas.openxmlformats.org/officeDocument/2006/relationships/hyperlink" Target="http://www.diccionarios.com/" TargetMode="External"/><Relationship Id="rId10" Type="http://schemas.openxmlformats.org/officeDocument/2006/relationships/hyperlink" Target="http://www.dictionary.com/" TargetMode="External"/><Relationship Id="rId11" Type="http://schemas.openxmlformats.org/officeDocument/2006/relationships/hyperlink" Target="http://www.wordreference.com/es/index.htm" TargetMode="External"/><Relationship Id="rId12" Type="http://schemas.openxmlformats.org/officeDocument/2006/relationships/hyperlink" Target="http://www.dictionarium.com/" TargetMode="External"/><Relationship Id="rId13" Type="http://schemas.openxmlformats.org/officeDocument/2006/relationships/hyperlink" Target="http://www.bartleby.com/" TargetMode="External"/><Relationship Id="rId14" Type="http://schemas.openxmlformats.org/officeDocument/2006/relationships/hyperlink" Target="http://buscabiografias.com/frases.htm" TargetMode="Externa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lm.nih.gov/medlineplus/spanish/encyclopedia.html" TargetMode="External"/><Relationship Id="rId2" Type="http://schemas.openxmlformats.org/officeDocument/2006/relationships/hyperlink" Target="http://www.msd.es/publicaciones/mmerckhogar/index.html" TargetMode="External"/><Relationship Id="rId3" Type="http://schemas.openxmlformats.org/officeDocument/2006/relationships/hyperlink" Target="http://www.howstuffworks.com/" TargetMode="External"/><Relationship Id="rId4" Type="http://schemas.openxmlformats.org/officeDocument/2006/relationships/hyperlink" Target="http://buscabiografias.com/" TargetMode="External"/><Relationship Id="rId5" Type="http://schemas.openxmlformats.org/officeDocument/2006/relationships/hyperlink" Target="http://www.biografiasyvidas.com/" TargetMode="External"/><Relationship Id="rId6" Type="http://schemas.openxmlformats.org/officeDocument/2006/relationships/hyperlink" Target="http://biographie.net/es" TargetMode="External"/><Relationship Id="rId7" Type="http://schemas.openxmlformats.org/officeDocument/2006/relationships/hyperlink" Target="http://www.historiadelpais.com.ar/menubio/camden.html" TargetMode="External"/><Relationship Id="rId8" Type="http://schemas.openxmlformats.org/officeDocument/2006/relationships/hyperlink" Target="http://www.micromegas.com.mx/papeleria/biografias.htm" TargetMode="External"/><Relationship Id="rId9" Type="http://schemas.openxmlformats.org/officeDocument/2006/relationships/hyperlink" Target="http://www.literatura.org/" TargetMode="External"/><Relationship Id="rId10" Type="http://schemas.openxmlformats.org/officeDocument/2006/relationships/hyperlink" Target="http://www.periodismo.com/cgi-bin/f/fm.pl" TargetMode="External"/><Relationship Id="rId11" Type="http://schemas.openxmlformats.org/officeDocument/2006/relationships/hyperlink" Target="http://www.me.gov.ar/efeme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.altavista.com/" TargetMode="External"/><Relationship Id="rId2" Type="http://schemas.openxmlformats.org/officeDocument/2006/relationships/hyperlink" Target="http://www.freetranslation.com/" TargetMode="External"/><Relationship Id="rId3" Type="http://schemas.openxmlformats.org/officeDocument/2006/relationships/hyperlink" Target="http://www.worldtimeserver.com/" TargetMode="External"/><Relationship Id="rId4" Type="http://schemas.openxmlformats.org/officeDocument/2006/relationships/hyperlink" Target="http://www.worldtimezone.com/" TargetMode="External"/><Relationship Id="rId5" Type="http://schemas.openxmlformats.org/officeDocument/2006/relationships/hyperlink" Target="http://www.xe.com/ucc/es" TargetMode="External"/><Relationship Id="rId6" Type="http://schemas.openxmlformats.org/officeDocument/2006/relationships/hyperlink" Target="http://www.feaav.org/common/pi/servicios/conversiontemperatura.shtm" TargetMode="External"/><Relationship Id="rId7" Type="http://schemas.openxmlformats.org/officeDocument/2006/relationships/hyperlink" Target="http://www.secomex.com.ar/Secomex/conversor.asp" TargetMode="External"/><Relationship Id="rId8" Type="http://schemas.openxmlformats.org/officeDocument/2006/relationships/hyperlink" Target="http://www.guinnessworldrecords.com/" TargetMode="External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nntech.com/espanol/tabla-periodica.htm" TargetMode="External"/><Relationship Id="rId2" Type="http://schemas.openxmlformats.org/officeDocument/2006/relationships/hyperlink" Target="http://www.geocities.com/erkflores/Tabla.htm" TargetMode="External"/><Relationship Id="rId3" Type="http://schemas.openxmlformats.org/officeDocument/2006/relationships/hyperlink" Target="http://www.webelements.com/" TargetMode="External"/><Relationship Id="rId4" Type="http://schemas.openxmlformats.org/officeDocument/2006/relationships/hyperlink" Target="http://www.tcaep.co.uk/" TargetMode="External"/><Relationship Id="rId5" Type="http://schemas.openxmlformats.org/officeDocument/2006/relationships/hyperlink" Target="http://www.equationsheet.com/" TargetMode="External"/><Relationship Id="rId6" Type="http://schemas.openxmlformats.org/officeDocument/2006/relationships/hyperlink" Target="http://plasma.nationalgeogra-phic.com/mapmachine" TargetMode="External"/><Relationship Id="rId7" Type="http://schemas.openxmlformats.org/officeDocument/2006/relationships/hyperlink" Target="http://www.sitesatlas.com/" TargetMode="External"/><Relationship Id="rId8" Type="http://schemas.openxmlformats.org/officeDocument/2006/relationships/hyperlink" Target="http://www.todo-mapas.com.ar/" TargetMode="External"/><Relationship Id="rId9" Type="http://schemas.openxmlformats.org/officeDocument/2006/relationships/hyperlink" Target="http://www.mapsofworld.com/" TargetMode="External"/><Relationship Id="rId10" Type="http://schemas.openxmlformats.org/officeDocument/2006/relationships/hyperlink" Target="http://flagspot.net/flags" TargetMode="External"/><Relationship Id="rId11" Type="http://schemas.openxmlformats.org/officeDocument/2006/relationships/hyperlink" Target="http://www.flags.net/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elefonica.com.ar/guias" TargetMode="External"/><Relationship Id="rId2" Type="http://schemas.openxmlformats.org/officeDocument/2006/relationships/hyperlink" Target="http://www.paginasamarillas.com.ar/" TargetMode="External"/><Relationship Id="rId3" Type="http://schemas.openxmlformats.org/officeDocument/2006/relationships/hyperlink" Target="http://www.buenosaires.gov.ar/areas/com_social/tel_utiles/index.php" TargetMode="External"/><Relationship Id="rId4" Type="http://schemas.openxmlformats.org/officeDocument/2006/relationships/hyperlink" Target="http://www.meteofa.mil.ar/" TargetMode="External"/><Relationship Id="rId5" Type="http://schemas.openxmlformats.org/officeDocument/2006/relationships/hyperlink" Target="http://www.weather.com/" TargetMode="External"/><Relationship Id="rId6" Type="http://schemas.openxmlformats.org/officeDocument/2006/relationships/hyperlink" Target="http://www.wunderground.com/" TargetMode="External"/><Relationship Id="rId7" Type="http://schemas.openxmlformats.org/officeDocument/2006/relationships/hyperlink" Target="http://www.accuweather.com/" TargetMode="External"/><Relationship Id="rId8" Type="http://schemas.openxmlformats.org/officeDocument/2006/relationships/hyperlink" Target="http://www.worldclimate.com/" TargetMode="External"/><Relationship Id="rId9" Type="http://schemas.openxmlformats.org/officeDocument/2006/relationships/hyperlink" Target="http://www.endondequeda.com/" TargetMode="External"/><Relationship Id="rId10" Type="http://schemas.openxmlformats.org/officeDocument/2006/relationships/hyperlink" Target="http://www.cybermapa.com.ar/" TargetMode="External"/><Relationship Id="rId11" Type="http://schemas.openxmlformats.org/officeDocument/2006/relationships/hyperlink" Target="http://www.mapred.com/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5"/>
          <p:cNvSpPr/>
          <p:nvPr/>
        </p:nvSpPr>
        <p:spPr>
          <a:xfrm>
            <a:off x="179280" y="2421000"/>
            <a:ext cx="871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Es tanta la información en Internet, que abru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Y suele ser difícil encontrar datos preci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No siempre se dispone del tiempo necesario para visitar todos los sitios que nos ofrecen tras una búsque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A veces, sólo necesitamos confirmar un dato o despejar una du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Aquí es donde se vuelven muy útiles las enciclopedias y los diccionarios digitales, sitios de referencia para tener a pocos clic de dista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Arial"/>
              </a:rPr>
              <a:t>Y tienen, además, una ventaja sobre sus pares de papel: se actualizan con frecuencia, corrigen sus errores y pueden ofrecer contenidos multimedi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WordArt 7"/>
          <p:cNvSpPr txBox="1"/>
          <p:nvPr/>
        </p:nvSpPr>
        <p:spPr>
          <a:xfrm>
            <a:off x="324000" y="260280"/>
            <a:ext cx="8496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Los 60 sitios mas útiles de la We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pic>
        <p:nvPicPr>
          <p:cNvPr id="40" name="Picture 8" descr="Viernes, 25 de Agosto de 2006"/>
          <p:cNvPicPr/>
          <p:nvPr/>
        </p:nvPicPr>
        <p:blipFill>
          <a:blip r:embed="rId1"/>
          <a:stretch/>
        </p:blipFill>
        <p:spPr>
          <a:xfrm>
            <a:off x="0" y="6143760"/>
            <a:ext cx="16192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39640" y="404640"/>
            <a:ext cx="806472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NCICLOPEDIAS</a:t>
            </a:r>
            <a:r>
              <a:rPr b="0" lang="es-ES" sz="2400" spc="-1" strike="noStrike">
                <a:solidFill>
                  <a:srgbClr val="cc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de la célebre Enciclopedia Británica hasta la versión en línea de la Microsoft Encarta, pasando por la Wikipedia, hecha por voluntario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ritannic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clopedi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.wikipedia.org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español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s.encarta.msn.co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español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ICCIONARIO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ignificado de las palabras, sinónimos, antónimos y los giros reg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scon.rae.es/diccionario/dra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lmundo.es/diccio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lcastellano.org/miy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c_arg_esp. htm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argentinismos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diccionario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dictiona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wordreference.com/es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dictionari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IT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ELEB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rases geniales de todos los tiempos sobre los temas más diverso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bartleb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uscabiografias.com/fras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Viernes, 25 de Agosto de 2006"/>
          <p:cNvPicPr/>
          <p:nvPr/>
        </p:nvPicPr>
        <p:blipFill>
          <a:blip r:embed="rId15"/>
          <a:stretch/>
        </p:blipFill>
        <p:spPr>
          <a:xfrm>
            <a:off x="0" y="6143760"/>
            <a:ext cx="16192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50920" y="476280"/>
            <a:ext cx="87138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EDICINA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ucha información sobre el cuerpo humano, su funcionamiento y sus enfermedad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lm.nih.gov/medlineplus/spanish/encyclopedi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sd.es/publicaciones/mmerckhogar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ECNOLOGIA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conocer cómo funcionan las cosas y qué significan esas siglas tan comunes en informát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</a:rPr>
              <a:t>www.pcwebopedia.com 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BIOGRAFIA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ida y obra de los hombres que forjaron la historia de nuestro país y el mun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uscabiografi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biografiasyvid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ographie.net/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istoriadelpais.com.ar/menubio/camde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icromegas.com.mx/papeleria /biografi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literatur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FEMERID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listado con los hechos más importantes de la historia mundial, ordenados día por dí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periodismo.com/cgi-bin/ f/fm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me.gov.ar/ef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Viernes, 25 de Agosto de 2006"/>
          <p:cNvPicPr/>
          <p:nvPr/>
        </p:nvPicPr>
        <p:blipFill>
          <a:blip r:embed="rId12"/>
          <a:stretch/>
        </p:blipFill>
        <p:spPr>
          <a:xfrm>
            <a:off x="0" y="6286680"/>
            <a:ext cx="161928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50920" y="620640"/>
            <a:ext cx="8713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RADUCTOR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AUTOMA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uy útiles para saber cómo se dice una palabra en otro idioma o saber el significado de una frase si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.altavista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reetranslatio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HUS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HORARI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tios para saber al instante qué hora es en cualquier parte del mundo, siguiendo los husos determinados por Greenwi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orldtimeserve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orldtimezo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ONVERS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calcular el valor de una moneda respecto de otra y equiparar medidas de, longitud, etcétera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xe.com/ucc/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monedas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feaav.org/common/pi/servicios/conversiontemperatura.sht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secomex.com.ar/Secomex/conversor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RECORDS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IAL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sitio donde se listan los más y los meno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guinnessworldrecord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Viernes, 25 de Agosto de 2006"/>
          <p:cNvPicPr/>
          <p:nvPr/>
        </p:nvPicPr>
        <p:blipFill>
          <a:blip r:embed="rId9"/>
          <a:stretch/>
        </p:blipFill>
        <p:spPr>
          <a:xfrm>
            <a:off x="0" y="6143760"/>
            <a:ext cx="161928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Ink 5"/>
          <p:cNvSpPr/>
          <p:nvPr/>
        </p:nvSpPr>
        <p:spPr>
          <a:xfrm>
            <a:off x="2917800" y="1973160"/>
            <a:ext cx="527040" cy="427320"/>
          </a:xfrm>
          <a:custGeom>
            <a:avLst/>
            <a:gdLst/>
            <a:ahLst/>
            <a:rect l="l" t="t" r="r" b="b"/>
            <a:pathLst>
              <a:path w="1461" h="1186">
                <a:moveTo>
                  <a:pt x="9165" y="5969"/>
                </a:moveTo>
                <a:cubicBezTo>
                  <a:pt x="9165" y="6077"/>
                  <a:pt x="9176" y="6157"/>
                  <a:pt x="9123" y="6244"/>
                </a:cubicBezTo>
                <a:cubicBezTo>
                  <a:pt x="9106" y="6272"/>
                  <a:pt x="9095" y="6291"/>
                  <a:pt x="9080" y="6308"/>
                </a:cubicBezTo>
                <a:cubicBezTo>
                  <a:pt x="9051" y="6339"/>
                  <a:pt x="9041" y="6361"/>
                  <a:pt x="9017" y="6392"/>
                </a:cubicBezTo>
                <a:cubicBezTo>
                  <a:pt x="9000" y="6414"/>
                  <a:pt x="8998" y="6418"/>
                  <a:pt x="8996" y="6456"/>
                </a:cubicBezTo>
                <a:cubicBezTo>
                  <a:pt x="8996" y="6477"/>
                  <a:pt x="8996" y="6484"/>
                  <a:pt x="8996" y="6498"/>
                </a:cubicBezTo>
                <a:cubicBezTo>
                  <a:pt x="9023" y="6380"/>
                  <a:pt x="9035" y="6260"/>
                  <a:pt x="9038" y="6138"/>
                </a:cubicBezTo>
                <a:cubicBezTo>
                  <a:pt x="9042" y="5993"/>
                  <a:pt x="9027" y="5872"/>
                  <a:pt x="9080" y="5736"/>
                </a:cubicBezTo>
                <a:cubicBezTo>
                  <a:pt x="9117" y="5642"/>
                  <a:pt x="9176" y="5558"/>
                  <a:pt x="9229" y="5482"/>
                </a:cubicBezTo>
                <a:cubicBezTo>
                  <a:pt x="9229" y="5646"/>
                  <a:pt x="9227" y="5821"/>
                  <a:pt x="9207" y="5969"/>
                </a:cubicBezTo>
                <a:cubicBezTo>
                  <a:pt x="9194" y="6064"/>
                  <a:pt x="9191" y="6111"/>
                  <a:pt x="9165" y="6202"/>
                </a:cubicBezTo>
                <a:cubicBezTo>
                  <a:pt x="9142" y="6284"/>
                  <a:pt x="9172" y="6248"/>
                  <a:pt x="9123" y="6329"/>
                </a:cubicBezTo>
                <a:cubicBezTo>
                  <a:pt x="9095" y="6375"/>
                  <a:pt x="9098" y="6370"/>
                  <a:pt x="9080" y="6392"/>
                </a:cubicBezTo>
                <a:cubicBezTo>
                  <a:pt x="9080" y="6235"/>
                  <a:pt x="9072" y="6081"/>
                  <a:pt x="9102" y="5927"/>
                </a:cubicBezTo>
                <a:cubicBezTo>
                  <a:pt x="9122" y="5823"/>
                  <a:pt x="9160" y="5746"/>
                  <a:pt x="9207" y="5651"/>
                </a:cubicBezTo>
                <a:cubicBezTo>
                  <a:pt x="9207" y="5814"/>
                  <a:pt x="9203" y="5988"/>
                  <a:pt x="9186" y="6138"/>
                </a:cubicBezTo>
                <a:cubicBezTo>
                  <a:pt x="9183" y="6168"/>
                  <a:pt x="9168" y="6202"/>
                  <a:pt x="9165" y="6223"/>
                </a:cubicBezTo>
                <a:cubicBezTo>
                  <a:pt x="9159" y="6270"/>
                  <a:pt x="9150" y="6278"/>
                  <a:pt x="9144" y="6308"/>
                </a:cubicBezTo>
                <a:cubicBezTo>
                  <a:pt x="9135" y="6352"/>
                  <a:pt x="9142" y="6347"/>
                  <a:pt x="9123" y="6371"/>
                </a:cubicBezTo>
                <a:cubicBezTo>
                  <a:pt x="9114" y="6382"/>
                  <a:pt x="9094" y="6417"/>
                  <a:pt x="9080" y="6435"/>
                </a:cubicBezTo>
                <a:cubicBezTo>
                  <a:pt x="9061" y="6460"/>
                  <a:pt x="9071" y="6463"/>
                  <a:pt x="9059" y="6498"/>
                </a:cubicBezTo>
                <a:cubicBezTo>
                  <a:pt x="9047" y="6533"/>
                  <a:pt x="9030" y="6545"/>
                  <a:pt x="9017" y="6562"/>
                </a:cubicBezTo>
                <a:cubicBezTo>
                  <a:pt x="9033" y="6537"/>
                  <a:pt x="9065" y="6480"/>
                  <a:pt x="9080" y="6435"/>
                </a:cubicBezTo>
                <a:cubicBezTo>
                  <a:pt x="9096" y="6388"/>
                  <a:pt x="9126" y="6320"/>
                  <a:pt x="9165" y="6286"/>
                </a:cubicBezTo>
                <a:cubicBezTo>
                  <a:pt x="9201" y="6255"/>
                  <a:pt x="9207" y="6244"/>
                  <a:pt x="9229" y="6223"/>
                </a:cubicBezTo>
                <a:cubicBezTo>
                  <a:pt x="9251" y="6202"/>
                  <a:pt x="9246" y="6204"/>
                  <a:pt x="9292" y="6202"/>
                </a:cubicBezTo>
                <a:cubicBezTo>
                  <a:pt x="9431" y="6196"/>
                  <a:pt x="9435" y="6240"/>
                  <a:pt x="9483" y="6096"/>
                </a:cubicBezTo>
                <a:cubicBezTo>
                  <a:pt x="9495" y="6059"/>
                  <a:pt x="9509" y="5979"/>
                  <a:pt x="9525" y="5948"/>
                </a:cubicBezTo>
                <a:cubicBezTo>
                  <a:pt x="9546" y="5927"/>
                  <a:pt x="9553" y="5920"/>
                  <a:pt x="9567" y="5905"/>
                </a:cubicBezTo>
                <a:cubicBezTo>
                  <a:pt x="9567" y="5954"/>
                  <a:pt x="9567" y="5962"/>
                  <a:pt x="9567" y="6011"/>
                </a:cubicBezTo>
                <a:cubicBezTo>
                  <a:pt x="9567" y="6055"/>
                  <a:pt x="9552" y="6083"/>
                  <a:pt x="9546" y="6117"/>
                </a:cubicBezTo>
                <a:cubicBezTo>
                  <a:pt x="9538" y="6167"/>
                  <a:pt x="9539" y="6197"/>
                  <a:pt x="9525" y="6223"/>
                </a:cubicBezTo>
                <a:cubicBezTo>
                  <a:pt x="9503" y="6264"/>
                  <a:pt x="9474" y="6311"/>
                  <a:pt x="9461" y="6350"/>
                </a:cubicBezTo>
                <a:cubicBezTo>
                  <a:pt x="9452" y="6377"/>
                  <a:pt x="9443" y="6437"/>
                  <a:pt x="9440" y="6456"/>
                </a:cubicBezTo>
                <a:cubicBezTo>
                  <a:pt x="9431" y="6517"/>
                  <a:pt x="9440" y="6585"/>
                  <a:pt x="9440" y="6646"/>
                </a:cubicBezTo>
                <a:cubicBezTo>
                  <a:pt x="9329" y="6646"/>
                  <a:pt x="9228" y="6650"/>
                  <a:pt x="9123" y="6667"/>
                </a:cubicBezTo>
                <a:cubicBezTo>
                  <a:pt x="9019" y="6684"/>
                  <a:pt x="8885" y="6674"/>
                  <a:pt x="8805" y="6625"/>
                </a:cubicBezTo>
                <a:cubicBezTo>
                  <a:pt x="8753" y="6594"/>
                  <a:pt x="8704" y="6603"/>
                  <a:pt x="8657" y="6583"/>
                </a:cubicBezTo>
                <a:cubicBezTo>
                  <a:pt x="8525" y="6526"/>
                  <a:pt x="8377" y="6490"/>
                  <a:pt x="8234" y="6435"/>
                </a:cubicBezTo>
                <a:cubicBezTo>
                  <a:pt x="8191" y="6419"/>
                  <a:pt x="8144" y="6405"/>
                  <a:pt x="8107" y="6392"/>
                </a:cubicBezTo>
              </a:path>
            </a:pathLst>
          </a:custGeom>
          <a:noFill/>
          <a:ln cap="rnd" w="3492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250920" y="333360"/>
            <a:ext cx="8642160" cy="61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ABL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PERIODIC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formación sobre la composición atómica de los elementos, su peso, símbolo, cómo se los nombra en otros idiomas, etcét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enntech.com/espanol/tabla-periodic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eocities.com/erkflores/Tabl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ebelement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ECUAC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2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ONSTANT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 listado de ecuaciones y constantes para cálculos en matemática, álgebra, astronomía, estadística, geometría o química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caep.co.uk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matemática, astronomía, constantes científica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equationsheet.co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(ecuaciones de todo tipo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AP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tas y planos de todo el mundo con información sobre su geografía y división polít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lasma.nationalgeogra-phic.com/map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sitesatla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todo-mapas.com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mapsofworl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BANDER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os sitios para los amantes de la vexilología, con información sobre todas las banderas nacionale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lagspot.net/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flag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Viernes, 25 de Agosto de 2006"/>
          <p:cNvPicPr/>
          <p:nvPr/>
        </p:nvPicPr>
        <p:blipFill>
          <a:blip r:embed="rId12"/>
          <a:stretch/>
        </p:blipFill>
        <p:spPr>
          <a:xfrm>
            <a:off x="0" y="6429240"/>
            <a:ext cx="1619280" cy="42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71280"/>
            <a:ext cx="856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GUIAS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ELEFON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guía telefónica local y el sitio del gobierno porteño con números telefónic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elefonica.com.ar/gu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aginasamarillas.com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uenosaires.gov.ar/areas/com_social/tel_utiles/ index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LIMA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LOCAL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L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UND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tener al instante el pronóstico del tiempo en Buenos Aires o cualquier otra ciudad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eteofa.mil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weather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wundergroun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accuweather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worldclim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APAS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DE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CALLES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Y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TRANSPORT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anos e indicaciones para llegar a cualquier parte de la ciuda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endondequed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cybermapa.com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mapre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www.comoviaj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www.loscolectivos.com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www.xcolectivo.com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MITOS</a:t>
            </a:r>
            <a:r>
              <a:rPr b="0" lang="es-ES" sz="1400" spc="-1" strike="noStrike">
                <a:solidFill>
                  <a:srgbClr val="ff3300"/>
                </a:solidFill>
                <a:latin typeface="comic"/>
                <a:ea typeface="Arial"/>
              </a:rPr>
              <a:t> </a:t>
            </a:r>
            <a:r>
              <a:rPr b="0" i="1" lang="es-ES" sz="1400" spc="-1" strike="noStrike" u="sng">
                <a:solidFill>
                  <a:srgbClr val="cc3300"/>
                </a:solidFill>
                <a:uFillTx/>
                <a:latin typeface="comic"/>
                <a:ea typeface="Arial"/>
              </a:rPr>
              <a:t>URBAN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áginas que buscan develar la verdad sobre hechos de la historia y de nuestro plane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www.snop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Arial"/>
              </a:rPr>
              <a:t>pw1.netcom.com/~uncleken/urbanmyth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Viernes, 25 de Agosto de 2006"/>
          <p:cNvPicPr/>
          <p:nvPr/>
        </p:nvPicPr>
        <p:blipFill>
          <a:blip r:embed="rId12"/>
          <a:stretch/>
        </p:blipFill>
        <p:spPr>
          <a:xfrm>
            <a:off x="0" y="6143760"/>
            <a:ext cx="16192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3:26:43Z</dcterms:created>
  <dc:creator>sonialilianafio@yahoo.com.ar</dc:creator>
  <dc:description/>
  <dc:language>en-US</dc:language>
  <cp:lastModifiedBy>fop</cp:lastModifiedBy>
  <dcterms:modified xsi:type="dcterms:W3CDTF">2009-07-06T18:10:42Z</dcterms:modified>
  <cp:revision>6</cp:revision>
  <dc:subject/>
  <dc:title>Diapositiva 1</dc:title>
</cp:coreProperties>
</file>