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ntic%20del%20Ctw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B429-4329-4934-B2FD-AB5FFB11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1B39-B075-44C0-B44C-D79169F4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68C8-844F-46D6-99C3-7BD9467BA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8754-8198-4175-9925-8A446E1F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8DD5-1B3F-4135-8EFE-9620B702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7FF4-3765-4BC3-9541-6C7B4132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B70E-7833-4D37-9EFE-15220512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80D7-9098-4340-847F-255B49E4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48AC-46BB-48B9-B74A-3A29F505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1002-6AEE-4CC2-B62E-5138E294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E840-1E9D-4025-904A-91EC1C87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3093-A8FF-409D-B8EB-884F92DD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4F3A-BCD3-4468-8961-454373D5513F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ntic%20del%20Ctw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_x000c_01013web.jpg   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7238880" y="76320"/>
            <a:ext cx="1862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970415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970415"/>
                </a:solidFill>
                <a:latin typeface="Comic Sans MS"/>
              </a:rPr>
              <a:t>Ciclo</a:t>
            </a:r>
            <a:r>
              <a:rPr b="1" lang="ca-ES" sz="3200" spc="-1" strike="noStrike">
                <a:solidFill>
                  <a:srgbClr val="970415"/>
                </a:solidFill>
                <a:latin typeface="Comic Sans MS"/>
              </a:rPr>
              <a:t> C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52280" y="1219320"/>
            <a:ext cx="8839440" cy="703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ff0000"/>
                </a:solidFill>
                <a:latin typeface="Comic Sans MS"/>
              </a:rPr>
              <a:t>El Cuerpo y Sangre de Cris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512080" y="2133720"/>
            <a:ext cx="37879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c00000"/>
                </a:solidFill>
                <a:latin typeface="Comic Sans MS"/>
              </a:rPr>
              <a:t>6 de junio de 2010</a:t>
            </a:r>
            <a:r>
              <a:rPr b="0" i="1" lang="ca-ES" sz="48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04920" y="60199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ffffff"/>
                </a:solidFill>
                <a:latin typeface="Comic Sans MS"/>
              </a:rPr>
              <a:t>Música de la Sinagoga Hebre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cantic%20del%20Ct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6305"/>
            </a:gs>
            <a:gs pos="100000">
              <a:srgbClr val="011f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28600" y="477504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600" spc="-1" strike="noStrike">
                <a:solidFill>
                  <a:srgbClr val="ffffff"/>
                </a:solidFill>
                <a:latin typeface="Comic Sans MS"/>
              </a:rPr>
              <a:t>Jesús, esperanza nuestra, tu compasión no tiene límit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bbe0e3"/>
                </a:solidFill>
                <a:latin typeface="Comic Sans MS"/>
              </a:rPr>
              <a:t>                                                                                           </a:t>
            </a:r>
            <a:r>
              <a:rPr b="0" i="1" lang="ca-ES" sz="1800" spc="-1" strike="noStrike">
                <a:solidFill>
                  <a:srgbClr val="bbe0e3"/>
                </a:solidFill>
                <a:latin typeface="Comic Sans MS"/>
              </a:rPr>
              <a:t>Roger de Taiz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2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Documents and Settings\st benet\Mis documentos\Mis imágenes\bíblics\tabor\resized_tabor-grutaw.jpg"/>
          <p:cNvPicPr/>
          <p:nvPr/>
        </p:nvPicPr>
        <p:blipFill>
          <a:blip r:embed="rId1"/>
          <a:stretch/>
        </p:blipFill>
        <p:spPr>
          <a:xfrm>
            <a:off x="228600" y="0"/>
            <a:ext cx="8610480" cy="68691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"/>
          <p:cNvSpPr/>
          <p:nvPr/>
        </p:nvSpPr>
        <p:spPr>
          <a:xfrm>
            <a:off x="357120" y="108000"/>
            <a:ext cx="8458200" cy="2288520"/>
          </a:xfrm>
          <a:prstGeom prst="rect">
            <a:avLst/>
          </a:prstGeom>
          <a:solidFill>
            <a:srgbClr val="fce29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Gn 14, 18-20 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elquisedec, rey de Salem, sacerdote del Dios Altísimo, le ofreció pan y vino, y lo bendijo diciendo: Que el Dios Altísimo,que hizo el cielo y la tierra, bendiga a Abrán. Bendito sea el Dios Altísimo que te ha dado la victoria sobre tus enemigos.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Y Abrán le dio el diezmo de t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533520" y="56386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Unicode MS"/>
              </a:rPr>
              <a:t>Gruta prehistórica del Tabor donde se conmemora el encuentro de Abraham con Melquise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_x000e_w-01012web.jpg 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441720" y="407880"/>
            <a:ext cx="36676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5400" spc="-1" strike="noStrike">
                <a:solidFill>
                  <a:srgbClr val="970415"/>
                </a:solidFill>
                <a:latin typeface="Comic Sans MS"/>
              </a:rPr>
              <a:t>Salmo 109</a:t>
            </a:r>
            <a:r>
              <a:rPr b="1" i="1" lang="ca-ES" sz="5400" spc="-1" strike="noStrike">
                <a:solidFill>
                  <a:srgbClr val="ff0724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04920" y="2057400"/>
            <a:ext cx="65656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Tú eres sacerdote para siempre igual que Melquisedec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648720" y="4191120"/>
            <a:ext cx="754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Oráculo del Señor a mi señ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Siéntate a mi derecha,hasta que convierta </a:t>
            </a:r>
            <a:br>
              <a:rPr sz="2800"/>
            </a:b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a tus enemigos en estrado de tus pie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&#13;010128web.jpg  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1676520" y="222120"/>
            <a:ext cx="71247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400" spc="-1" strike="noStrike">
                <a:solidFill>
                  <a:srgbClr val="970415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970415"/>
                </a:solidFill>
                <a:latin typeface="Comic Sans MS"/>
              </a:rPr>
              <a:t>”</a:t>
            </a:r>
            <a:r>
              <a:rPr b="1" i="1" lang="ca-ES" sz="3200" spc="-1" strike="noStrike">
                <a:solidFill>
                  <a:srgbClr val="970415"/>
                </a:solidFill>
                <a:latin typeface="Comic Sans MS"/>
              </a:rPr>
              <a:t>Tú eres sacerdote para siempre</a:t>
            </a:r>
            <a:br>
              <a:rPr sz="3200"/>
            </a:br>
            <a:r>
              <a:rPr b="1" i="1" lang="ca-ES" sz="3200" spc="-1" strike="noStrike">
                <a:solidFill>
                  <a:srgbClr val="970415"/>
                </a:solidFill>
                <a:latin typeface="Comic Sans MS"/>
              </a:rPr>
              <a:t>igual que Melquisedec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228600" y="3352680"/>
            <a:ext cx="6543720" cy="192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ffffff"/>
                </a:solidFill>
                <a:latin typeface="Comic Sans MS"/>
              </a:rPr>
              <a:t>Desde Sión extenderá el Señor </a:t>
            </a:r>
            <a:br>
              <a:rPr sz="3000"/>
            </a:br>
            <a:r>
              <a:rPr b="1" i="1" lang="ca-ES" sz="3000" spc="-1" strike="noStrike">
                <a:solidFill>
                  <a:srgbClr val="ffffff"/>
                </a:solidFill>
                <a:latin typeface="Comic Sans MS"/>
              </a:rPr>
              <a:t>el poder de tu cetr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ffffff"/>
                </a:solidFill>
                <a:latin typeface="Comic Sans MS"/>
              </a:rPr>
              <a:t>¡Domina en medio de tus enemigos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&#13;010131web.jpg  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1228320" y="184320"/>
            <a:ext cx="56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812cf"/>
                </a:solidFill>
                <a:latin typeface="Comic Sans MS"/>
              </a:rPr>
              <a:t>“</a:t>
            </a:r>
            <a:r>
              <a:rPr b="1" i="1" lang="ca-ES" sz="2800" spc="-1" strike="noStrike">
                <a:solidFill>
                  <a:srgbClr val="0812cf"/>
                </a:solidFill>
                <a:latin typeface="Comic Sans MS"/>
              </a:rPr>
              <a:t>Tú eres sacerdote para siempre</a:t>
            </a:r>
            <a:br>
              <a:rPr sz="2800"/>
            </a:br>
            <a:r>
              <a:rPr b="1" i="1" lang="ca-ES" sz="2800" spc="-1" strike="noStrike">
                <a:solidFill>
                  <a:srgbClr val="0812cf"/>
                </a:solidFill>
                <a:latin typeface="Comic Sans MS"/>
              </a:rPr>
              <a:t>igual que Melquisedec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93560" y="1447920"/>
            <a:ext cx="836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Tuyo es el señorío desde el día de tu nacimiento</a:t>
            </a:r>
            <a:br>
              <a:rPr sz="2800"/>
            </a:b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en el santuario; desde el seno de la aurora</a:t>
            </a:r>
            <a:br>
              <a:rPr sz="2800"/>
            </a:b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te he engendrado como rocío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_x000e_-010129web.jpg 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3429000" y="14508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970415"/>
                </a:solidFill>
                <a:latin typeface="Comic Sans MS"/>
              </a:rPr>
              <a:t>“</a:t>
            </a:r>
            <a:r>
              <a:rPr b="1" i="1" lang="ca-ES" sz="2400" spc="-1" strike="noStrike">
                <a:solidFill>
                  <a:srgbClr val="970415"/>
                </a:solidFill>
                <a:latin typeface="Comic Sans MS"/>
              </a:rPr>
              <a:t>Tú eres sacerdote para siemp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970415"/>
                </a:solidFill>
                <a:latin typeface="Comic Sans MS"/>
              </a:rPr>
              <a:t>igual que Melquisedec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13920" y="4343400"/>
            <a:ext cx="56170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ff0724"/>
                </a:solidFill>
                <a:latin typeface="Comic Sans MS"/>
              </a:rPr>
              <a:t>El Señor lo ha jurado </a:t>
            </a:r>
            <a:br>
              <a:rPr sz="2800"/>
            </a:br>
            <a:r>
              <a:rPr b="1" i="1" lang="ca-ES" sz="2800" spc="-1" strike="noStrike">
                <a:solidFill>
                  <a:srgbClr val="ff0724"/>
                </a:solidFill>
                <a:latin typeface="Comic Sans MS"/>
              </a:rPr>
              <a:t>y no se retractará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ff0724"/>
                </a:solidFill>
                <a:latin typeface="Comic Sans MS"/>
              </a:rPr>
              <a:t>“</a:t>
            </a:r>
            <a:r>
              <a:rPr b="1" i="1" lang="ca-ES" sz="2800" spc="-1" strike="noStrike">
                <a:solidFill>
                  <a:srgbClr val="ff0724"/>
                </a:solidFill>
                <a:latin typeface="Comic Sans MS"/>
              </a:rPr>
              <a:t>Tú eres sacerdote para siempre</a:t>
            </a:r>
            <a:br>
              <a:rPr sz="2800"/>
            </a:br>
            <a:r>
              <a:rPr b="1" i="1" lang="ca-ES" sz="2800" spc="-1" strike="noStrike">
                <a:solidFill>
                  <a:srgbClr val="ff0724"/>
                </a:solidFill>
                <a:latin typeface="Comic Sans MS"/>
              </a:rPr>
              <a:t>igual que Melquisedec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C:\Documents and Settings\st benet\Mis documentos\Mis imágenes\bíblics\getsem-passio\eucaristia\calzespigu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0" y="685800"/>
            <a:ext cx="9144000" cy="4117320"/>
          </a:xfrm>
          <a:prstGeom prst="rect">
            <a:avLst/>
          </a:prstGeom>
          <a:solidFill>
            <a:srgbClr val="fce29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C 11:23-26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or lo que a mí toca, del Señor recibí la tradición que os he transmitido, a saber, que Jesús, el Señor, la noche en que iba a ser entregado, tomó pan y, después de dar gracias, lo partió y dijo: «Esto es mi cuerpo entregado por vosotros; haced esto en memoria mía». Igualmente, después de cenar, tomó el cáliz y dijo: «Este cáliz es la nueva alianza sellada con mi sangre; cuantas veces bebáis de él, hacedlo en memoria mía». Así pues, siempre que coméis de este pan y bebéis de este cáliz, anunciáis la muerte del Señor hasta que él ven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&#13;010139web.jpg  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546480" y="2133720"/>
            <a:ext cx="775044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omic Sans MS"/>
              </a:rPr>
              <a:t>Aleluya</a:t>
            </a:r>
            <a:r>
              <a:rPr b="0" i="1" lang="ca-ES" sz="1800" spc="-1" strike="noStrike">
                <a:solidFill>
                  <a:srgbClr val="970415"/>
                </a:solidFill>
                <a:latin typeface="Comic Sans MS"/>
              </a:rPr>
              <a:t> </a:t>
            </a:r>
            <a:r>
              <a:rPr b="1" i="1" lang="ca-ES" sz="1800" spc="-1" strike="noStrike">
                <a:solidFill>
                  <a:srgbClr val="970415"/>
                </a:solidFill>
                <a:latin typeface="Comic Sans MS"/>
              </a:rPr>
              <a:t>  Jn 6, 5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ff0724"/>
                </a:solidFill>
                <a:latin typeface="Comic Sans MS"/>
              </a:rPr>
              <a:t>Yo soy el pan vivo bajado del cielo.</a:t>
            </a:r>
            <a:br>
              <a:rPr sz="3200"/>
            </a:br>
            <a:r>
              <a:rPr b="1" i="1" lang="ca-ES" sz="3200" spc="-1" strike="noStrike">
                <a:solidFill>
                  <a:srgbClr val="ff0724"/>
                </a:solidFill>
                <a:latin typeface="Comic Sans MS"/>
              </a:rPr>
              <a:t>El que come de este pan vivirá siemp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_x000b_w036081.jpg    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76320" y="71280"/>
            <a:ext cx="9067680" cy="55825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970415"/>
                </a:solidFill>
                <a:latin typeface="Comic Sans MS"/>
              </a:rPr>
              <a:t>Lucas 9, 11b-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Jesús los acogió y estuvo hablándoles del reino de Dios, y curando a los que lo necesitaban. Cuando el día comenzó a declinar, se acercaron los doce y le dijeron: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–Despide a la gente para que se vayan a las aldeas y caseríos del contorno a buscar albergue y comida, porque aquí estamos en despoblado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Jesús les dijo: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–</a:t>
            </a:r>
            <a:r>
              <a:rPr b="1" i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adles vosotros de comer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llos le replicaron: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–No tenemos más que cinco panes y dos peces, a no ser que vayamos nosotros a comprar alimentos para toda esa gente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ran unos cinco mil hombres. Dijo entonces Jesús a sus discípulos:</a:t>
            </a:r>
            <a:br>
              <a:rPr sz="2000"/>
            </a:br>
            <a:r>
              <a:rPr b="1" i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andadles que se sienten por grupos de cincuent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sí lo hicieron y acomodaron a todos. Luego Jesús tomó los cinco panes y los dos peces, levantó los ojos al cielo, pronunció la bendición, los partió y se los iba dando a los discípulos para que los distribuyeran entre la gente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mieron todos hasta quedar saciados, y de los trozos sobrantes recogieron doce canas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52280" y="6400800"/>
            <a:ext cx="3221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mic Sans MS"/>
              </a:rPr>
              <a:t>Panes y peces, Magda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19:02:37Z</dcterms:created>
  <dc:creator>JOAN RAMIREZ</dc:creator>
  <dc:description/>
  <dc:language>en-US</dc:language>
  <cp:lastModifiedBy>Usuario</cp:lastModifiedBy>
  <dcterms:modified xsi:type="dcterms:W3CDTF">2010-06-01T18:35:01Z</dcterms:modified>
  <cp:revision>15</cp:revision>
  <dc:subject/>
  <dc:title>Presentación de PowerPoint</dc:title>
</cp:coreProperties>
</file>