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DESYRELESS%20-%20Voyage%20Voyage.wav" ContentType="audio/x-wav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103B-E56D-4050-9928-2919E425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CF98-9718-4B2C-B7C3-D865FFF7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A61-5782-4B84-9139-8EB24FB8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C27F-AF59-4306-AE27-F6311849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9778-BBA1-420A-8AA6-E6EB65BE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7FF-1B73-4D73-8ACF-0D84A564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EA5-2F04-4BA1-9FB6-82EB565F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0DDA-9861-4A70-BCCF-1E973085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AE1-6920-4B71-899B-F4293F65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322B-1BE6-43E8-8CFD-582EB777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79E-C37C-4066-9B43-D0652A76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390A-2E99-4487-98D7-6B46748D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CAA2-80D6-4578-8159-DD836A7746F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DESYRELESS%20-%20Voyage%20Voyag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rance"/>
          <p:cNvPicPr/>
          <p:nvPr/>
        </p:nvPicPr>
        <p:blipFill>
          <a:blip r:embed="rId2"/>
          <a:stretch/>
        </p:blipFill>
        <p:spPr>
          <a:xfrm>
            <a:off x="1187280" y="0"/>
            <a:ext cx="67820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vion"/>
          <p:cNvPicPr/>
          <p:nvPr/>
        </p:nvPicPr>
        <p:blipFill>
          <a:blip r:embed="rId3"/>
          <a:stretch/>
        </p:blipFill>
        <p:spPr>
          <a:xfrm>
            <a:off x="1187280" y="0"/>
            <a:ext cx="2016360" cy="1089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4"/>
          <a:stretch/>
        </p:blipFill>
        <p:spPr>
          <a:xfrm>
            <a:off x="4788000" y="333360"/>
            <a:ext cx="3995640" cy="100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1619280" y="6165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llegro BT"/>
              </a:rPr>
              <a:t>Manue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5" name="DESYRELESS%20-%20Voyage%20Voy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2556000" y="40464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Angles-sur-l'Anglin . 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500720" y="2492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llioure . 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2124000" y="501336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Viaduc de Millau .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3348000" y="692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alanque de Morgiou  .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900000" y="692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Mont Blanc . 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95280" y="981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La Mer de Glace . 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619280" y="14130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hamonix . 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1908000" y="76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Basse-Ham . 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826920" y="5493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Bergues . 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4427640" y="242100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Douai . 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826920" y="692280"/>
            <a:ext cx="51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ont de Tancarville . 7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3564000" y="587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hambord . 4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chin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6156360" y="522936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hinon . 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11280" y="40464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henonceau . 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4643280" y="57340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Paris . 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2268360" y="54936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Etretat . 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826920" y="47628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abourg .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3492360" y="609300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e Mont St Michel .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2124000" y="5661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Le Mont St Michel .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5292720" y="476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le de Sein .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116000" y="189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a Trinité-sur-Mer . 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468360" y="981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Pont de Saint-Nazaire . 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3348000" y="234936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Les Sables-d'Olonne . 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07:49:47Z</dcterms:created>
  <dc:creator>jcsoret</dc:creator>
  <dc:description/>
  <dc:language>en-US</dc:language>
  <cp:lastModifiedBy>PHILIPPE</cp:lastModifiedBy>
  <dcterms:modified xsi:type="dcterms:W3CDTF">2009-02-11T22:04:42Z</dcterms:modified>
  <cp:revision>13</cp:revision>
  <dc:subject/>
  <dc:title>Diapositive 1</dc:title>
</cp:coreProperties>
</file>