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DESYRELESS%20-%20Voyage%20Voyage.wav" ContentType="audio/x-wav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F2D-F93E-4EEC-B949-5000205F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3B5-C2B7-450A-B686-0F76B217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DE6-6DFC-4693-96EA-1435BFBA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A35-CF34-48A7-BFF7-8F4EE35B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B56-4E70-41F2-B317-C4A830A1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FC0-CDEC-4751-B4E5-4A4C68DD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5C1-8E09-4B15-97AB-792F27F7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A1A-4E96-4D34-8154-FAC0C782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344-A3CA-4C24-86E0-32F8285C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49A-93DB-4E03-ADB4-B79EA719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0A1-33ED-4D8B-9033-02A35ABA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A54-CFFF-40A2-BA6E-5915B354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F256-D0AD-4D71-80FD-C5C54F85421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DESYRELESS%20-%20Voyage%20Voyag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rance"/>
          <p:cNvPicPr/>
          <p:nvPr/>
        </p:nvPicPr>
        <p:blipFill>
          <a:blip r:embed="rId2"/>
          <a:stretch/>
        </p:blipFill>
        <p:spPr>
          <a:xfrm>
            <a:off x="1187280" y="0"/>
            <a:ext cx="6782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vion"/>
          <p:cNvPicPr/>
          <p:nvPr/>
        </p:nvPicPr>
        <p:blipFill>
          <a:blip r:embed="rId3"/>
          <a:stretch/>
        </p:blipFill>
        <p:spPr>
          <a:xfrm>
            <a:off x="1187280" y="0"/>
            <a:ext cx="2016360" cy="108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>
            <a:off x="4788000" y="333360"/>
            <a:ext cx="3995640" cy="100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1619280" y="6165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llegro BT"/>
              </a:rPr>
              <a:t>Manue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DESYRELESS%20-%20Voyage%20Voy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2556000" y="404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ngles-sur-l'Anglin . 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500720" y="2492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ollioure . 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124000" y="5013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Viaduc de Millau .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348000" y="692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alanque de Morgiou  .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900000" y="692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Mont Blanc . 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981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a Mer de Glace . 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619280" y="1413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hamonix . 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908000" y="76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Basse-Ham . 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826920" y="549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Bergues .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427640" y="2421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ouai .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826920" y="692280"/>
            <a:ext cx="51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ont de Tancarville . 7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56400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hambord . 4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chin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156360" y="522936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hinon .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1280" y="404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henonceau .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4643280" y="57340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Paris . 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2268360" y="54936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Etretat . 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826920" y="47628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Cabourg .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3492360" y="60930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 Mont St Michel .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2124000" y="566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e Mont St Michel .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292720" y="476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le de Sein .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116000" y="189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a Trinité-sur-Mer .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468360" y="981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Pont de Saint-Nazaire . 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 Cliquer sur la photo pour revenir à la page précédente !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348000" y="23493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es Sables-d'Olonne . 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7:49:47Z</dcterms:created>
  <dc:creator>jcsoret</dc:creator>
  <dc:description/>
  <dc:language>en-US</dc:language>
  <cp:lastModifiedBy>PHILIPPE</cp:lastModifiedBy>
  <dcterms:modified xsi:type="dcterms:W3CDTF">2009-02-11T22:04:42Z</dcterms:modified>
  <cp:revision>13</cp:revision>
  <dc:subject/>
  <dc:title>Diapositive 1</dc:title>
</cp:coreProperties>
</file>