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ort%C3%A1zar%20-%20Autumn%20ro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t&#225;zar%20-%20Autumn%20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28600"/>
            <a:ext cx="8294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HG Mincho Light J"/>
              </a:rPr>
              <a:t>POEMA A LOS AMIG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181480"/>
            <a:ext cx="82072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darte soluciones para todos los problemas de la vida, ni tengo respuestas para tus dudas o tem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Pero puedo escucharte y compartirlo cont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ort%C3%A1zar%20-%20Autumn%20ro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152280"/>
            <a:ext cx="41911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encabezabas ni concluías la 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eras el número uno ni el número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838080" y="-228600"/>
            <a:ext cx="9982080" cy="754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219240"/>
            <a:ext cx="5181840" cy="70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Dormir  fel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Emanar vibraciones de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Saber que estamos aquí  de p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Mejorar las re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Aprovechar las oport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Escuchar a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Acreditar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aflor" descr=""/>
          <p:cNvPicPr/>
          <p:nvPr/>
        </p:nvPicPr>
        <p:blipFill>
          <a:blip r:embed="rId2"/>
          <a:stretch/>
        </p:blipFill>
        <p:spPr>
          <a:xfrm>
            <a:off x="-914400" y="-762120"/>
            <a:ext cx="11201400" cy="883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7400" y="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Y tampoco tengo la pretensión de ser el primero, el segundo o el tercero de tu 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Basta que me quieras como amigo. </a:t>
            </a:r>
            <a:br>
              <a:rPr sz="2800"/>
            </a:br>
            <a:br>
              <a:rPr sz="2800"/>
            </a:b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GRACIAS POR SER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66040" cy="36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cccc"/>
                </a:solidFill>
                <a:latin typeface="Book Antiqua"/>
              </a:rPr>
              <a:t>Música de Ernesto Cortá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600" spc="-1" strike="noStrike">
                <a:solidFill>
                  <a:srgbClr val="ffcccc"/>
                </a:solidFill>
                <a:latin typeface="Book Antiqua"/>
              </a:rPr>
              <a:t>“</a:t>
            </a:r>
            <a:r>
              <a:rPr b="1" lang="es-ES_tradnl" sz="3600" spc="-1" strike="noStrike">
                <a:solidFill>
                  <a:srgbClr val="ffcccc"/>
                </a:solidFill>
                <a:latin typeface="Book Antiqua"/>
              </a:rPr>
              <a:t>Autumn ros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9600" y="55846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CG Times (W1)"/>
                <a:ea typeface="HG Mincho Light J"/>
              </a:rPr>
              <a:t>J.L. BO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51055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cambiar tu pasado ni tu futu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Pero cuando me necesites estaré junto a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152280"/>
            <a:ext cx="51818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evitar que tropi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Solamente puedo ofrecerte mi mano para que te sujetes y no cai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2520" y="45720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Tus alegrías. Tus triunfos y tus éxitos no son mí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Pero disfruto sinceramente cuando te veo feli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733920"/>
            <a:ext cx="914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juzgo las decisiones que tomes en la vida.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Me limito a apoyarte, a estimularte y a ayudarte si me lo p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4419720"/>
            <a:ext cx="56390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trazarte límites dentro de los cuales debes actu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Pero si te ofrezco ese espacio necesario para cre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36576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evitar tus sufrimientos cuando alguna pena te parta el coraz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Pero puedo llorar contigo y recoger los pedazos para armarlo de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228600" y="3962520"/>
            <a:ext cx="66294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puedo decirte quien eres ni quien deberías 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Solamente puedo amarte como eres y ser tu am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152280"/>
            <a:ext cx="53341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En estos días pensé en mis amigos y amig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HG Mincho Light J"/>
              </a:rPr>
              <a:t>No estabas arriba, ni abajo ni en medi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dapal</cp:lastModifiedBy>
  <dcterms:modified xsi:type="dcterms:W3CDTF">2007-02-20T20:04:32Z</dcterms:modified>
  <cp:revision>11</cp:revision>
  <dc:subject/>
  <dc:title>Presentación de PowerPoint</dc:title>
</cp:coreProperties>
</file>