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URIDI%20Amorosa%20146%20kb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39C-AF97-4994-8299-260C7260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326-5346-46CA-9D37-22A5EC52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0E8A-FFBA-47B4-98AE-DE4F7CD0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55FC-E4DF-48F0-9B73-68A48C93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707-E16D-4D6B-A84B-EB8E0863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6B10-2BF1-454E-985A-868223BB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614-F01A-4C2B-8A3B-8EBDAA32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D7AF-B847-4764-B00B-7FA546F8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732-A594-4B78-81B3-CF8948FB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D2A-1D32-4E93-B9C7-D143743E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9EF-1F03-45C7-916A-80EB49C0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C8C-642A-49C4-B970-51F5861C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56BA-F3D2-41EE-9197-0262366C225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URIDI%20Amorosa%20146%20kb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AMILIA%20feliz%20b-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0"/>
            <a:ext cx="8534160" cy="16185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Creer en Dios Padre, Hijo y Espíritu es tener la feliz seguridad 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de que existe siempre una ternura inquebrantable,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un último regazo y una especie de útero infinitamente fecundo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en el que puede uno refugiarse y encontrar la paz, la vida y el amor.</a:t>
            </a:r>
            <a:br>
              <a:rPr sz="2000"/>
            </a:br>
            <a:r>
              <a:rPr b="0" i="1" lang="es-ES" sz="2000" spc="-1" strike="noStrike">
                <a:solidFill>
                  <a:srgbClr val="ffffcc"/>
                </a:solidFill>
                <a:latin typeface="Comic Sans MS"/>
              </a:rPr>
              <a:t>Leonardo B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9400" y="6276960"/>
            <a:ext cx="7980480" cy="5806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Juan 16, 12-15.Santísima Trini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Autora: Mariasun Gutiérrez. Música: Jesús Guridi. Díez melodías vascas: Amoros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GURIDI%20Amorosa%20146%20k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3124080"/>
            <a:ext cx="6629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Comic Sans MS"/>
              </a:rPr>
              <a:t>Entiende la Trinidad,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Comic Sans MS"/>
              </a:rPr>
              <a:t>quien ofrece amistad,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Comic Sans MS"/>
              </a:rPr>
              <a:t>quien construye humanidad,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Comic Sans MS"/>
              </a:rPr>
              <a:t>quien cultiva el perdón,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Comic Sans MS"/>
              </a:rPr>
              <a:t>quien promueve solidaridad,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Comic Sans MS"/>
              </a:rPr>
              <a:t>quien lucha por la justicia,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Comic Sans MS"/>
              </a:rPr>
              <a:t>quien acompaña en procesos de liberación,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Comic Sans MS"/>
              </a:rPr>
              <a:t>quien no vive para sí mism@, 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Comic Sans MS"/>
              </a:rPr>
              <a:t>quien se gasta por l@s demás,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Comic Sans MS"/>
              </a:rPr>
              <a:t>quien es capaz de dar vida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Comic Sans MS"/>
              </a:rPr>
              <a:t>y dar l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VENTANA%20cuadrada%20LU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Tendría que deciros muchas más cosas, pero no podríais entenderlas ahora. Cuando venga el Espíritu de la verdad, os iluminará para que podáis entender la verdad completa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523880"/>
            <a:ext cx="5105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Espíritu nos va iluminando para entender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“la verdad completa” de la palabra y la obra de Jesú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 necesario estar abiert@s a la acción del Espíritu, a lo que continua y progresivamente nos revela y comunica, por medio de las personas, de lo que nos va trayendo la vida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nsiderarse en posesión de la verdad completa es no escuchar al Espíritu, tergiversar el mensaje y la misión de Jesús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y manipular a 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REJA%20MAN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Georgia"/>
              </a:rPr>
              <a:t>Él no hablará por su cuenta, sino que dirá únicamente lo que ha oído, y os anunciará las cosas venideras. Él me glorificará, porque todo lo que os dé</a:t>
            </a:r>
            <a:br>
              <a:rPr sz="2000"/>
            </a:br>
            <a:r>
              <a:rPr b="0" lang="en-US" sz="2000" spc="-1" strike="noStrike">
                <a:solidFill>
                  <a:srgbClr val="ccffff"/>
                </a:solidFill>
                <a:latin typeface="Georgia"/>
              </a:rPr>
              <a:t> a conocer, lo recibirá de mí.</a:t>
            </a:r>
            <a:r>
              <a:rPr b="0" lang="en-US" sz="800" spc="-1" strike="noStrike">
                <a:solidFill>
                  <a:srgbClr val="ccffff"/>
                </a:solidFill>
                <a:latin typeface="Georgi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843440"/>
            <a:ext cx="9144000" cy="201420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Espíritu no habla por su cuenta y al margen de Jesús, hace vivo, aquí y ahora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mensaje que el Padre encomendó a Jesú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osotr@s tampoco hemos de hablar por nuestra cuenta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ino estar atent@s y abiert@s a la vida, a la historia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y a la voz del Espíritu que la interpr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Espíritu, memoria viva de Jesús, hace que seamos colaborador@s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l proyecto liberador de Dios, siempre a favor del ser hum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Fuegos%20artifciales%20arriba-derech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Todo lo que tiene el Padre, es mío también; por eso os he dicho que todo lo que el Espíritu os dé a conocer, lo recibirá de m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ANOS%20TRES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4843440"/>
            <a:ext cx="8915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33"/>
                </a:solidFill>
                <a:latin typeface="Comic Sans MS"/>
              </a:rPr>
              <a:t>Celebrar la Trinidad no es tratar de explicar o entender un embrollo teológico. </a:t>
            </a:r>
            <a:br>
              <a:rPr sz="1800"/>
            </a:br>
            <a:r>
              <a:rPr b="0" lang="es-ES" sz="1800" spc="-1" strike="noStrike">
                <a:solidFill>
                  <a:srgbClr val="ff9933"/>
                </a:solidFill>
                <a:latin typeface="Comic Sans MS"/>
              </a:rPr>
              <a:t>Celebrar la Trinidad es descubrir con alegría que estamos hech@s a imagen y semejanza de un Dios que es don total, diálogo y comunicación permanente,</a:t>
            </a:r>
            <a:br>
              <a:rPr sz="1800"/>
            </a:br>
            <a:r>
              <a:rPr b="0" lang="es-ES" sz="1800" spc="-1" strike="noStrike">
                <a:solidFill>
                  <a:srgbClr val="ff9933"/>
                </a:solidFill>
                <a:latin typeface="Comic Sans MS"/>
              </a:rPr>
              <a:t> amor compartido y, por eso, nos sentimos llamad@s a buscar nuestra verdadera felicidad en el compartir y en la solidaridad.</a:t>
            </a:r>
            <a:br>
              <a:rPr sz="1800"/>
            </a:br>
            <a:r>
              <a:rPr b="0" lang="es-ES" sz="1800" spc="-1" strike="noStrike">
                <a:solidFill>
                  <a:srgbClr val="ff9933"/>
                </a:solidFill>
                <a:latin typeface="Comic Sans MS"/>
              </a:rPr>
              <a:t>Nos invita e impulsa a implicarnos en la tarea de vivir desde la relación, desde la comunión, desde un amor que, haciéndonos más human@s, nos divini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NOS%20agarrad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33720" y="609480"/>
            <a:ext cx="7010280" cy="58546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Yo creo en un 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En ABBÁ, como creía 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Yo creo que el Todopoderos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creador del cielo y de la tierra,</a:t>
            </a:r>
            <a:br>
              <a:rPr sz="1800"/>
            </a:b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es como mi madre y puedo fiarme de É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Lo creo porque así lo he visto en Jesús, que se sentía Hi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Yo creo que Abbá no está lejos sino cerca, al lado, dentro de mí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Creo sentir su Aliento como una brisa suave que me anima</a:t>
            </a:r>
            <a:br>
              <a:rPr sz="1800"/>
            </a:b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y me hace más fácil camin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Creo que Jesús, más aún que un hombre</a:t>
            </a:r>
            <a:br>
              <a:rPr sz="1800"/>
            </a:b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es enviado, mensaj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Creo que sus palabras son palabras de Abbá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Creo que sus acciones son mensaje de Abbá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Creo que puedo llamar a Jesús</a:t>
            </a:r>
            <a:br>
              <a:rPr sz="1800"/>
            </a:b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la Palabra presente entre nosotros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Yo sólo creo en un Dios,</a:t>
            </a:r>
            <a:br>
              <a:rPr sz="1800"/>
            </a:b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que es Padre, Palabra y Viento,</a:t>
            </a:r>
            <a:br>
              <a:rPr sz="1800"/>
            </a:b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porque creo en Jesús, el Hijo,</a:t>
            </a:r>
            <a:br>
              <a:rPr sz="1800"/>
            </a:b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el hombre lleno del Espíritu de Abbá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Monotype Corsiva"/>
              </a:rPr>
              <a:t>José Enrique Galarr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 rot="20820000">
            <a:off x="1142640" y="456840"/>
            <a:ext cx="12952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100000">
                      <a:srgbClr val="ffffcc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REDO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100000">
                    <a:srgbClr val="ffffcc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16:40:06Z</dcterms:created>
  <dc:creator>Mariasun Gutiérrez</dc:creator>
  <dc:description/>
  <dc:language>en-US</dc:language>
  <cp:lastModifiedBy>Usuario</cp:lastModifiedBy>
  <dcterms:modified xsi:type="dcterms:W3CDTF">2010-05-25T16:17:21Z</dcterms:modified>
  <cp:revision>24</cp:revision>
  <dc:subject>jeasam@gmail.com</dc:subject>
  <dc:title>STMA.TRINIDAD</dc:title>
</cp:coreProperties>
</file>