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oral_greg_katan26.wav" ContentType="audio/x-wav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05BE-8984-44F7-AA78-C80DBFF1DEE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8169-15E4-4572-9541-9079E1F7029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E21E-E747-4974-9BE8-789F71F995F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A135-EA76-4EE3-AC4A-E707FFAB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6B5B-E812-49F8-A54E-A1B03B47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DB7E-6FF3-48D1-868A-8F4C60BB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CC09-8521-4379-83BA-3D6F4B0CC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8300-7C56-4A8D-A384-5E876E55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8386-F6A2-43AF-9587-CFDCF795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38A-0D74-4980-B980-E6B3CB0C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8923-0C0A-41C9-A084-63773E66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0334-5E48-43E0-99DA-C641702D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0E1-113A-497A-8217-09413052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2999-BA9E-4754-8310-78608035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F50-5BD1-446E-9B12-A30D942E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50DB-0372-46CD-B27F-8AFC072B900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ral_greg_katan26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nymans_wall_garden"/>
          <p:cNvPicPr/>
          <p:nvPr/>
        </p:nvPicPr>
        <p:blipFill>
          <a:blip r:embed="rId1"/>
          <a:stretch/>
        </p:blipFill>
        <p:spPr>
          <a:xfrm>
            <a:off x="250920" y="333360"/>
            <a:ext cx="8208720" cy="6192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s-ES" sz="4400" spc="-1" strike="noStrike">
                <a:solidFill>
                  <a:srgbClr val="ffffff"/>
                </a:solidFill>
                <a:latin typeface="Papyrus"/>
              </a:rPr>
              <a:t>EL JARD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  <p:sndAc>
      <p:stSnd>
        <p:snd r:embed="rId2" name="coral_greg_katan26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595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18_Italian_Garden"/>
          <p:cNvPicPr/>
          <p:nvPr/>
        </p:nvPicPr>
        <p:blipFill>
          <a:blip r:embed="rId1"/>
          <a:stretch/>
        </p:blipFill>
        <p:spPr>
          <a:xfrm>
            <a:off x="755640" y="40464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Y NO PERM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79182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Que el jardín de tu vida se marchite, por el hecho de no querer entender esa voz que brilla desde lo mas profundo de tu coraz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640" y="4076280"/>
            <a:ext cx="763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¡RECUERDA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nadie es mas que nadi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Solo que unos, hacen mas que otro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50000">
              <a:srgbClr val="5e4700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Por sobre todas las cosas guardadas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2852280"/>
            <a:ext cx="44640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Guarda tu corazón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Por que en el, se archivan los buenos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migos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HeartOfRosesThumb2"/>
          <p:cNvPicPr/>
          <p:nvPr/>
        </p:nvPicPr>
        <p:blipFill>
          <a:blip r:embed="rId1"/>
          <a:stretch/>
        </p:blipFill>
        <p:spPr>
          <a:xfrm>
            <a:off x="4859280" y="227664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3b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Si por algún caso nadie te devuelve este mensaje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78472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¡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No te vuelvas trist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ff33"/>
                </a:solidFill>
                <a:latin typeface="Times New Roman"/>
              </a:rPr>
              <a:t>Yo te lo envie a ti primero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ff33"/>
                </a:solidFill>
                <a:latin typeface="Times New Roman"/>
              </a:rPr>
              <a:t>Por que te has convertido en 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-360" y="5084640"/>
            <a:ext cx="827388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9900"/>
                </a:solidFill>
                <a:latin typeface="Times New Roman"/>
              </a:rPr>
              <a:t>          </a:t>
            </a:r>
            <a:r>
              <a:rPr b="0" lang="es-ES" sz="6000" spc="-1" strike="noStrike">
                <a:solidFill>
                  <a:srgbClr val="ff9900"/>
                </a:solidFill>
                <a:latin typeface="Times New Roman"/>
              </a:rPr>
              <a:t>Gran!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9900"/>
                </a:solidFill>
                <a:latin typeface="Times New Roman"/>
              </a:rPr>
              <a:t>                        </a:t>
            </a:r>
            <a:r>
              <a:rPr b="0" lang="es-ES" sz="6000" spc="-1" strike="noStrike">
                <a:solidFill>
                  <a:srgbClr val="ff9900"/>
                </a:solidFill>
                <a:latin typeface="Times New Roman"/>
              </a:rPr>
              <a:t>Amigo(a)!</a:t>
            </a:r>
            <a:r>
              <a:rPr b="0" lang="es-ES" sz="1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orte"/>
              </a:rPr>
              <a:t>Y TE AGRADECERE ESTE GESTO DE TU PART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ccff33"/>
                </a:solidFill>
                <a:latin typeface="Cooper Black"/>
              </a:rPr>
              <a:t>PERMITIRME CONTAR CONT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" sz="6600" spc="-1" strike="noStrike">
                <a:solidFill>
                  <a:srgbClr val="ffff00"/>
                </a:solidFill>
                <a:latin typeface="Cooper Black"/>
              </a:rPr>
              <a:t>SIEMPRE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24000" y="63086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Rev. E.S. 2010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785960" y="5445000"/>
            <a:ext cx="660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rebuchet MS"/>
              </a:rPr>
              <a:t>Dios </a:t>
            </a:r>
            <a:r>
              <a:rPr b="0" lang="es-ES" sz="4000" spc="-1" strike="noStrike">
                <a:solidFill>
                  <a:srgbClr val="ff0000"/>
                </a:solidFill>
                <a:latin typeface="Trebuchet MS"/>
              </a:rPr>
              <a:t>TE AMA!!! Y Él te bendice ahora </a:t>
            </a:r>
            <a:r>
              <a:rPr b="0" lang="en-US" sz="4000" spc="-1" strike="noStrike">
                <a:solidFill>
                  <a:srgbClr val="ff0000"/>
                </a:solidFill>
                <a:latin typeface="Trebuchet MS"/>
              </a:rPr>
              <a:t>. 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3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Un rey fue hasta su jardín y descubrió que sus árboles y arbustos se morí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380988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roble dijo que se moría por no ser tan alto y tan fuerte como el p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58920" y="4724280"/>
            <a:ext cx="3809880" cy="23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volviéndose al pino, lo hallo caído, por que no podía dar uvas como la v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971640" y="4005360"/>
            <a:ext cx="2571840" cy="2647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white-pine-big"/>
          <p:cNvPicPr/>
          <p:nvPr/>
        </p:nvPicPr>
        <p:blipFill>
          <a:blip r:embed="rId2"/>
          <a:stretch/>
        </p:blipFill>
        <p:spPr>
          <a:xfrm>
            <a:off x="5796000" y="1700280"/>
            <a:ext cx="2319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0044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82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La vid se moría por que no podía dar flores como la ro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3809880" cy="15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Y la rosa se moría por no ser fuerte y sólida como el robl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33760" y="2852640"/>
            <a:ext cx="380988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3200" spc="-1" strike="noStrike">
                <a:solidFill>
                  <a:srgbClr val="ccff33"/>
                </a:solidFill>
                <a:latin typeface="Times New Roman"/>
              </a:rPr>
              <a:t>Entonces encontró una pla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ff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Un clavel floreciendo y mas fresco que nun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Times New Roman"/>
              </a:rPr>
              <a:t>El rey le pregun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Como es que creces en medio de este jardin moribun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plant%2520rose%2520bush2"/>
          <p:cNvPicPr/>
          <p:nvPr/>
        </p:nvPicPr>
        <p:blipFill>
          <a:blip r:embed="rId1"/>
          <a:stretch/>
        </p:blipFill>
        <p:spPr>
          <a:xfrm>
            <a:off x="971640" y="4365720"/>
            <a:ext cx="2400120" cy="1847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Grape-Vine"/>
          <p:cNvPicPr/>
          <p:nvPr/>
        </p:nvPicPr>
        <p:blipFill>
          <a:blip r:embed="rId2"/>
          <a:stretch/>
        </p:blipFill>
        <p:spPr>
          <a:xfrm>
            <a:off x="5651640" y="260280"/>
            <a:ext cx="3192480" cy="2130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5e"/>
            </a:gs>
            <a:gs pos="100000">
              <a:srgbClr val="cc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La flor contest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8102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Quizás sea por que siempre supuse que cuando me plantaste,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querías ver clavel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 hubieses querido otro roble, lo habrías plant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aquel momento me dij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tentare ser el clavel de la mejor manera que pued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32000" y="4508280"/>
            <a:ext cx="380988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Y heme aquí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mas hermoso y bello clavel de tu jard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flora_carnationbushblowup"/>
          <p:cNvPicPr/>
          <p:nvPr/>
        </p:nvPicPr>
        <p:blipFill>
          <a:blip r:embed="rId1"/>
          <a:stretch/>
        </p:blipFill>
        <p:spPr>
          <a:xfrm>
            <a:off x="4859280" y="105264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4747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Somos, esto que somo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2625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ivimos marchitándonos en nuestras propias insatisfaccion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nuestras absurdas compara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n los demá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96000" y="1773360"/>
            <a:ext cx="3348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 “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i yo fuera”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“si yo tuviera”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“si mi vida fuer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empre conjugando el futuro incierto en vez del presente concret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mpecinados en no querer aceptar, que la felicidad es un estado subjetivo y voluntari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0574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50000">
              <a:srgbClr val="5e5e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Times New Roman"/>
              </a:rPr>
              <a:t>Podemos elegir hoy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26272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ar felices con lo que som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 lo que tenem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 vivir amargados por lo que no tenemos o no podemos 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32000" y="1412640"/>
            <a:ext cx="6012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lo podremos florece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dia que aceptemos que somos lo que somos,      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¡Somos unico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nadie puede hacer, lo que nosotros vinimos a hacer aqu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3924360" y="3068640"/>
            <a:ext cx="40323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5e"/>
            </a:gs>
            <a:gs pos="100000">
              <a:srgbClr val="cc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Comienza haciendo lo que es neces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uego lo que es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de repen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3640" y="4508280"/>
            <a:ext cx="381024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tarás haciendo l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que 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¡imposibl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100000">
              <a:srgbClr val="4700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oszikert6"/>
          <p:cNvPicPr/>
          <p:nvPr/>
        </p:nvPicPr>
        <p:blipFill>
          <a:blip r:embed="rId1"/>
          <a:stretch/>
        </p:blipFill>
        <p:spPr>
          <a:xfrm>
            <a:off x="1763640" y="1916280"/>
            <a:ext cx="5688000" cy="4267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Nos merecemos darle el mejor color a nuestra vida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181080" y="1844280"/>
            <a:ext cx="198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demás ya lo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hicier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ero habemos unos que no nos exponemos al sol por sentir solo su sombr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349760" y="1844640"/>
            <a:ext cx="17938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humanidad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a la verdad no es mal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ala es la idea de no sacarle el mej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ovecho a estos sentimientos tan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¡humano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002f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66cc"/>
                </a:solidFill>
                <a:latin typeface="Times New Roman"/>
              </a:rPr>
              <a:t>Te preguntara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2204640"/>
            <a:ext cx="798696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 que me gasto el tiempo escribiéndote esto, si no lo necesita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ero es que en mi corazón siento que alguien puede necesitarl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11280" y="5157360"/>
            <a:ext cx="853272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s-ES" sz="8800" spc="-1" strike="noStrike">
                <a:solidFill>
                  <a:srgbClr val="ffcc00"/>
                </a:solidFill>
                <a:latin typeface="Times New Roman"/>
              </a:rPr>
              <a:t>¡REENVIALO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7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7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7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18:50:47Z</dcterms:created>
  <dc:creator>Windows</dc:creator>
  <dc:description/>
  <dc:language>en-US</dc:language>
  <cp:lastModifiedBy>DRA. ANGELA REYES</cp:lastModifiedBy>
  <dcterms:modified xsi:type="dcterms:W3CDTF">2011-01-08T01:21:16Z</dcterms:modified>
  <cp:revision>10</cp:revision>
  <dc:subject/>
  <dc:title>EL JARDIN</dc:title>
</cp:coreProperties>
</file>