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ral_greg_katan26.wav" ContentType="audio/x-wav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E48-5A58-4FD6-AB08-3D1D0C246A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E8D1-B116-4D98-B351-11463F3A75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667-39C6-4AB7-95C0-7F03F51B1F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190-718B-4D1B-84D7-7F19AA3A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525-E9B6-400F-B461-F164F72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5A4-6AE3-49D1-AF3F-DC4028EA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CC8-3ADD-4C48-A06B-4E31BCC4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2F2-E8C2-4A4A-A1F0-4113E46C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CCF-E4A6-4C18-87CE-DB9475FA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D1B-43CC-4572-B3A7-DC8AB192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1DB-9E22-4D14-A546-1BCF7056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AB2-BD09-487B-A72B-5A345D61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B5D-E0D0-4DA4-B2A5-D616F9B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26E-4F04-4898-A5C2-45BF61D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9B1-08FF-465E-B76D-B0E083C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26F-1888-4EE0-9765-EBDADE6103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al_greg_katan26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ymans_wall_garden"/>
          <p:cNvPicPr/>
          <p:nvPr/>
        </p:nvPicPr>
        <p:blipFill>
          <a:blip r:embed="rId1"/>
          <a:stretch/>
        </p:blipFill>
        <p:spPr>
          <a:xfrm>
            <a:off x="250920" y="333360"/>
            <a:ext cx="820872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  <p:sndAc>
      <p:stSnd>
        <p:snd r:embed="rId2" name="coral_greg_katan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18_Italian_Garden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Y NO PERM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918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el jardín de tu vida se marchite, por el hecho de no querer entender esa voz que brilla desde lo mas profundo de tu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640" y="407628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¡RECUERD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nadie es mas que nadi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Solo que unos, hacen mas que otr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5e47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Por sobre todas las cosas guardadas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44640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Guarda tu corazó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or que en el, se archivan los buenos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migos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HeartOfRosesThumb2"/>
          <p:cNvPicPr/>
          <p:nvPr/>
        </p:nvPicPr>
        <p:blipFill>
          <a:blip r:embed="rId1"/>
          <a:stretch/>
        </p:blipFill>
        <p:spPr>
          <a:xfrm>
            <a:off x="4859280" y="2276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i por algún caso nadie te devuelve este mensaj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847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¡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No te vuelvas tris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Times New Roman"/>
              </a:rPr>
              <a:t>Yo te lo envie a ti primer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Times New Roman"/>
              </a:rPr>
              <a:t>Por que te has convertido en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-360" y="5084640"/>
            <a:ext cx="82738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Gran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Amigo(a)!</a:t>
            </a:r>
            <a:r>
              <a:rPr b="0" lang="es-ES" sz="1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Y TE AGRADECERE ESTE GESTO DE TU PART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ccff33"/>
                </a:solidFill>
                <a:latin typeface="Cooper Black"/>
              </a:rPr>
              <a:t>PERMITIRME CONTAR CONT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6600" spc="-1" strike="noStrike">
                <a:solidFill>
                  <a:srgbClr val="ffff00"/>
                </a:solidFill>
                <a:latin typeface="Cooper Black"/>
              </a:rPr>
              <a:t>SIEMPRE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63086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v. E.S. 20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5960" y="5445000"/>
            <a:ext cx="66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Dios </a:t>
            </a:r>
            <a:r>
              <a:rPr b="0" lang="es-ES" sz="4000" spc="-1" strike="noStrike">
                <a:solidFill>
                  <a:srgbClr val="ff0000"/>
                </a:solidFill>
                <a:latin typeface="Trebuchet MS"/>
              </a:rPr>
              <a:t>TE AMA!!! Y Él te bendice ahora 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Un rey fue hasta su jardín y descubrió que sus árboles y arbustos se morí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8098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roble dijo que se moría por no ser tan alto y tan fuerte como el p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920" y="4724280"/>
            <a:ext cx="38098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olviéndose al pino, lo hallo caído, por que no podía dar uvas como la v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2571840" cy="264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hite-pine-big"/>
          <p:cNvPicPr/>
          <p:nvPr/>
        </p:nvPicPr>
        <p:blipFill>
          <a:blip r:embed="rId2"/>
          <a:stretch/>
        </p:blipFill>
        <p:spPr>
          <a:xfrm>
            <a:off x="5796000" y="170028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0044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2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La vid se moría por que no podía dar flores como la r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380988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Y la rosa se moría por no ser fuerte y sólida como el rob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3760" y="2852640"/>
            <a:ext cx="380988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ccff33"/>
                </a:solidFill>
                <a:latin typeface="Times New Roman"/>
              </a:rPr>
              <a:t>Entonces encontró un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 clavel floreciendo y mas fresco que nun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Times New Roman"/>
              </a:rPr>
              <a:t>El rey le pregun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Como es que creces en medio de este jardin moribu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plant%2520rose%2520bush2"/>
          <p:cNvPicPr/>
          <p:nvPr/>
        </p:nvPicPr>
        <p:blipFill>
          <a:blip r:embed="rId1"/>
          <a:stretch/>
        </p:blipFill>
        <p:spPr>
          <a:xfrm>
            <a:off x="971640" y="4365720"/>
            <a:ext cx="240012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pe-Vine"/>
          <p:cNvPicPr/>
          <p:nvPr/>
        </p:nvPicPr>
        <p:blipFill>
          <a:blip r:embed="rId2"/>
          <a:stretch/>
        </p:blipFill>
        <p:spPr>
          <a:xfrm>
            <a:off x="5651640" y="260280"/>
            <a:ext cx="3192480" cy="2130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5e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a flor contes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81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izás sea por que siempre supuse que cuando me plantaste,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querías ver clavel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hubieses querido otro roble, lo habrías plan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aquel momento me dij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tentare ser el clavel de la mejor manera que pue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2000" y="4508280"/>
            <a:ext cx="38098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Y heme aquí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mas hermoso y bello clavel de tu jar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flora_carnationbushblowup"/>
          <p:cNvPicPr/>
          <p:nvPr/>
        </p:nvPicPr>
        <p:blipFill>
          <a:blip r:embed="rId1"/>
          <a:stretch/>
        </p:blipFill>
        <p:spPr>
          <a:xfrm>
            <a:off x="4859280" y="105264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omos, esto que som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2625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vimos marchitándonos en nuestras propias insatisf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nuestras absurdas compar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los demá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96000" y="1773360"/>
            <a:ext cx="3348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“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 yo fuera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“si yo tuviera”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“si mi vida fue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empre conjugando el futuro incierto en vez del presente concre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ecinados en no querer aceptar, que la felicidad es un estado subjetivo y voluntari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057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5e5e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odemos elegir ho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2627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r felices con lo que so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o que tenem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vivir amargados por lo que no tenemos o no podemos 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32000" y="1412640"/>
            <a:ext cx="601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lo podremos florec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a que aceptemos que somos lo que somos,     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¡Somos unic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nadie puede hacer, lo que nosotros vinimos a hacer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924360" y="3068640"/>
            <a:ext cx="4032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5e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ienza haciendo lo que es neces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uego lo que es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de repen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3640" y="4508280"/>
            <a:ext cx="381024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arás haciendo l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que 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¡impos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47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oszikert6"/>
          <p:cNvPicPr/>
          <p:nvPr/>
        </p:nvPicPr>
        <p:blipFill>
          <a:blip r:embed="rId1"/>
          <a:stretch/>
        </p:blipFill>
        <p:spPr>
          <a:xfrm>
            <a:off x="1763640" y="1916280"/>
            <a:ext cx="568800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Nos merecemos darle el mejor color a nuestra vid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080" y="1844280"/>
            <a:ext cx="19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demás ya lo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icier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habemos unos que no nos exponemos al sol por sentir solo su somb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49760" y="1844640"/>
            <a:ext cx="1793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umanidad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a la verdad no es mal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la es la idea de no sacarle el mej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vecho a estos sentimientos tan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¡human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66cc"/>
                </a:solidFill>
                <a:latin typeface="Times New Roman"/>
              </a:rPr>
              <a:t>Te preguntara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9869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 que me gasto el tiempo escribiéndote esto, si no lo necesit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ero es que en mi corazón siento que alguien puede necesitar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1280" y="5157360"/>
            <a:ext cx="853272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s-ES" sz="8800" spc="-1" strike="noStrike">
                <a:solidFill>
                  <a:srgbClr val="ffcc00"/>
                </a:solidFill>
                <a:latin typeface="Times New Roman"/>
              </a:rPr>
              <a:t>¡REENVIALO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50:47Z</dcterms:created>
  <dc:creator>Windows</dc:creator>
  <dc:description/>
  <dc:language>en-US</dc:language>
  <cp:lastModifiedBy>DRA. ANGELA REYES</cp:lastModifiedBy>
  <dcterms:modified xsi:type="dcterms:W3CDTF">2011-01-08T01:21:16Z</dcterms:modified>
  <cp:revision>10</cp:revision>
  <dc:subject/>
  <dc:title>EL JARDIN</dc:title>
</cp:coreProperties>
</file>