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99D-F936-43B7-943B-5C1FBC6D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7B7-CCD1-431A-8598-B7583337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F98-712D-41BC-9920-1075E520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9B9-788E-4D80-845F-60F44492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57D-780E-41C5-A09A-915AB483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73E-8A11-4224-86A4-CFA40C28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14F-6C4C-418E-B861-3FAA6A34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09A-0526-4232-80F9-F480715A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8A7-6CF8-4334-A761-F68E0CC7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CB6-C206-45D5-ABE5-3C2AEF47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19C-4C4D-46AE-A862-CA6CBC85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2BF-0153-4957-9577-F9A4635C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ED30-A886-44AA-A6E0-C95BAB927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268280"/>
            <a:ext cx="748800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 I S I Ó N   IMPOS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4360" y="1268280"/>
            <a:ext cx="748800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 I S I Ó N   IMPOSIBLE  - 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3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4360" y="1268280"/>
            <a:ext cx="748800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 I S I Ó N   IMPOSIBLE  -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4360" y="1268280"/>
            <a:ext cx="748800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 I S I Ó N   IMPOSIBLE  - I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9:40:54Z</dcterms:created>
  <dc:creator>.</dc:creator>
  <dc:description/>
  <dc:language>en-US</dc:language>
  <cp:lastModifiedBy>.</cp:lastModifiedBy>
  <dcterms:modified xsi:type="dcterms:W3CDTF">2006-06-07T19:43:19Z</dcterms:modified>
  <cp:revision>2</cp:revision>
  <dc:subject/>
  <dc:title>Diapositiva 1</dc:title>
</cp:coreProperties>
</file>