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F4C-73A0-4CF7-BD82-99FB105F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0A4-BFF2-44C3-AA27-C9D49B3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59F-D43D-4901-B347-EB95017F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A3F-599E-4228-A13D-98C8DB30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1D2-0F0B-42BC-9971-6ACEC13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21A-446C-4473-A7C9-A4767D5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A1F-702C-4CE1-9D3D-57B176BC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AA6-BABD-4592-BFEC-3711A79C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19C-B3A6-43C5-B1C6-3B9F85F9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BBE-E7F9-409B-945F-5EF46F5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1C3-EA16-4F03-B2E5-16BAD72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1F9-FCEA-41A1-9DE8-F917D5A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9F08-4F12-4FDB-AF88-9B1CFF18A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3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4360" y="1268280"/>
            <a:ext cx="7488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 I S I Ó N   IMPOSIBLE  - 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9:40:54Z</dcterms:created>
  <dc:creator>.</dc:creator>
  <dc:description/>
  <dc:language>en-US</dc:language>
  <cp:lastModifiedBy>.</cp:lastModifiedBy>
  <dcterms:modified xsi:type="dcterms:W3CDTF">2006-06-07T19:43:19Z</dcterms:modified>
  <cp:revision>2</cp:revision>
  <dc:subject/>
  <dc:title>Diapositiva 1</dc:title>
</cp:coreProperties>
</file>