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737_LAND.WAV" ContentType="audio/x-wav"/>
  <Override PartName="/ppt/media/image31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2.jpeg" ContentType="image/jpeg"/>
  <Override PartName="/ppt/media/Theme-AustinPowers.wav" ContentType="audio/x-wav"/>
  <Override PartName="/ppt/media/image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43.jpeg" ContentType="image/jpeg"/>
  <Override PartName="/ppt/media/image29.jpeg" ContentType="image/jpeg"/>
  <Override PartName="/ppt/media/image10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camera.wav" ContentType="audio/x-wav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47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2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F62E-0CA5-434A-9B54-FA781C41C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A77F-675F-4BA2-8359-49D0A3075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0627-FFD0-4A27-8D42-117D70895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8CE9-4531-4584-9B9C-369ACB90D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7281-47C3-450B-A822-110AF9EC6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15FB-0BB7-44DD-B842-ADC259A00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FD61-89BB-4DD0-BF94-C121502E7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8F62-23ED-4ADC-B445-8286D9D81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2638-09B0-48D6-A0DB-29C345BAB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24C8-B14E-4181-A311-B15727485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E9AD-86B6-40C4-8752-F7733B69E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E31D-AF95-45A5-BF83-4193AC138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782F3-242F-4FCE-8D37-1B1E791F3A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737_LAND.WAV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737_LAND.WAV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audio" Target="../media/Theme-AustinPowers.wav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audio" Target="../media/737_LAND.WAV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bbe0e3"/>
                </a:solidFill>
                <a:latin typeface="Arial"/>
              </a:rPr>
              <a:t>AIRBUS</a:t>
            </a:r>
            <a:r>
              <a:rPr b="1" lang="fr-FR" sz="54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1" lang="fr-FR" sz="4400" spc="-1" strike="noStrike">
                <a:solidFill>
                  <a:srgbClr val="0033cc"/>
                </a:solidFill>
                <a:latin typeface="Arial"/>
              </a:rPr>
              <a:t>A38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ff"/>
                </a:solidFill>
                <a:latin typeface="Arial"/>
              </a:rPr>
              <a:t>Je l’ai testé pour v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843280" y="3284640"/>
            <a:ext cx="3475080" cy="2241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0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2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3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385920"/>
            <a:ext cx="9144000" cy="608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385920"/>
            <a:ext cx="9144000" cy="608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385920"/>
            <a:ext cx="9144000" cy="608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120600"/>
            <a:ext cx="9144000" cy="661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28440"/>
            <a:ext cx="9144000" cy="680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92040"/>
            <a:ext cx="9144000" cy="607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385920"/>
            <a:ext cx="9144000" cy="608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371520"/>
            <a:ext cx="9144000" cy="611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385920"/>
            <a:ext cx="9144000" cy="608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379440"/>
            <a:ext cx="9144000" cy="609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-468360" y="866880"/>
            <a:ext cx="10080720" cy="59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-41400" y="622440"/>
            <a:ext cx="9185400" cy="491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4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17640"/>
            <a:ext cx="9144000" cy="682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bbe0e3"/>
                </a:solidFill>
                <a:latin typeface="Engravers MT"/>
              </a:rPr>
              <a:t>Première class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708000" y="5805000"/>
            <a:ext cx="49784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1469880"/>
            <a:ext cx="9144000" cy="391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28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bbe0e3"/>
                </a:solidFill>
                <a:latin typeface="Engravers MT"/>
              </a:rPr>
              <a:t>Deuxième class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635280" y="5157720"/>
            <a:ext cx="50515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187280" y="133200"/>
            <a:ext cx="6769440" cy="659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219240"/>
            <a:ext cx="9144000" cy="641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95280" y="263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bbe0e3"/>
                </a:solidFill>
                <a:latin typeface="Engravers MT"/>
              </a:rPr>
              <a:t>A bientô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443280" y="6237360"/>
            <a:ext cx="23036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00"/>
                </a:solidFill>
                <a:latin typeface="Arial"/>
              </a:rPr>
              <a:t>Update :  TangSanh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30320" y="152280"/>
            <a:ext cx="8883360" cy="655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84120"/>
            <a:ext cx="9144000" cy="608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604880" y="-531720"/>
            <a:ext cx="5934240" cy="792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378000"/>
            <a:ext cx="9144000" cy="6102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2T16:35:48Z</dcterms:created>
  <dc:creator>A.jim</dc:creator>
  <dc:description/>
  <dc:language>en-US</dc:language>
  <cp:lastModifiedBy>Papa</cp:lastModifiedBy>
  <dcterms:modified xsi:type="dcterms:W3CDTF">2007-11-07T19:56:46Z</dcterms:modified>
  <cp:revision>16</cp:revision>
  <dc:subject/>
  <dc:title>Diapositive 1</dc:title>
</cp:coreProperties>
</file>