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737_LAND.WAV" ContentType="audio/x-wav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2.jpeg" ContentType="image/jpeg"/>
  <Override PartName="/ppt/media/Theme-AustinPowers.wav" ContentType="audio/x-wav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camera.wav" ContentType="audio/x-wav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857-0FA9-4424-A4A0-C23813AD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625-1E15-44EF-92ED-D3D37F43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C12-22C1-4C5A-8EE5-32656DF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AD3-471E-450E-A88C-A6EEAE29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CD9-2B12-46D2-AC6F-D0428FCC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1DC-2A02-4E32-A236-7CB3AA11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D2A-1BEA-40BE-8A8D-1BE8DCFF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0EE-7ED0-4D4E-85B6-98C2B28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E7C-BCE6-40CE-B8C3-74A7E052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A75-0B15-47AD-8C4C-9963D3A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FE3-F006-47EF-85CC-E4E743F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793-9011-4216-AEF1-8A8352F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B359-DB56-47DF-8B7B-B695D1ED3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737_LAND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737_LAND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heme-AustinPowers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737_LAND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bbe0e3"/>
                </a:solidFill>
                <a:latin typeface="Arial"/>
              </a:rPr>
              <a:t>AIRBUS</a:t>
            </a:r>
            <a:r>
              <a:rPr b="1" lang="fr-FR" sz="5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33cc"/>
                </a:solidFill>
                <a:latin typeface="Arial"/>
              </a:rPr>
              <a:t>A3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Je l’ai testé pour 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475080" cy="22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468360" y="866880"/>
            <a:ext cx="1008072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1400" y="622440"/>
            <a:ext cx="918540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Engravers MT"/>
              </a:rPr>
              <a:t>Première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08000" y="5805000"/>
            <a:ext cx="4978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69880"/>
            <a:ext cx="9144000" cy="39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Engravers MT"/>
              </a:rPr>
              <a:t>Deuxième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35280" y="5157720"/>
            <a:ext cx="50515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659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be0e3"/>
                </a:solidFill>
                <a:latin typeface="Engravers MT"/>
              </a:rPr>
              <a:t>A bientô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43280" y="6237360"/>
            <a:ext cx="2303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Update :  TangSan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4880" y="-531720"/>
            <a:ext cx="5934240" cy="79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35:48Z</dcterms:created>
  <dc:creator>A.jim</dc:creator>
  <dc:description/>
  <dc:language>en-US</dc:language>
  <cp:lastModifiedBy>Papa</cp:lastModifiedBy>
  <dcterms:modified xsi:type="dcterms:W3CDTF">2007-11-07T19:56:46Z</dcterms:modified>
  <cp:revision>16</cp:revision>
  <dc:subject/>
  <dc:title>Diapositive 1</dc:title>
</cp:coreProperties>
</file>