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ArtPopular-TaDoendoDemaisEssaSaudade.wav" ContentType="audio/x-wav"/>
  <Override PartName="/ppt/media/image5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E7C-755B-4709-8903-6430B590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02D-ED31-4C0B-9FCD-33FEB467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E43-5870-4897-8AEA-371FD639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488-09E1-44BD-A6E1-5C20EA5A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7FE-280A-41F5-92F0-2FCD20DD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F494-F426-4EDE-ADF9-76CC4D03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1633-7F21-43C0-8933-E8CA6190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C8A-88C9-4891-88C2-FD518759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DBC-077C-4D43-9022-8B10ADE4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3709-7DE6-41D5-B35C-176699BA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1592-735F-4131-BCFD-0D76ABE6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7755-6086-42FC-A164-07B52B83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3423-7DF2-4572-8918-D66CA31538E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rtPopular-TaDoendoDemaisEssaSaudad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点击查看下一张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2"/>
          <a:stretch/>
        </p:blipFill>
        <p:spPr>
          <a:xfrm>
            <a:off x="-268200" y="-298440"/>
            <a:ext cx="6718320" cy="1792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ArtPopular-TaDoendoDemaisEssaSauda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350"/>
                            </p:stCondLst>
                            <p:childTnLst>
                              <p:par>
                                <p:cTn id="11" nodeType="afterEffect" fill="hold" presetClass="exit" presetID="55" repeatCount="100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点击查看下一张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-104760" y="128520"/>
            <a:ext cx="93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Baskerville Old Face"/>
              </a:rPr>
              <a:t>¡Un amor sin beso, es como un macarrón sin queso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点击查看下一张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0" y="4292640"/>
            <a:ext cx="643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Lo malo de ser puntual, es que llega uno a un lugar y no hay nadie allí para apreciar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179280" y="4694040"/>
            <a:ext cx="2210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Si no puedes convencerlos, confúnde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点击查看下一张"/>
          <p:cNvPicPr/>
          <p:nvPr/>
        </p:nvPicPr>
        <p:blipFill>
          <a:blip r:embed="rId1"/>
          <a:stretch/>
        </p:blipFill>
        <p:spPr>
          <a:xfrm>
            <a:off x="34920" y="-1908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5076720" y="55234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80"/>
                </a:solidFill>
                <a:latin typeface="Baskerville Old Face"/>
              </a:rPr>
              <a:t>Si sientes un gran vacío, ingiere algo, es hamb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609480" y="-7164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ff"/>
                </a:solidFill>
                <a:latin typeface="Baskerville Old Face"/>
              </a:rPr>
              <a:t>Comienza tu día con una sonrisa y verás lo divertido que es ir por ahí desentonando con todo el mun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点击查看下一张"/>
          <p:cNvPicPr/>
          <p:nvPr/>
        </p:nvPicPr>
        <p:blipFill>
          <a:blip r:embed="rId1"/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1763640" y="-20880"/>
            <a:ext cx="54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e4649"/>
                </a:solidFill>
                <a:latin typeface="Baskerville Old Face"/>
              </a:rPr>
              <a:t>Si el amor es ciego ¿ por qué tiene tanto éxito la ropa interior sex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1979640" y="5523480"/>
            <a:ext cx="51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Bienaventurados los borrachos, porque ellos verán a Dios 2 ve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826920" y="-21168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24b50"/>
                </a:solidFill>
                <a:latin typeface="Baskerville Old Face"/>
              </a:rPr>
              <a:t>No soy un completo inútil: sirvo de mal ejemp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点击查看下一张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138600" y="189720"/>
            <a:ext cx="89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Baskerville Old Face"/>
              </a:rPr>
              <a:t>Si la montaña viene a ti, ¡ corre, es un derrumb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3746520" y="189720"/>
            <a:ext cx="58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</a:rPr>
              <a:t>El tiempo sin ‘ti’ es sólo "..empo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点击查看下一张"/>
          <p:cNvPicPr/>
          <p:nvPr/>
        </p:nvPicPr>
        <p:blipFill>
          <a:blip r:embed="rId1"/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1243080" y="-20880"/>
            <a:ext cx="656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Cásate con un arqueólogo. Cuanto más vieja te hagas, más encantadora te encontrará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点击查看下一张"/>
          <p:cNvPicPr/>
          <p:nvPr/>
        </p:nvPicPr>
        <p:blipFill>
          <a:blip r:embed="rId1"/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-434160" y="117360"/>
            <a:ext cx="99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</a:rPr>
              <a:t>No hay opiniones estúpidas, sólo estúpidos que opin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点击查看下一张"/>
          <p:cNvPicPr/>
          <p:nvPr/>
        </p:nvPicPr>
        <p:blipFill>
          <a:blip r:embed="rId1"/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160200" y="1639440"/>
            <a:ext cx="340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</a:rPr>
              <a:t>Dime con quién sueñas y te diré con quién no te acuestas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点击查看下一张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2100240" y="207720"/>
            <a:ext cx="77076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askerville Old Face"/>
              </a:rPr>
              <a:t>Mi cerebro es mi segundo órgano favorito.</a:t>
            </a:r>
            <a:br>
              <a:rPr sz="2800"/>
            </a:br>
            <a:r>
              <a:rPr b="1" i="1" lang="es-ES" sz="2600" spc="-1" strike="noStrike">
                <a:solidFill>
                  <a:srgbClr val="000000"/>
                </a:solidFill>
                <a:latin typeface="Baskerville Old Face"/>
              </a:rPr>
              <a:t>(Woody Allen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bandera%20001"/>
          <p:cNvPicPr/>
          <p:nvPr/>
        </p:nvPicPr>
        <p:blipFill>
          <a:blip r:embed="rId2"/>
          <a:stretch/>
        </p:blipFill>
        <p:spPr>
          <a:xfrm>
            <a:off x="7238880" y="6324480"/>
            <a:ext cx="158436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CasellaDiTesto 5" descr=""/>
          <p:cNvPicPr/>
          <p:nvPr/>
        </p:nvPicPr>
        <p:blipFill>
          <a:blip r:embed="rId3"/>
          <a:stretch/>
        </p:blipFill>
        <p:spPr>
          <a:xfrm>
            <a:off x="7388280" y="5705640"/>
            <a:ext cx="1596960" cy="750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1150920" y="-93960"/>
            <a:ext cx="68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El matrimonio es como las libretas de ahorro: de tanto meter y sacar, se pierde el interés.</a:t>
            </a:r>
            <a:r>
              <a:rPr b="1" lang="es-ES" sz="2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点击查看下一张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71280" y="-111240"/>
            <a:ext cx="59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Baskerville Old Face"/>
              </a:rPr>
              <a:t>Hay dos palabras que te abrirán muchas puertas en la vida: "tirar" y "empujar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点击查看下一张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1042920" y="-93960"/>
            <a:ext cx="705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La mayor frustración, es cuando uno sabe todas las respuestas, pero nadie le hace la pregun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点击查看下一张"/>
          <p:cNvPicPr/>
          <p:nvPr/>
        </p:nvPicPr>
        <p:blipFill>
          <a:blip r:embed="rId1"/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260280"/>
            <a:ext cx="63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askerville Old Face"/>
              </a:rPr>
              <a:t>La pereza es la madre de todos los vicios. Y como madre... hay que respeta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2484360" y="4209840"/>
            <a:ext cx="4554720" cy="1373760"/>
          </a:xfrm>
          <a:prstGeom prst="rect">
            <a:avLst/>
          </a:prstGeom>
          <a:solidFill>
            <a:srgbClr val="ffc000"/>
          </a:solidFill>
          <a:ln w="9360">
            <a:solidFill>
              <a:srgbClr val="ffb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Baskerville Old Face"/>
              </a:rPr>
              <a:t>He oído hablar tan bien de ti, que creía que estabas muer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792000" y="-134280"/>
            <a:ext cx="756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ff"/>
                </a:solidFill>
                <a:latin typeface="Baskerville Old Face"/>
              </a:rPr>
              <a:t>Las chicas "perdidas"... son las más busc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108000" y="135216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5a9e"/>
                </a:solidFill>
                <a:latin typeface="Baskerville Old Face"/>
              </a:rPr>
              <a:t>Si  aún no has encontrado la persona de tu vida... ¡disfruta con la que tienes a ma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09:42:17Z</dcterms:created>
  <dc:creator>XP</dc:creator>
  <dc:description/>
  <dc:language>en-US</dc:language>
  <cp:lastModifiedBy> </cp:lastModifiedBy>
  <dcterms:modified xsi:type="dcterms:W3CDTF">2012-06-20T18:36:42Z</dcterms:modified>
  <cp:revision>9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